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718-B971-4EB7-B891-00D29051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DC9-B74C-41B8-B671-FA117E6A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D89A-2BAC-4891-94EF-258C2B79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2CE-10B6-4F02-9D0C-204A93A3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3A2E-F5BD-4655-87AF-7814D088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A06B-156A-4EF2-B3E9-E2B42A0C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18F1-CF0E-4617-8DB2-980A4948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626B-C9F1-4A82-BCE9-DE7D9493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ACF0-C507-4958-B670-E65CDA80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4299-34AC-4B12-9FA0-D18B261C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FAFB-09EB-4ABA-8671-6491D250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7D4-7BC2-4EAD-B8A9-6680611A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ED6B-FEA9-485C-AEE9-730EA229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65D2-C73D-4DE7-BC8C-D46B20C8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B0C2-3B4A-44BA-8ECB-7CA3939B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95D2-907C-417D-95A4-B5767CB9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BA78-71A4-4040-AE01-54599910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E1EDE-11E3-4234-A2CE-E87A39FD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0CE2D-A362-4CB0-87EF-37C7CCF5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2548F-5DD6-4BB0-9A9B-FFE15A2A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59839-395E-43B2-A30B-809698FE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5B098-1BAA-4AF5-9483-9A1D736F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47C-AFBB-4621-A2CB-C5C82599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FDA26-87F1-4B15-9552-AA43615A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02AB9-247C-4F72-844F-CFA2267B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C3B80-939A-4652-B7B1-71D2CBEE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02976-F378-4EA4-B4BE-AE982547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61A05-AA85-4BCE-851F-B987FC98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07321-1E46-45C0-A596-F6B86CFF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A88FE-099A-4D50-B7E8-B1853B9F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EDA9C-5EE4-4406-9C55-D9B9E02C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99BEB-C60F-42F1-A595-7B017BB1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C711E-B7CF-476A-9624-5D12EA0C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4B2-1BEC-4EAB-84D0-70A76CBF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9DFB0-D866-40C7-A18D-BCD338D8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FAEE4-052A-4BF5-BD87-C31C3E2F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A9092-BD46-44E2-A05E-B8B49754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7B97C-9A50-4232-92C0-BBB8AF23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1A0EA-EA0D-4FC0-980D-D9C640D6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21E90-0C01-4FC1-907A-03B72800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D21F5-E34A-4DA4-8262-0FF596FD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06BB2-2359-454E-9896-85C26456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19924-50F3-4CF4-A860-79F512C6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36E74-17A1-435F-9365-8435C113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C6A-AFBD-44F8-8896-6F7AAC62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032EF-A443-4C09-A321-7EA95483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A6F5A-26BD-40BC-A2BF-CBF6015A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77632-28CF-4DB3-812D-655D6B70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B510D-56A9-4CBC-9538-D457EBC4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5C6AA-A2CF-42E1-A449-89398B73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2D599-DB8F-4F2C-BC1B-69B9B609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F8789-9587-45F3-8CE6-EF83CF59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ABA9B-B97A-4622-A558-ADBBED32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935F2-3292-4BBB-8DCD-C81C7646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4F741-474E-4479-AA95-19FF059D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585-911A-4D51-A3DE-04B97DEC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67B56-390F-44D9-9A69-1D3C49B7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73926-1332-4868-A9A1-353EEB7F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BFF4B-9A76-4DEB-B77A-DB1B031B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86C6A-ABC7-46CE-B6E4-6ECD9CE4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C1DFE-9C4F-4D29-914A-82699FA4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76DEB-453D-4626-B636-21F5076C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6C020-0DAD-49BA-9319-9CED72AE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304D9-ADB8-4D55-BCE3-9C010F74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2EC9D-8960-461B-80C6-B9B8513A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5E5D5-30D6-4CC5-A245-074E6A4D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7627-5F70-4B94-AA45-29583472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A25EC-3BC9-41A4-B29B-5281CB44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D7507-EB0C-427E-8D46-3B8C6609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D3F8F-A78A-4393-93DE-9C2BF999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D5522-9C1B-4E3E-B394-66E5AEEF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69979-FF85-4DA0-A580-8BE6A1B0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3FEC5-D8B8-44D2-BD7C-B3194F88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5D614-D651-4897-BCF1-16DC1D44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D2D6A-C4B6-462C-BD6A-5DD6E468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95F33-E003-486E-9F35-398C50CD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33A5D-EF71-4A07-BE24-CB52E5B7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FF0-9FCD-4A64-9B11-5EF2A18E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972EB-211E-4903-90ED-6BB96C2C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9EAA1-581D-464B-855C-8269638C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B3960-6419-45FF-9E4F-4922948C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AF6EC-ABA7-4973-9212-2F026D8E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92941-8C2C-42D3-B005-557F25A1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067-6799-4393-BD78-38CD8DA5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8268-A1A6-45C3-9A4B-210C99D8B80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13E9-7F33-4154-9545-F75B38463135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15DD-246D-4289-AFD9-F1C0742466A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5E7F-9828-4B3D-849E-9D69A9E92452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F878-10A2-453B-BE0B-E13A5DD8854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CD47-E185-4372-BB28-58EC25A239A7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6521-6955-4641-B74D-0A4C50C62F4C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61440" cy="159732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 number is written in base b notation ,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(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 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-2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…,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ff each digit 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is a particular integer from 0 through b – 1, and the value of the number i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+ 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+…+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+ 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"/>
          <p:cNvGraphicFramePr/>
          <p:nvPr/>
        </p:nvGraphicFramePr>
        <p:xfrm>
          <a:off x="0" y="1600200"/>
          <a:ext cx="4191120" cy="4937040"/>
        </p:xfrm>
        <a:graphic>
          <a:graphicData uri="http://schemas.openxmlformats.org/drawingml/2006/table">
            <a:tbl>
              <a:tblPr/>
              <a:tblGrid>
                <a:gridCol w="1092240"/>
                <a:gridCol w="1090440"/>
                <a:gridCol w="2008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teg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xadecim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4267080" y="1676520"/>
          <a:ext cx="4648320" cy="4479840"/>
        </p:xfrm>
        <a:graphic>
          <a:graphicData uri="http://schemas.openxmlformats.org/drawingml/2006/table">
            <a:tbl>
              <a:tblPr/>
              <a:tblGrid>
                <a:gridCol w="1233720"/>
                <a:gridCol w="1233360"/>
                <a:gridCol w="2181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teg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xadecim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1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0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0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rite 3D7B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16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in base 1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(16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+ 13(16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+7(16) + 11(1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2288+ 3328+ 112+ 11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5739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rite 4387 in base 6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387 ÷ 6 = 731 r. 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731÷ 6 = 121  r. 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21÷ 6 = 20 r. 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0 ÷ 6 = 3 r. 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 ÷ 6 = 0 r. 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o, 32,15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erform the base 2 addition below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   0    0   1   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+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   1    0   0   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Straight Connector 4"/>
          <p:cNvSpPr/>
          <p:nvPr/>
        </p:nvSpPr>
        <p:spPr>
          <a:xfrm>
            <a:off x="1066680" y="4648320"/>
            <a:ext cx="3276720" cy="1440"/>
          </a:xfrm>
          <a:prstGeom prst="line">
            <a:avLst/>
          </a:prstGeom>
          <a:ln w="572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7"/>
          <p:cNvSpPr/>
          <p:nvPr/>
        </p:nvSpPr>
        <p:spPr>
          <a:xfrm>
            <a:off x="358128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9"/>
          <p:cNvSpPr/>
          <p:nvPr/>
        </p:nvSpPr>
        <p:spPr>
          <a:xfrm>
            <a:off x="304812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11"/>
          <p:cNvSpPr/>
          <p:nvPr/>
        </p:nvSpPr>
        <p:spPr>
          <a:xfrm>
            <a:off x="259092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12"/>
          <p:cNvSpPr/>
          <p:nvPr/>
        </p:nvSpPr>
        <p:spPr>
          <a:xfrm>
            <a:off x="190512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13"/>
          <p:cNvSpPr/>
          <p:nvPr/>
        </p:nvSpPr>
        <p:spPr>
          <a:xfrm>
            <a:off x="129528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14"/>
          <p:cNvSpPr/>
          <p:nvPr/>
        </p:nvSpPr>
        <p:spPr>
          <a:xfrm>
            <a:off x="838080" y="2438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99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15"/>
          <p:cNvSpPr/>
          <p:nvPr/>
        </p:nvSpPr>
        <p:spPr>
          <a:xfrm>
            <a:off x="76212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31840" y="201600"/>
            <a:ext cx="8461440" cy="146844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3"/>
          <p:cNvGrpSpPr/>
          <p:nvPr/>
        </p:nvGrpSpPr>
        <p:grpSpPr>
          <a:xfrm>
            <a:off x="1981080" y="4062600"/>
            <a:ext cx="1905120" cy="1615680"/>
            <a:chOff x="1981080" y="4062600"/>
            <a:chExt cx="1905120" cy="1615680"/>
          </a:xfrm>
        </p:grpSpPr>
        <p:grpSp>
          <p:nvGrpSpPr>
            <p:cNvPr id="324" name="Group 11"/>
            <p:cNvGrpSpPr/>
            <p:nvPr/>
          </p:nvGrpSpPr>
          <p:grpSpPr>
            <a:xfrm>
              <a:off x="2209320" y="4062600"/>
              <a:ext cx="1676880" cy="1615680"/>
              <a:chOff x="2209320" y="4062600"/>
              <a:chExt cx="1676880" cy="1615680"/>
            </a:xfrm>
          </p:grpSpPr>
          <p:sp>
            <p:nvSpPr>
              <p:cNvPr id="325" name="Chord 7"/>
              <p:cNvSpPr/>
              <p:nvPr/>
            </p:nvSpPr>
            <p:spPr>
              <a:xfrm rot="12133200">
                <a:off x="2388240" y="4267080"/>
                <a:ext cx="1318320" cy="120672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TextBox 8"/>
              <p:cNvSpPr/>
              <p:nvPr/>
            </p:nvSpPr>
            <p:spPr>
              <a:xfrm>
                <a:off x="2899800" y="47138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Straight Connector 5"/>
            <p:cNvSpPr/>
            <p:nvPr/>
          </p:nvSpPr>
          <p:spPr>
            <a:xfrm>
              <a:off x="2285640" y="4560840"/>
              <a:ext cx="53352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Straight Connector 6"/>
            <p:cNvSpPr/>
            <p:nvPr/>
          </p:nvSpPr>
          <p:spPr>
            <a:xfrm flipV="1">
              <a:off x="1981080" y="5019840"/>
              <a:ext cx="838440" cy="936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Group 9"/>
          <p:cNvGrpSpPr/>
          <p:nvPr/>
        </p:nvGrpSpPr>
        <p:grpSpPr>
          <a:xfrm>
            <a:off x="2362320" y="2362320"/>
            <a:ext cx="1673280" cy="1060200"/>
            <a:chOff x="2362320" y="2362320"/>
            <a:chExt cx="1673280" cy="1060200"/>
          </a:xfrm>
        </p:grpSpPr>
        <p:grpSp>
          <p:nvGrpSpPr>
            <p:cNvPr id="330" name="Group 13"/>
            <p:cNvGrpSpPr/>
            <p:nvPr/>
          </p:nvGrpSpPr>
          <p:grpSpPr>
            <a:xfrm>
              <a:off x="2743200" y="2362320"/>
              <a:ext cx="1292400" cy="1060200"/>
              <a:chOff x="2743200" y="2362320"/>
              <a:chExt cx="1292400" cy="1060200"/>
            </a:xfrm>
          </p:grpSpPr>
          <p:sp>
            <p:nvSpPr>
              <p:cNvPr id="331" name="Freeform 8"/>
              <p:cNvSpPr/>
              <p:nvPr/>
            </p:nvSpPr>
            <p:spPr>
              <a:xfrm rot="5400000">
                <a:off x="2859120" y="2246040"/>
                <a:ext cx="1060200" cy="129240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TextBox 14"/>
              <p:cNvSpPr/>
              <p:nvPr/>
            </p:nvSpPr>
            <p:spPr>
              <a:xfrm>
                <a:off x="2979000" y="27432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Straight Connector 11"/>
            <p:cNvSpPr/>
            <p:nvPr/>
          </p:nvSpPr>
          <p:spPr>
            <a:xfrm>
              <a:off x="2362320" y="266688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Straight Connector 12"/>
            <p:cNvSpPr/>
            <p:nvPr/>
          </p:nvSpPr>
          <p:spPr>
            <a:xfrm>
              <a:off x="2362320" y="312408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5"/>
          <p:cNvGrpSpPr/>
          <p:nvPr/>
        </p:nvGrpSpPr>
        <p:grpSpPr>
          <a:xfrm>
            <a:off x="3733920" y="4267080"/>
            <a:ext cx="1676160" cy="1060560"/>
            <a:chOff x="3733920" y="4267080"/>
            <a:chExt cx="1676160" cy="1060560"/>
          </a:xfrm>
        </p:grpSpPr>
        <p:grpSp>
          <p:nvGrpSpPr>
            <p:cNvPr id="336" name="Group 15"/>
            <p:cNvGrpSpPr/>
            <p:nvPr/>
          </p:nvGrpSpPr>
          <p:grpSpPr>
            <a:xfrm>
              <a:off x="4191120" y="4267080"/>
              <a:ext cx="1218960" cy="1060560"/>
              <a:chOff x="4191120" y="4267080"/>
              <a:chExt cx="1218960" cy="1060560"/>
            </a:xfrm>
          </p:grpSpPr>
          <p:pic>
            <p:nvPicPr>
              <p:cNvPr id="337" name="Group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191120" y="4267080"/>
                <a:ext cx="1218960" cy="106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TextBox 14"/>
              <p:cNvSpPr/>
              <p:nvPr/>
            </p:nvSpPr>
            <p:spPr>
              <a:xfrm>
                <a:off x="4276080" y="465300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9" name="Straight Connector 17"/>
            <p:cNvSpPr/>
            <p:nvPr/>
          </p:nvSpPr>
          <p:spPr>
            <a:xfrm>
              <a:off x="3733920" y="487692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TextBox 23"/>
          <p:cNvSpPr/>
          <p:nvPr/>
        </p:nvSpPr>
        <p:spPr>
          <a:xfrm>
            <a:off x="1374120" y="243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Box 24"/>
          <p:cNvSpPr/>
          <p:nvPr/>
        </p:nvSpPr>
        <p:spPr>
          <a:xfrm>
            <a:off x="152640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Group 25"/>
          <p:cNvGrpSpPr/>
          <p:nvPr/>
        </p:nvGrpSpPr>
        <p:grpSpPr>
          <a:xfrm>
            <a:off x="5562000" y="2233800"/>
            <a:ext cx="1676880" cy="1615680"/>
            <a:chOff x="5562000" y="2233800"/>
            <a:chExt cx="1676880" cy="1615680"/>
          </a:xfrm>
        </p:grpSpPr>
        <p:grpSp>
          <p:nvGrpSpPr>
            <p:cNvPr id="343" name="Group 11"/>
            <p:cNvGrpSpPr/>
            <p:nvPr/>
          </p:nvGrpSpPr>
          <p:grpSpPr>
            <a:xfrm>
              <a:off x="5562000" y="2233800"/>
              <a:ext cx="1676880" cy="1615680"/>
              <a:chOff x="5562000" y="2233800"/>
              <a:chExt cx="1676880" cy="1615680"/>
            </a:xfrm>
          </p:grpSpPr>
          <p:sp>
            <p:nvSpPr>
              <p:cNvPr id="344" name="Chord 29"/>
              <p:cNvSpPr/>
              <p:nvPr/>
            </p:nvSpPr>
            <p:spPr>
              <a:xfrm rot="12133200">
                <a:off x="5740920" y="2438280"/>
                <a:ext cx="1318320" cy="120672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TextBox 30"/>
              <p:cNvSpPr/>
              <p:nvPr/>
            </p:nvSpPr>
            <p:spPr>
              <a:xfrm>
                <a:off x="6252480" y="28850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Straight Connector 27"/>
            <p:cNvSpPr/>
            <p:nvPr/>
          </p:nvSpPr>
          <p:spPr>
            <a:xfrm>
              <a:off x="5638680" y="2732040"/>
              <a:ext cx="53352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Straight Connector 28"/>
            <p:cNvSpPr/>
            <p:nvPr/>
          </p:nvSpPr>
          <p:spPr>
            <a:xfrm>
              <a:off x="5638680" y="3189240"/>
              <a:ext cx="53352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Straight Connector 32"/>
          <p:cNvSpPr/>
          <p:nvPr/>
        </p:nvSpPr>
        <p:spPr>
          <a:xfrm flipV="1">
            <a:off x="1743120" y="2666520"/>
            <a:ext cx="100008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9" name="Shape 36"/>
          <p:cNvCxnSpPr>
            <a:stCxn id="340" idx="1"/>
          </p:cNvCxnSpPr>
          <p:nvPr/>
        </p:nvCxnSpPr>
        <p:spPr>
          <a:xfrm flipH="1" flipV="1" rot="10800000">
            <a:off x="1370520" y="2667600"/>
            <a:ext cx="610200" cy="2361240"/>
          </a:xfrm>
          <a:prstGeom prst="bentConnector4">
            <a:avLst>
              <a:gd name="adj1" fmla="val -37485"/>
              <a:gd name="adj2" fmla="val 54879"/>
            </a:avLst>
          </a:prstGeom>
          <a:ln w="9360">
            <a:solidFill>
              <a:srgbClr val="ff2489"/>
            </a:solidFill>
            <a:miter/>
          </a:ln>
        </p:spPr>
      </p:cxnSp>
      <p:sp>
        <p:nvSpPr>
          <p:cNvPr id="350" name="Straight Connector 39"/>
          <p:cNvSpPr/>
          <p:nvPr/>
        </p:nvSpPr>
        <p:spPr>
          <a:xfrm flipV="1">
            <a:off x="1828800" y="3123720"/>
            <a:ext cx="100008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Shape 41"/>
          <p:cNvCxnSpPr>
            <a:stCxn id="341" idx="3"/>
          </p:cNvCxnSpPr>
          <p:nvPr/>
        </p:nvCxnSpPr>
        <p:spPr>
          <a:xfrm>
            <a:off x="1895040" y="3125520"/>
            <a:ext cx="391320" cy="1446840"/>
          </a:xfrm>
          <a:prstGeom prst="bentConnector2">
            <a:avLst/>
          </a:prstGeom>
          <a:ln w="9360">
            <a:solidFill>
              <a:srgbClr val="ff2489"/>
            </a:solidFill>
            <a:miter/>
          </a:ln>
        </p:spPr>
      </p:cxnSp>
      <p:cxnSp>
        <p:nvCxnSpPr>
          <p:cNvPr id="352" name="Shape 43"/>
          <p:cNvCxnSpPr/>
          <p:nvPr/>
        </p:nvCxnSpPr>
        <p:spPr>
          <a:xfrm flipV="1">
            <a:off x="5409720" y="3199680"/>
            <a:ext cx="229320" cy="1600920"/>
          </a:xfrm>
          <a:prstGeom prst="bentConnector2">
            <a:avLst/>
          </a:prstGeom>
          <a:ln w="9360">
            <a:solidFill>
              <a:srgbClr val="ff2489"/>
            </a:solidFill>
            <a:miter/>
          </a:ln>
        </p:spPr>
      </p:cxnSp>
      <p:cxnSp>
        <p:nvCxnSpPr>
          <p:cNvPr id="353" name="Shape 47"/>
          <p:cNvCxnSpPr>
            <a:stCxn id="331" idx="5"/>
          </p:cNvCxnSpPr>
          <p:nvPr/>
        </p:nvCxnSpPr>
        <p:spPr>
          <a:xfrm flipH="1" flipV="1" rot="5400000">
            <a:off x="5027760" y="1749240"/>
            <a:ext cx="150120" cy="2136960"/>
          </a:xfrm>
          <a:prstGeom prst="bentConnector4">
            <a:avLst>
              <a:gd name="adj1" fmla="val 1923"/>
              <a:gd name="adj2" fmla="val 47295"/>
            </a:avLst>
          </a:prstGeom>
          <a:ln w="9360">
            <a:solidFill>
              <a:srgbClr val="ff2489"/>
            </a:solidFill>
            <a:miter/>
          </a:ln>
        </p:spPr>
      </p:cxnSp>
      <p:sp>
        <p:nvSpPr>
          <p:cNvPr id="354" name="Cloud Callout 49"/>
          <p:cNvSpPr/>
          <p:nvPr/>
        </p:nvSpPr>
        <p:spPr>
          <a:xfrm>
            <a:off x="6705720" y="1523880"/>
            <a:ext cx="1447560" cy="1222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um dig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Cloud Callout 50"/>
          <p:cNvSpPr/>
          <p:nvPr/>
        </p:nvSpPr>
        <p:spPr>
          <a:xfrm>
            <a:off x="4419720" y="5635800"/>
            <a:ext cx="1447560" cy="1222200"/>
          </a:xfrm>
          <a:prstGeom prst="cloudCallout">
            <a:avLst>
              <a:gd name="adj1" fmla="val -85768"/>
              <a:gd name="adj2" fmla="val -103986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arry dig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3"/>
          <p:cNvGrpSpPr/>
          <p:nvPr/>
        </p:nvGrpSpPr>
        <p:grpSpPr>
          <a:xfrm>
            <a:off x="1905120" y="2005200"/>
            <a:ext cx="1904400" cy="1615680"/>
            <a:chOff x="1905120" y="2005200"/>
            <a:chExt cx="1904400" cy="1615680"/>
          </a:xfrm>
        </p:grpSpPr>
        <p:grpSp>
          <p:nvGrpSpPr>
            <p:cNvPr id="357" name="Group 11"/>
            <p:cNvGrpSpPr/>
            <p:nvPr/>
          </p:nvGrpSpPr>
          <p:grpSpPr>
            <a:xfrm>
              <a:off x="2133000" y="2005200"/>
              <a:ext cx="1676520" cy="1615680"/>
              <a:chOff x="2133000" y="2005200"/>
              <a:chExt cx="1676520" cy="1615680"/>
            </a:xfrm>
          </p:grpSpPr>
          <p:sp>
            <p:nvSpPr>
              <p:cNvPr id="358" name="Chord 7"/>
              <p:cNvSpPr/>
              <p:nvPr/>
            </p:nvSpPr>
            <p:spPr>
              <a:xfrm rot="12133200">
                <a:off x="2311920" y="2209680"/>
                <a:ext cx="1317960" cy="120672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Box 8"/>
              <p:cNvSpPr/>
              <p:nvPr/>
            </p:nvSpPr>
            <p:spPr>
              <a:xfrm>
                <a:off x="2823840" y="26564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Straight Connector 5"/>
            <p:cNvSpPr/>
            <p:nvPr/>
          </p:nvSpPr>
          <p:spPr>
            <a:xfrm>
              <a:off x="2209680" y="2503440"/>
              <a:ext cx="53316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Straight Connector 6"/>
            <p:cNvSpPr/>
            <p:nvPr/>
          </p:nvSpPr>
          <p:spPr>
            <a:xfrm flipV="1">
              <a:off x="1905120" y="2962440"/>
              <a:ext cx="838080" cy="936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Group 9"/>
          <p:cNvGrpSpPr/>
          <p:nvPr/>
        </p:nvGrpSpPr>
        <p:grpSpPr>
          <a:xfrm>
            <a:off x="2286000" y="304920"/>
            <a:ext cx="1673280" cy="1060200"/>
            <a:chOff x="2286000" y="304920"/>
            <a:chExt cx="1673280" cy="1060200"/>
          </a:xfrm>
        </p:grpSpPr>
        <p:grpSp>
          <p:nvGrpSpPr>
            <p:cNvPr id="363" name="Group 13"/>
            <p:cNvGrpSpPr/>
            <p:nvPr/>
          </p:nvGrpSpPr>
          <p:grpSpPr>
            <a:xfrm>
              <a:off x="2666880" y="304920"/>
              <a:ext cx="1292400" cy="1060200"/>
              <a:chOff x="2666880" y="304920"/>
              <a:chExt cx="1292400" cy="1060200"/>
            </a:xfrm>
          </p:grpSpPr>
          <p:sp>
            <p:nvSpPr>
              <p:cNvPr id="364" name="Freeform 8"/>
              <p:cNvSpPr/>
              <p:nvPr/>
            </p:nvSpPr>
            <p:spPr>
              <a:xfrm rot="5400000">
                <a:off x="2782800" y="188640"/>
                <a:ext cx="1060200" cy="129240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TextBox 14"/>
              <p:cNvSpPr/>
              <p:nvPr/>
            </p:nvSpPr>
            <p:spPr>
              <a:xfrm>
                <a:off x="2902680" y="6858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Straight Connector 11"/>
            <p:cNvSpPr/>
            <p:nvPr/>
          </p:nvSpPr>
          <p:spPr>
            <a:xfrm>
              <a:off x="2286000" y="60948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Straight Connector 12"/>
            <p:cNvSpPr/>
            <p:nvPr/>
          </p:nvSpPr>
          <p:spPr>
            <a:xfrm>
              <a:off x="2286000" y="106668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8" name="Group 15"/>
          <p:cNvGrpSpPr/>
          <p:nvPr/>
        </p:nvGrpSpPr>
        <p:grpSpPr>
          <a:xfrm>
            <a:off x="3657600" y="2209680"/>
            <a:ext cx="1676520" cy="1060560"/>
            <a:chOff x="3657600" y="2209680"/>
            <a:chExt cx="1676520" cy="1060560"/>
          </a:xfrm>
        </p:grpSpPr>
        <p:grpSp>
          <p:nvGrpSpPr>
            <p:cNvPr id="369" name="Group 15"/>
            <p:cNvGrpSpPr/>
            <p:nvPr/>
          </p:nvGrpSpPr>
          <p:grpSpPr>
            <a:xfrm>
              <a:off x="4114800" y="2209680"/>
              <a:ext cx="1219320" cy="1060560"/>
              <a:chOff x="4114800" y="2209680"/>
              <a:chExt cx="1219320" cy="1060560"/>
            </a:xfrm>
          </p:grpSpPr>
          <p:pic>
            <p:nvPicPr>
              <p:cNvPr id="370" name="Group 7" descr=""/>
              <p:cNvPicPr/>
              <p:nvPr/>
            </p:nvPicPr>
            <p:blipFill>
              <a:blip r:embed="rId1"/>
              <a:stretch/>
            </p:blipFill>
            <p:spPr>
              <a:xfrm>
                <a:off x="4114800" y="2209680"/>
                <a:ext cx="1219320" cy="106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TextBox 14"/>
              <p:cNvSpPr/>
              <p:nvPr/>
            </p:nvSpPr>
            <p:spPr>
              <a:xfrm>
                <a:off x="4202640" y="259452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2" name="Straight Connector 17"/>
            <p:cNvSpPr/>
            <p:nvPr/>
          </p:nvSpPr>
          <p:spPr>
            <a:xfrm>
              <a:off x="3657600" y="281952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TextBox 22"/>
          <p:cNvSpPr/>
          <p:nvPr/>
        </p:nvSpPr>
        <p:spPr>
          <a:xfrm>
            <a:off x="1297800" y="380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23"/>
          <p:cNvSpPr/>
          <p:nvPr/>
        </p:nvSpPr>
        <p:spPr>
          <a:xfrm>
            <a:off x="1450440" y="838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" name="Group 24"/>
          <p:cNvGrpSpPr/>
          <p:nvPr/>
        </p:nvGrpSpPr>
        <p:grpSpPr>
          <a:xfrm>
            <a:off x="5485680" y="176400"/>
            <a:ext cx="1676520" cy="1615680"/>
            <a:chOff x="5485680" y="176400"/>
            <a:chExt cx="1676520" cy="1615680"/>
          </a:xfrm>
        </p:grpSpPr>
        <p:grpSp>
          <p:nvGrpSpPr>
            <p:cNvPr id="376" name="Group 11"/>
            <p:cNvGrpSpPr/>
            <p:nvPr/>
          </p:nvGrpSpPr>
          <p:grpSpPr>
            <a:xfrm>
              <a:off x="5485680" y="176400"/>
              <a:ext cx="1676520" cy="1615680"/>
              <a:chOff x="5485680" y="176400"/>
              <a:chExt cx="1676520" cy="1615680"/>
            </a:xfrm>
          </p:grpSpPr>
          <p:sp>
            <p:nvSpPr>
              <p:cNvPr id="377" name="Chord 28"/>
              <p:cNvSpPr/>
              <p:nvPr/>
            </p:nvSpPr>
            <p:spPr>
              <a:xfrm rot="12133200">
                <a:off x="5664600" y="380880"/>
                <a:ext cx="1317960" cy="120672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TextBox 29"/>
              <p:cNvSpPr/>
              <p:nvPr/>
            </p:nvSpPr>
            <p:spPr>
              <a:xfrm>
                <a:off x="6176520" y="8276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9" name="Straight Connector 26"/>
            <p:cNvSpPr/>
            <p:nvPr/>
          </p:nvSpPr>
          <p:spPr>
            <a:xfrm>
              <a:off x="5562720" y="674640"/>
              <a:ext cx="53316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Straight Connector 27"/>
            <p:cNvSpPr/>
            <p:nvPr/>
          </p:nvSpPr>
          <p:spPr>
            <a:xfrm>
              <a:off x="5562720" y="1131840"/>
              <a:ext cx="53316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Straight Connector 30"/>
          <p:cNvSpPr/>
          <p:nvPr/>
        </p:nvSpPr>
        <p:spPr>
          <a:xfrm flipV="1">
            <a:off x="1666800" y="609120"/>
            <a:ext cx="100008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2" name="Shape 31"/>
          <p:cNvCxnSpPr>
            <a:stCxn id="373" idx="1"/>
          </p:cNvCxnSpPr>
          <p:nvPr/>
        </p:nvCxnSpPr>
        <p:spPr>
          <a:xfrm flipH="1" flipV="1" rot="10800000">
            <a:off x="1294920" y="610200"/>
            <a:ext cx="610560" cy="2361240"/>
          </a:xfrm>
          <a:prstGeom prst="bentConnector4">
            <a:avLst>
              <a:gd name="adj1" fmla="val -37463"/>
              <a:gd name="adj2" fmla="val 54879"/>
            </a:avLst>
          </a:prstGeom>
          <a:ln w="9360">
            <a:solidFill>
              <a:srgbClr val="ff2489"/>
            </a:solidFill>
            <a:miter/>
          </a:ln>
        </p:spPr>
      </p:cxnSp>
      <p:sp>
        <p:nvSpPr>
          <p:cNvPr id="383" name="Straight Connector 32"/>
          <p:cNvSpPr/>
          <p:nvPr/>
        </p:nvSpPr>
        <p:spPr>
          <a:xfrm flipV="1">
            <a:off x="1752480" y="1066320"/>
            <a:ext cx="100008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4" name="Shape 33"/>
          <p:cNvCxnSpPr>
            <a:stCxn id="374" idx="3"/>
          </p:cNvCxnSpPr>
          <p:nvPr/>
        </p:nvCxnSpPr>
        <p:spPr>
          <a:xfrm>
            <a:off x="1819440" y="1068120"/>
            <a:ext cx="390960" cy="1446840"/>
          </a:xfrm>
          <a:prstGeom prst="bentConnector2">
            <a:avLst/>
          </a:prstGeom>
          <a:ln w="9360">
            <a:solidFill>
              <a:srgbClr val="ff2489"/>
            </a:solidFill>
            <a:miter/>
          </a:ln>
        </p:spPr>
      </p:cxnSp>
      <p:cxnSp>
        <p:nvCxnSpPr>
          <p:cNvPr id="385" name="Shape 34"/>
          <p:cNvCxnSpPr/>
          <p:nvPr/>
        </p:nvCxnSpPr>
        <p:spPr>
          <a:xfrm flipV="1">
            <a:off x="5333760" y="1142280"/>
            <a:ext cx="229320" cy="1600920"/>
          </a:xfrm>
          <a:prstGeom prst="bentConnector2">
            <a:avLst/>
          </a:prstGeom>
          <a:ln w="9360">
            <a:solidFill>
              <a:srgbClr val="ff2489"/>
            </a:solidFill>
            <a:miter/>
          </a:ln>
        </p:spPr>
      </p:cxnSp>
      <p:cxnSp>
        <p:nvCxnSpPr>
          <p:cNvPr id="386" name="Shape 35"/>
          <p:cNvCxnSpPr/>
          <p:nvPr/>
        </p:nvCxnSpPr>
        <p:spPr>
          <a:xfrm flipH="1" flipV="1" rot="5400000">
            <a:off x="4951440" y="-308160"/>
            <a:ext cx="150120" cy="2136960"/>
          </a:xfrm>
          <a:prstGeom prst="bentConnector4">
            <a:avLst>
              <a:gd name="adj1" fmla="val 1923"/>
              <a:gd name="adj2" fmla="val 47295"/>
            </a:avLst>
          </a:prstGeom>
          <a:ln w="9360">
            <a:solidFill>
              <a:srgbClr val="ff2489"/>
            </a:solidFill>
            <a:miter/>
          </a:ln>
        </p:spPr>
      </p:cxnSp>
      <p:sp>
        <p:nvSpPr>
          <p:cNvPr id="387" name="Cloud Callout 37"/>
          <p:cNvSpPr/>
          <p:nvPr/>
        </p:nvSpPr>
        <p:spPr>
          <a:xfrm>
            <a:off x="6781680" y="0"/>
            <a:ext cx="1447920" cy="1222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um dig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Cloud Callout 38"/>
          <p:cNvSpPr/>
          <p:nvPr/>
        </p:nvSpPr>
        <p:spPr>
          <a:xfrm>
            <a:off x="4267080" y="3429000"/>
            <a:ext cx="1752840" cy="609480"/>
          </a:xfrm>
          <a:prstGeom prst="cloudCallout">
            <a:avLst>
              <a:gd name="adj1" fmla="val -85768"/>
              <a:gd name="adj2" fmla="val -103986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arry dig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066680" y="4343400"/>
          <a:ext cx="7543800" cy="2311560"/>
        </p:xfrm>
        <a:graphic>
          <a:graphicData uri="http://schemas.openxmlformats.org/drawingml/2006/table">
            <a:tbl>
              <a:tblPr/>
              <a:tblGrid>
                <a:gridCol w="1078200"/>
                <a:gridCol w="1077840"/>
                <a:gridCol w="1077840"/>
                <a:gridCol w="1076400"/>
                <a:gridCol w="1077840"/>
                <a:gridCol w="1077840"/>
                <a:gridCol w="107784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990720" y="4267080"/>
          <a:ext cx="7619760" cy="2397240"/>
        </p:xfrm>
        <a:graphic>
          <a:graphicData uri="http://schemas.openxmlformats.org/drawingml/2006/table">
            <a:tbl>
              <a:tblPr/>
              <a:tblGrid>
                <a:gridCol w="1089000"/>
                <a:gridCol w="1087200"/>
                <a:gridCol w="1089000"/>
                <a:gridCol w="1089360"/>
                <a:gridCol w="1089000"/>
                <a:gridCol w="1087200"/>
                <a:gridCol w="1089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^ Q (car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~ (P ^ Q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V 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PVQ) ^ ~(P^Q) (su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inal Dig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990720" y="4267080"/>
          <a:ext cx="7772400" cy="239724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520"/>
                <a:gridCol w="1111320"/>
                <a:gridCol w="1109520"/>
                <a:gridCol w="1111320"/>
                <a:gridCol w="1109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^ Q (car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~ (P ^ Q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V 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PVQ) ^ ~(P^Q) (su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inal Dig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990720" y="4267080"/>
          <a:ext cx="7772400" cy="239724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520"/>
                <a:gridCol w="1111320"/>
                <a:gridCol w="1109520"/>
                <a:gridCol w="1111320"/>
                <a:gridCol w="1109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^ Q (car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~ (P ^ Q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V 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PVQ) ^ ~(P^Q) (su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inal Dig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Pages 268 – 269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3, 6 , 8 , 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11 – 13, 18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5:39:21Z</dcterms:created>
  <dc:creator>teacher</dc:creator>
  <dc:description/>
  <dc:language>en-US</dc:language>
  <cp:lastModifiedBy>Laura Helbing</cp:lastModifiedBy>
  <dcterms:modified xsi:type="dcterms:W3CDTF">2011-12-09T14:04:16Z</dcterms:modified>
  <cp:revision>7</cp:revision>
  <dc:subject/>
  <dc:title>Polynomial Representations of Integers</dc:title>
</cp:coreProperties>
</file>