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599-66CA-43C3-9B38-B0FE6C22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13E-8479-4368-ACCC-08D899C4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FA15-B095-4B3A-9F20-0B971492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5C8-DC10-481C-A854-701AF98D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7180-5B32-4B49-A7F7-D747BEB7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31F4-5A95-4D85-B64B-186D3CBD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3563-34F4-433D-82EE-A8775BAE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CB47-B59B-403B-A289-F087EE66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CE58-4129-4A9E-BD45-95096D3B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BD73-AEE2-466F-83E7-61F675EA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4BAD-BEB8-4994-AC8C-2E56DB92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258-4341-4E39-AF1E-A03CD383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E41A-CF0E-48A5-AEE3-7FF6482D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4486-13CB-4AAF-865A-0E2A9A61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3263-3D0E-4972-BB41-D50C3CE8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151C-006F-4401-B4D8-65BF242D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8BC9-9983-4028-A34C-14001C62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06787-01F5-45B7-8EC5-32839166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F060C-AF27-4272-8CDA-204F7713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6C04D-B3A6-4D82-9C1A-0D3ECB0B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46A99-DBF3-42FC-B09F-DC765CDD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65BE9-3926-4E6E-9276-FC0F74A5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177-2019-44DD-B585-8CDC1401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984C-5A36-4F96-B8FD-6E644C99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45F00-FB8C-491F-9691-D11CA668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B70E-1B03-4231-B807-F9E7A509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6895A-6D73-4E63-BE22-BB2534B4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3421A-C4E2-4F3F-9277-EAA87A76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74015-A7A8-45C1-9939-6892A86F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3B88E-7A34-47B7-80D5-DC6F71C6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B5E52-C59B-48A8-B567-B284B06B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58317-3866-420C-932D-E7E0DFEB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75660-70FC-40A7-83AE-0307DB44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E3F-88C7-484A-9B9A-17B98B70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F873A-19A4-4F28-8265-94CBA990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0A9C3-F554-4995-B15D-F95C47AC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D817E-BAA2-479E-AA58-30AF397C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7E52B-EF94-4398-9211-1850F30D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87BE3-5036-43E4-986F-F45EFD7E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2F9CC-3BD6-4A1C-9D80-111BC535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9EA14-A654-4B94-BABF-5EF1EA8C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537EB-49EC-4DC1-A416-343FFC48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AC825-3D4B-4ECF-91E8-53C340C5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D4830-FE47-4C32-A991-CCD97667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5E3-988D-458E-AF32-7E124C13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A37E7-B547-4BA0-80FB-0FF546BD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EEBF2-8F15-44B1-A45F-ABCE4FC9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5AD92-2AF0-4640-BAD5-D4BC094B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AD7AF-4543-4A3A-A5E9-3108A6BD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85A0A-D391-45D0-8DA5-0BEA0362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84149-420C-4AC1-9AA0-6C3AF206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90549-6D79-4193-8C1C-2F4572F0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18C2D-7467-4E02-ADB3-ACA8A939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8777-D6A1-4A3E-A299-5671D09A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D1517-7C3B-4989-A212-465A10ED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053-BB8F-4FE3-8DFB-E3ECF69C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128FC-9A55-4D06-A5A4-F0136D31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ED313-1F0B-4F72-AF55-5874BFD0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5CA21-1614-4C29-8B1E-EBD8FCA3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B86DC-3B79-4647-B205-02C997A5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F673C-CB3B-454B-B869-9E52ED69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8F3A5-EEA9-48D2-883A-3F0AB2D3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2FA88-FFCC-4231-A704-35820C68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13D98-9628-457B-BE8B-1D0D765F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5096F-0BA0-4F95-9B65-45C1D41C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7FB85-912C-4EBA-B0F1-116BE38C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662-50CC-41CE-9E59-CF7FA4C1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1A862-E7B1-4104-A3D9-EBCF79F1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C2CD0-F9EF-4399-9BD3-01A6936E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B1B0D-0F73-4830-A1FE-64004F9B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84083-6660-42EC-BCEF-820DE334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93DF4-49B4-4A13-9739-8D14FE3E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D8191-2864-4F88-A327-DC8EF543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C97FB-908A-4EBD-8E27-05903408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7EF4E-5166-4704-BE25-A66A3EDC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B9CEE-7BF3-4845-B242-4BF8DB46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9DDDF-1634-4A4A-8618-B6122259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849-9A2C-4A26-B67F-FDE5AB76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E20CD-8D9B-43E4-8A1C-1BF62465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10C12-AD80-4F4D-8889-7788AB91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FEED7-A58A-43F9-86CF-16610916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ADF32-52AB-4D8E-8905-35F97A9D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056E1-5DDF-46A6-8CCF-64D3E551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BF5-68F0-44BD-AEC2-83937998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0A0E-512D-4E65-905E-85E1FD00BEA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49AF-F29B-4436-8A89-30AF46A064E2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9A64-EDFB-434F-BF26-1457FB6855F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7456-E5B9-4552-A386-47508C0C0930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2C26-4741-48FF-A7CC-7B35C079CFE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F39A-4B10-4209-B577-893D0AB85EF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D3FB-6A21-4401-B365-B18D2FEE8304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61440" cy="159732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 number is written in base b notation ,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(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 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-2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…,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ff each digit 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is a particular integer from 0 through b – 1, and the value of the number i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+ 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+…+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+ 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0" y="1600200"/>
          <a:ext cx="4191120" cy="4937040"/>
        </p:xfrm>
        <a:graphic>
          <a:graphicData uri="http://schemas.openxmlformats.org/drawingml/2006/table">
            <a:tbl>
              <a:tblPr/>
              <a:tblGrid>
                <a:gridCol w="1092240"/>
                <a:gridCol w="1090440"/>
                <a:gridCol w="2008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xadecim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4267080" y="1676520"/>
          <a:ext cx="4648320" cy="4479840"/>
        </p:xfrm>
        <a:graphic>
          <a:graphicData uri="http://schemas.openxmlformats.org/drawingml/2006/table">
            <a:tbl>
              <a:tblPr/>
              <a:tblGrid>
                <a:gridCol w="1233720"/>
                <a:gridCol w="1233360"/>
                <a:gridCol w="2181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xadecim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1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rite 3D7B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16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in base 1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(16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+ 13(16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+7(16) + 11(1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2288+ 3328+ 112+ 11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5739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rite 4387 in base 6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387 ÷ 6 = 731 r.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731÷ 6 = 121  r. 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21÷ 6 = 20 r.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0 ÷ 6 = 3 r. 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 ÷ 6 = 0 r. 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o, 32,15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erform the base 2 addition below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   0    0   1  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+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   1    0   0   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Straight Connector 4"/>
          <p:cNvSpPr/>
          <p:nvPr/>
        </p:nvSpPr>
        <p:spPr>
          <a:xfrm>
            <a:off x="1066680" y="4648320"/>
            <a:ext cx="3276720" cy="1440"/>
          </a:xfrm>
          <a:prstGeom prst="line">
            <a:avLst/>
          </a:prstGeom>
          <a:ln w="572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358128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9"/>
          <p:cNvSpPr/>
          <p:nvPr/>
        </p:nvSpPr>
        <p:spPr>
          <a:xfrm>
            <a:off x="304812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11"/>
          <p:cNvSpPr/>
          <p:nvPr/>
        </p:nvSpPr>
        <p:spPr>
          <a:xfrm>
            <a:off x="259092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12"/>
          <p:cNvSpPr/>
          <p:nvPr/>
        </p:nvSpPr>
        <p:spPr>
          <a:xfrm>
            <a:off x="190512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13"/>
          <p:cNvSpPr/>
          <p:nvPr/>
        </p:nvSpPr>
        <p:spPr>
          <a:xfrm>
            <a:off x="129528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14"/>
          <p:cNvSpPr/>
          <p:nvPr/>
        </p:nvSpPr>
        <p:spPr>
          <a:xfrm>
            <a:off x="838080" y="2438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99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15"/>
          <p:cNvSpPr/>
          <p:nvPr/>
        </p:nvSpPr>
        <p:spPr>
          <a:xfrm>
            <a:off x="76212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31840" y="201600"/>
            <a:ext cx="8461440" cy="146844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3"/>
          <p:cNvGrpSpPr/>
          <p:nvPr/>
        </p:nvGrpSpPr>
        <p:grpSpPr>
          <a:xfrm>
            <a:off x="1981080" y="4062600"/>
            <a:ext cx="1905120" cy="1615680"/>
            <a:chOff x="1981080" y="4062600"/>
            <a:chExt cx="1905120" cy="1615680"/>
          </a:xfrm>
        </p:grpSpPr>
        <p:grpSp>
          <p:nvGrpSpPr>
            <p:cNvPr id="324" name="Group 11"/>
            <p:cNvGrpSpPr/>
            <p:nvPr/>
          </p:nvGrpSpPr>
          <p:grpSpPr>
            <a:xfrm>
              <a:off x="2209320" y="4062600"/>
              <a:ext cx="1676880" cy="1615680"/>
              <a:chOff x="2209320" y="4062600"/>
              <a:chExt cx="1676880" cy="1615680"/>
            </a:xfrm>
          </p:grpSpPr>
          <p:sp>
            <p:nvSpPr>
              <p:cNvPr id="325" name="Chord 7"/>
              <p:cNvSpPr/>
              <p:nvPr/>
            </p:nvSpPr>
            <p:spPr>
              <a:xfrm rot="12133200">
                <a:off x="2388240" y="4267080"/>
                <a:ext cx="1318320" cy="120672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TextBox 8"/>
              <p:cNvSpPr/>
              <p:nvPr/>
            </p:nvSpPr>
            <p:spPr>
              <a:xfrm>
                <a:off x="2899800" y="47138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Straight Connector 5"/>
            <p:cNvSpPr/>
            <p:nvPr/>
          </p:nvSpPr>
          <p:spPr>
            <a:xfrm>
              <a:off x="2285640" y="4560840"/>
              <a:ext cx="53352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Straight Connector 6"/>
            <p:cNvSpPr/>
            <p:nvPr/>
          </p:nvSpPr>
          <p:spPr>
            <a:xfrm flipV="1">
              <a:off x="1981080" y="5019840"/>
              <a:ext cx="838440" cy="936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Group 9"/>
          <p:cNvGrpSpPr/>
          <p:nvPr/>
        </p:nvGrpSpPr>
        <p:grpSpPr>
          <a:xfrm>
            <a:off x="2362320" y="2362320"/>
            <a:ext cx="1673280" cy="1060200"/>
            <a:chOff x="2362320" y="2362320"/>
            <a:chExt cx="1673280" cy="1060200"/>
          </a:xfrm>
        </p:grpSpPr>
        <p:grpSp>
          <p:nvGrpSpPr>
            <p:cNvPr id="330" name="Group 13"/>
            <p:cNvGrpSpPr/>
            <p:nvPr/>
          </p:nvGrpSpPr>
          <p:grpSpPr>
            <a:xfrm>
              <a:off x="2743200" y="2362320"/>
              <a:ext cx="1292400" cy="1060200"/>
              <a:chOff x="2743200" y="2362320"/>
              <a:chExt cx="1292400" cy="1060200"/>
            </a:xfrm>
          </p:grpSpPr>
          <p:sp>
            <p:nvSpPr>
              <p:cNvPr id="331" name="Freeform 8"/>
              <p:cNvSpPr/>
              <p:nvPr/>
            </p:nvSpPr>
            <p:spPr>
              <a:xfrm rot="5400000">
                <a:off x="2859120" y="2246040"/>
                <a:ext cx="1060200" cy="129240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TextBox 14"/>
              <p:cNvSpPr/>
              <p:nvPr/>
            </p:nvSpPr>
            <p:spPr>
              <a:xfrm>
                <a:off x="2979000" y="27432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Straight Connector 11"/>
            <p:cNvSpPr/>
            <p:nvPr/>
          </p:nvSpPr>
          <p:spPr>
            <a:xfrm>
              <a:off x="2362320" y="266688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Straight Connector 12"/>
            <p:cNvSpPr/>
            <p:nvPr/>
          </p:nvSpPr>
          <p:spPr>
            <a:xfrm>
              <a:off x="2362320" y="312408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5"/>
          <p:cNvGrpSpPr/>
          <p:nvPr/>
        </p:nvGrpSpPr>
        <p:grpSpPr>
          <a:xfrm>
            <a:off x="3733920" y="4267080"/>
            <a:ext cx="1676160" cy="1060560"/>
            <a:chOff x="3733920" y="4267080"/>
            <a:chExt cx="1676160" cy="1060560"/>
          </a:xfrm>
        </p:grpSpPr>
        <p:grpSp>
          <p:nvGrpSpPr>
            <p:cNvPr id="336" name="Group 15"/>
            <p:cNvGrpSpPr/>
            <p:nvPr/>
          </p:nvGrpSpPr>
          <p:grpSpPr>
            <a:xfrm>
              <a:off x="4191120" y="4267080"/>
              <a:ext cx="1218960" cy="1060560"/>
              <a:chOff x="4191120" y="4267080"/>
              <a:chExt cx="1218960" cy="1060560"/>
            </a:xfrm>
          </p:grpSpPr>
          <p:pic>
            <p:nvPicPr>
              <p:cNvPr id="337" name="Group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191120" y="4267080"/>
                <a:ext cx="1218960" cy="10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TextBox 14"/>
              <p:cNvSpPr/>
              <p:nvPr/>
            </p:nvSpPr>
            <p:spPr>
              <a:xfrm>
                <a:off x="4276080" y="465300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Straight Connector 17"/>
            <p:cNvSpPr/>
            <p:nvPr/>
          </p:nvSpPr>
          <p:spPr>
            <a:xfrm>
              <a:off x="3733920" y="487692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TextBox 23"/>
          <p:cNvSpPr/>
          <p:nvPr/>
        </p:nvSpPr>
        <p:spPr>
          <a:xfrm>
            <a:off x="1374120" y="243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Box 24"/>
          <p:cNvSpPr/>
          <p:nvPr/>
        </p:nvSpPr>
        <p:spPr>
          <a:xfrm>
            <a:off x="152640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Group 25"/>
          <p:cNvGrpSpPr/>
          <p:nvPr/>
        </p:nvGrpSpPr>
        <p:grpSpPr>
          <a:xfrm>
            <a:off x="5562000" y="2233800"/>
            <a:ext cx="1676880" cy="1615680"/>
            <a:chOff x="5562000" y="2233800"/>
            <a:chExt cx="1676880" cy="1615680"/>
          </a:xfrm>
        </p:grpSpPr>
        <p:grpSp>
          <p:nvGrpSpPr>
            <p:cNvPr id="343" name="Group 11"/>
            <p:cNvGrpSpPr/>
            <p:nvPr/>
          </p:nvGrpSpPr>
          <p:grpSpPr>
            <a:xfrm>
              <a:off x="5562000" y="2233800"/>
              <a:ext cx="1676880" cy="1615680"/>
              <a:chOff x="5562000" y="2233800"/>
              <a:chExt cx="1676880" cy="1615680"/>
            </a:xfrm>
          </p:grpSpPr>
          <p:sp>
            <p:nvSpPr>
              <p:cNvPr id="344" name="Chord 29"/>
              <p:cNvSpPr/>
              <p:nvPr/>
            </p:nvSpPr>
            <p:spPr>
              <a:xfrm rot="12133200">
                <a:off x="5740920" y="2438280"/>
                <a:ext cx="1318320" cy="120672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TextBox 30"/>
              <p:cNvSpPr/>
              <p:nvPr/>
            </p:nvSpPr>
            <p:spPr>
              <a:xfrm>
                <a:off x="6252480" y="28850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Straight Connector 27"/>
            <p:cNvSpPr/>
            <p:nvPr/>
          </p:nvSpPr>
          <p:spPr>
            <a:xfrm>
              <a:off x="5638680" y="2732040"/>
              <a:ext cx="53352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Straight Connector 28"/>
            <p:cNvSpPr/>
            <p:nvPr/>
          </p:nvSpPr>
          <p:spPr>
            <a:xfrm>
              <a:off x="5638680" y="3189240"/>
              <a:ext cx="53352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Straight Connector 32"/>
          <p:cNvSpPr/>
          <p:nvPr/>
        </p:nvSpPr>
        <p:spPr>
          <a:xfrm flipV="1">
            <a:off x="1743120" y="2666520"/>
            <a:ext cx="100008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9" name="Shape 36"/>
          <p:cNvCxnSpPr>
            <a:stCxn id="340" idx="1"/>
          </p:cNvCxnSpPr>
          <p:nvPr/>
        </p:nvCxnSpPr>
        <p:spPr>
          <a:xfrm flipH="1" flipV="1" rot="10800000">
            <a:off x="1370520" y="2667600"/>
            <a:ext cx="610200" cy="2361240"/>
          </a:xfrm>
          <a:prstGeom prst="bentConnector4">
            <a:avLst>
              <a:gd name="adj1" fmla="val -37485"/>
              <a:gd name="adj2" fmla="val 54879"/>
            </a:avLst>
          </a:prstGeom>
          <a:ln w="9360">
            <a:solidFill>
              <a:srgbClr val="ff2489"/>
            </a:solidFill>
            <a:miter/>
          </a:ln>
        </p:spPr>
      </p:cxnSp>
      <p:sp>
        <p:nvSpPr>
          <p:cNvPr id="350" name="Straight Connector 39"/>
          <p:cNvSpPr/>
          <p:nvPr/>
        </p:nvSpPr>
        <p:spPr>
          <a:xfrm flipV="1">
            <a:off x="1828800" y="3123720"/>
            <a:ext cx="100008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Shape 41"/>
          <p:cNvCxnSpPr>
            <a:stCxn id="341" idx="3"/>
          </p:cNvCxnSpPr>
          <p:nvPr/>
        </p:nvCxnSpPr>
        <p:spPr>
          <a:xfrm>
            <a:off x="1895040" y="3125520"/>
            <a:ext cx="391320" cy="1446840"/>
          </a:xfrm>
          <a:prstGeom prst="bentConnector2">
            <a:avLst/>
          </a:prstGeom>
          <a:ln w="9360">
            <a:solidFill>
              <a:srgbClr val="ff2489"/>
            </a:solidFill>
            <a:miter/>
          </a:ln>
        </p:spPr>
      </p:cxnSp>
      <p:cxnSp>
        <p:nvCxnSpPr>
          <p:cNvPr id="352" name="Shape 43"/>
          <p:cNvCxnSpPr/>
          <p:nvPr/>
        </p:nvCxnSpPr>
        <p:spPr>
          <a:xfrm flipV="1">
            <a:off x="5409720" y="3199680"/>
            <a:ext cx="229320" cy="1600920"/>
          </a:xfrm>
          <a:prstGeom prst="bentConnector2">
            <a:avLst/>
          </a:prstGeom>
          <a:ln w="9360">
            <a:solidFill>
              <a:srgbClr val="ff2489"/>
            </a:solidFill>
            <a:miter/>
          </a:ln>
        </p:spPr>
      </p:cxnSp>
      <p:cxnSp>
        <p:nvCxnSpPr>
          <p:cNvPr id="353" name="Shape 47"/>
          <p:cNvCxnSpPr>
            <a:stCxn id="331" idx="5"/>
          </p:cNvCxnSpPr>
          <p:nvPr/>
        </p:nvCxnSpPr>
        <p:spPr>
          <a:xfrm flipH="1" flipV="1" rot="5400000">
            <a:off x="5027760" y="1749240"/>
            <a:ext cx="150120" cy="2136960"/>
          </a:xfrm>
          <a:prstGeom prst="bentConnector4">
            <a:avLst>
              <a:gd name="adj1" fmla="val 1923"/>
              <a:gd name="adj2" fmla="val 47295"/>
            </a:avLst>
          </a:prstGeom>
          <a:ln w="9360">
            <a:solidFill>
              <a:srgbClr val="ff2489"/>
            </a:solidFill>
            <a:miter/>
          </a:ln>
        </p:spPr>
      </p:cxnSp>
      <p:sp>
        <p:nvSpPr>
          <p:cNvPr id="354" name="Cloud Callout 49"/>
          <p:cNvSpPr/>
          <p:nvPr/>
        </p:nvSpPr>
        <p:spPr>
          <a:xfrm>
            <a:off x="6705720" y="1523880"/>
            <a:ext cx="1447560" cy="1222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um dig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Cloud Callout 50"/>
          <p:cNvSpPr/>
          <p:nvPr/>
        </p:nvSpPr>
        <p:spPr>
          <a:xfrm>
            <a:off x="4419720" y="5635800"/>
            <a:ext cx="1447560" cy="1222200"/>
          </a:xfrm>
          <a:prstGeom prst="cloudCallout">
            <a:avLst>
              <a:gd name="adj1" fmla="val -85768"/>
              <a:gd name="adj2" fmla="val -103986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arry dig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3"/>
          <p:cNvGrpSpPr/>
          <p:nvPr/>
        </p:nvGrpSpPr>
        <p:grpSpPr>
          <a:xfrm>
            <a:off x="1905120" y="2005200"/>
            <a:ext cx="1904400" cy="1615680"/>
            <a:chOff x="1905120" y="2005200"/>
            <a:chExt cx="1904400" cy="1615680"/>
          </a:xfrm>
        </p:grpSpPr>
        <p:grpSp>
          <p:nvGrpSpPr>
            <p:cNvPr id="357" name="Group 11"/>
            <p:cNvGrpSpPr/>
            <p:nvPr/>
          </p:nvGrpSpPr>
          <p:grpSpPr>
            <a:xfrm>
              <a:off x="2133000" y="2005200"/>
              <a:ext cx="1676520" cy="1615680"/>
              <a:chOff x="2133000" y="2005200"/>
              <a:chExt cx="1676520" cy="1615680"/>
            </a:xfrm>
          </p:grpSpPr>
          <p:sp>
            <p:nvSpPr>
              <p:cNvPr id="358" name="Chord 7"/>
              <p:cNvSpPr/>
              <p:nvPr/>
            </p:nvSpPr>
            <p:spPr>
              <a:xfrm rot="12133200">
                <a:off x="2311920" y="2209680"/>
                <a:ext cx="1317960" cy="120672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Box 8"/>
              <p:cNvSpPr/>
              <p:nvPr/>
            </p:nvSpPr>
            <p:spPr>
              <a:xfrm>
                <a:off x="2823840" y="26564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Straight Connector 5"/>
            <p:cNvSpPr/>
            <p:nvPr/>
          </p:nvSpPr>
          <p:spPr>
            <a:xfrm>
              <a:off x="2209680" y="2503440"/>
              <a:ext cx="53316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Straight Connector 6"/>
            <p:cNvSpPr/>
            <p:nvPr/>
          </p:nvSpPr>
          <p:spPr>
            <a:xfrm flipV="1">
              <a:off x="1905120" y="2962440"/>
              <a:ext cx="838080" cy="936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Group 9"/>
          <p:cNvGrpSpPr/>
          <p:nvPr/>
        </p:nvGrpSpPr>
        <p:grpSpPr>
          <a:xfrm>
            <a:off x="2286000" y="304920"/>
            <a:ext cx="1673280" cy="1060200"/>
            <a:chOff x="2286000" y="304920"/>
            <a:chExt cx="1673280" cy="1060200"/>
          </a:xfrm>
        </p:grpSpPr>
        <p:grpSp>
          <p:nvGrpSpPr>
            <p:cNvPr id="363" name="Group 13"/>
            <p:cNvGrpSpPr/>
            <p:nvPr/>
          </p:nvGrpSpPr>
          <p:grpSpPr>
            <a:xfrm>
              <a:off x="2666880" y="304920"/>
              <a:ext cx="1292400" cy="1060200"/>
              <a:chOff x="2666880" y="304920"/>
              <a:chExt cx="1292400" cy="1060200"/>
            </a:xfrm>
          </p:grpSpPr>
          <p:sp>
            <p:nvSpPr>
              <p:cNvPr id="364" name="Freeform 8"/>
              <p:cNvSpPr/>
              <p:nvPr/>
            </p:nvSpPr>
            <p:spPr>
              <a:xfrm rot="5400000">
                <a:off x="2782800" y="188640"/>
                <a:ext cx="1060200" cy="129240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TextBox 14"/>
              <p:cNvSpPr/>
              <p:nvPr/>
            </p:nvSpPr>
            <p:spPr>
              <a:xfrm>
                <a:off x="2902680" y="6858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Straight Connector 11"/>
            <p:cNvSpPr/>
            <p:nvPr/>
          </p:nvSpPr>
          <p:spPr>
            <a:xfrm>
              <a:off x="2286000" y="60948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Straight Connector 12"/>
            <p:cNvSpPr/>
            <p:nvPr/>
          </p:nvSpPr>
          <p:spPr>
            <a:xfrm>
              <a:off x="2286000" y="106668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" name="Group 15"/>
          <p:cNvGrpSpPr/>
          <p:nvPr/>
        </p:nvGrpSpPr>
        <p:grpSpPr>
          <a:xfrm>
            <a:off x="3657600" y="2209680"/>
            <a:ext cx="1676520" cy="1060560"/>
            <a:chOff x="3657600" y="2209680"/>
            <a:chExt cx="1676520" cy="1060560"/>
          </a:xfrm>
        </p:grpSpPr>
        <p:grpSp>
          <p:nvGrpSpPr>
            <p:cNvPr id="369" name="Group 15"/>
            <p:cNvGrpSpPr/>
            <p:nvPr/>
          </p:nvGrpSpPr>
          <p:grpSpPr>
            <a:xfrm>
              <a:off x="4114800" y="2209680"/>
              <a:ext cx="1219320" cy="1060560"/>
              <a:chOff x="4114800" y="2209680"/>
              <a:chExt cx="1219320" cy="1060560"/>
            </a:xfrm>
          </p:grpSpPr>
          <p:pic>
            <p:nvPicPr>
              <p:cNvPr id="370" name="Group 7" descr=""/>
              <p:cNvPicPr/>
              <p:nvPr/>
            </p:nvPicPr>
            <p:blipFill>
              <a:blip r:embed="rId1"/>
              <a:stretch/>
            </p:blipFill>
            <p:spPr>
              <a:xfrm>
                <a:off x="4114800" y="2209680"/>
                <a:ext cx="1219320" cy="10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TextBox 14"/>
              <p:cNvSpPr/>
              <p:nvPr/>
            </p:nvSpPr>
            <p:spPr>
              <a:xfrm>
                <a:off x="4202640" y="25945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2" name="Straight Connector 17"/>
            <p:cNvSpPr/>
            <p:nvPr/>
          </p:nvSpPr>
          <p:spPr>
            <a:xfrm>
              <a:off x="3657600" y="281952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TextBox 22"/>
          <p:cNvSpPr/>
          <p:nvPr/>
        </p:nvSpPr>
        <p:spPr>
          <a:xfrm>
            <a:off x="1297800" y="380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23"/>
          <p:cNvSpPr/>
          <p:nvPr/>
        </p:nvSpPr>
        <p:spPr>
          <a:xfrm>
            <a:off x="1450440" y="838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Group 24"/>
          <p:cNvGrpSpPr/>
          <p:nvPr/>
        </p:nvGrpSpPr>
        <p:grpSpPr>
          <a:xfrm>
            <a:off x="5485680" y="176400"/>
            <a:ext cx="1676520" cy="1615680"/>
            <a:chOff x="5485680" y="176400"/>
            <a:chExt cx="1676520" cy="1615680"/>
          </a:xfrm>
        </p:grpSpPr>
        <p:grpSp>
          <p:nvGrpSpPr>
            <p:cNvPr id="376" name="Group 11"/>
            <p:cNvGrpSpPr/>
            <p:nvPr/>
          </p:nvGrpSpPr>
          <p:grpSpPr>
            <a:xfrm>
              <a:off x="5485680" y="176400"/>
              <a:ext cx="1676520" cy="1615680"/>
              <a:chOff x="5485680" y="176400"/>
              <a:chExt cx="1676520" cy="1615680"/>
            </a:xfrm>
          </p:grpSpPr>
          <p:sp>
            <p:nvSpPr>
              <p:cNvPr id="377" name="Chord 28"/>
              <p:cNvSpPr/>
              <p:nvPr/>
            </p:nvSpPr>
            <p:spPr>
              <a:xfrm rot="12133200">
                <a:off x="5664600" y="380880"/>
                <a:ext cx="1317960" cy="120672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TextBox 29"/>
              <p:cNvSpPr/>
              <p:nvPr/>
            </p:nvSpPr>
            <p:spPr>
              <a:xfrm>
                <a:off x="6176520" y="8276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9" name="Straight Connector 26"/>
            <p:cNvSpPr/>
            <p:nvPr/>
          </p:nvSpPr>
          <p:spPr>
            <a:xfrm>
              <a:off x="5562720" y="674640"/>
              <a:ext cx="53316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Straight Connector 27"/>
            <p:cNvSpPr/>
            <p:nvPr/>
          </p:nvSpPr>
          <p:spPr>
            <a:xfrm>
              <a:off x="5562720" y="1131840"/>
              <a:ext cx="53316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Straight Connector 30"/>
          <p:cNvSpPr/>
          <p:nvPr/>
        </p:nvSpPr>
        <p:spPr>
          <a:xfrm flipV="1">
            <a:off x="1666800" y="609120"/>
            <a:ext cx="100008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2" name="Shape 31"/>
          <p:cNvCxnSpPr>
            <a:stCxn id="373" idx="1"/>
          </p:cNvCxnSpPr>
          <p:nvPr/>
        </p:nvCxnSpPr>
        <p:spPr>
          <a:xfrm flipH="1" flipV="1" rot="10800000">
            <a:off x="1294920" y="610200"/>
            <a:ext cx="610560" cy="2361240"/>
          </a:xfrm>
          <a:prstGeom prst="bentConnector4">
            <a:avLst>
              <a:gd name="adj1" fmla="val -37463"/>
              <a:gd name="adj2" fmla="val 54879"/>
            </a:avLst>
          </a:prstGeom>
          <a:ln w="9360">
            <a:solidFill>
              <a:srgbClr val="ff2489"/>
            </a:solidFill>
            <a:miter/>
          </a:ln>
        </p:spPr>
      </p:cxnSp>
      <p:sp>
        <p:nvSpPr>
          <p:cNvPr id="383" name="Straight Connector 32"/>
          <p:cNvSpPr/>
          <p:nvPr/>
        </p:nvSpPr>
        <p:spPr>
          <a:xfrm flipV="1">
            <a:off x="1752480" y="1066320"/>
            <a:ext cx="100008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4" name="Shape 33"/>
          <p:cNvCxnSpPr>
            <a:stCxn id="374" idx="3"/>
          </p:cNvCxnSpPr>
          <p:nvPr/>
        </p:nvCxnSpPr>
        <p:spPr>
          <a:xfrm>
            <a:off x="1819440" y="1068120"/>
            <a:ext cx="390960" cy="1446840"/>
          </a:xfrm>
          <a:prstGeom prst="bentConnector2">
            <a:avLst/>
          </a:prstGeom>
          <a:ln w="9360">
            <a:solidFill>
              <a:srgbClr val="ff2489"/>
            </a:solidFill>
            <a:miter/>
          </a:ln>
        </p:spPr>
      </p:cxnSp>
      <p:cxnSp>
        <p:nvCxnSpPr>
          <p:cNvPr id="385" name="Shape 34"/>
          <p:cNvCxnSpPr/>
          <p:nvPr/>
        </p:nvCxnSpPr>
        <p:spPr>
          <a:xfrm flipV="1">
            <a:off x="5333760" y="1142280"/>
            <a:ext cx="229320" cy="1600920"/>
          </a:xfrm>
          <a:prstGeom prst="bentConnector2">
            <a:avLst/>
          </a:prstGeom>
          <a:ln w="9360">
            <a:solidFill>
              <a:srgbClr val="ff2489"/>
            </a:solidFill>
            <a:miter/>
          </a:ln>
        </p:spPr>
      </p:cxnSp>
      <p:cxnSp>
        <p:nvCxnSpPr>
          <p:cNvPr id="386" name="Shape 35"/>
          <p:cNvCxnSpPr/>
          <p:nvPr/>
        </p:nvCxnSpPr>
        <p:spPr>
          <a:xfrm flipH="1" flipV="1" rot="5400000">
            <a:off x="4951440" y="-308160"/>
            <a:ext cx="150120" cy="2136960"/>
          </a:xfrm>
          <a:prstGeom prst="bentConnector4">
            <a:avLst>
              <a:gd name="adj1" fmla="val 1923"/>
              <a:gd name="adj2" fmla="val 47295"/>
            </a:avLst>
          </a:prstGeom>
          <a:ln w="9360">
            <a:solidFill>
              <a:srgbClr val="ff2489"/>
            </a:solidFill>
            <a:miter/>
          </a:ln>
        </p:spPr>
      </p:cxnSp>
      <p:sp>
        <p:nvSpPr>
          <p:cNvPr id="387" name="Cloud Callout 37"/>
          <p:cNvSpPr/>
          <p:nvPr/>
        </p:nvSpPr>
        <p:spPr>
          <a:xfrm>
            <a:off x="6781680" y="0"/>
            <a:ext cx="1447920" cy="1222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um dig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Cloud Callout 38"/>
          <p:cNvSpPr/>
          <p:nvPr/>
        </p:nvSpPr>
        <p:spPr>
          <a:xfrm>
            <a:off x="4267080" y="3429000"/>
            <a:ext cx="1752840" cy="609480"/>
          </a:xfrm>
          <a:prstGeom prst="cloudCallout">
            <a:avLst>
              <a:gd name="adj1" fmla="val -85768"/>
              <a:gd name="adj2" fmla="val -103986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arry dig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066680" y="4343400"/>
          <a:ext cx="7543800" cy="2311560"/>
        </p:xfrm>
        <a:graphic>
          <a:graphicData uri="http://schemas.openxmlformats.org/drawingml/2006/table">
            <a:tbl>
              <a:tblPr/>
              <a:tblGrid>
                <a:gridCol w="1078200"/>
                <a:gridCol w="1077840"/>
                <a:gridCol w="1077840"/>
                <a:gridCol w="1076400"/>
                <a:gridCol w="1077840"/>
                <a:gridCol w="1077840"/>
                <a:gridCol w="107784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990720" y="4267080"/>
          <a:ext cx="7619760" cy="2397240"/>
        </p:xfrm>
        <a:graphic>
          <a:graphicData uri="http://schemas.openxmlformats.org/drawingml/2006/table">
            <a:tbl>
              <a:tblPr/>
              <a:tblGrid>
                <a:gridCol w="1089000"/>
                <a:gridCol w="1087200"/>
                <a:gridCol w="1089000"/>
                <a:gridCol w="1089360"/>
                <a:gridCol w="1089000"/>
                <a:gridCol w="1087200"/>
                <a:gridCol w="1089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^ Q (car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~ (P ^ Q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V 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PVQ) ^ ~(P^Q) (su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inal Dig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990720" y="4267080"/>
          <a:ext cx="7772400" cy="239724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520"/>
                <a:gridCol w="1111320"/>
                <a:gridCol w="1109520"/>
                <a:gridCol w="1111320"/>
                <a:gridCol w="1109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^ Q (car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~ (P ^ Q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V 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PVQ) ^ ~(P^Q) (su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inal Dig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990720" y="4267080"/>
          <a:ext cx="7772400" cy="239724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520"/>
                <a:gridCol w="1111320"/>
                <a:gridCol w="1109520"/>
                <a:gridCol w="1111320"/>
                <a:gridCol w="1109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^ Q (car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~ (P ^ Q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V 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PVQ) ^ ~(P^Q) (su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inal Dig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Pages 268 – 269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3, 6 , 8 , 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11 – 13, 18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39:21Z</dcterms:created>
  <dc:creator>teacher</dc:creator>
  <dc:description/>
  <dc:language>en-US</dc:language>
  <cp:lastModifiedBy>Laura Helbing</cp:lastModifiedBy>
  <dcterms:modified xsi:type="dcterms:W3CDTF">2011-12-09T14:04:16Z</dcterms:modified>
  <cp:revision>7</cp:revision>
  <dc:subject/>
  <dc:title>Polynomial Representations of Integers</dc:title>
</cp:coreProperties>
</file>