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DEA-F0EF-4B4D-81C8-DEDA45CD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A92-58DD-4410-93E1-672AE1E9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0EA-C124-4A87-8344-E68347D3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9BE-E099-48B2-880B-C326CBA5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8C8E-CE98-49CD-A335-340B725B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4408-3E52-4A90-BFB9-6394B223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CA74-9946-42BE-B41F-0B004122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C0AC-9F4A-4BF7-8C8C-74167503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2180-7333-4493-AFA8-C01BF7FA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F84D-6A2C-40E2-9F58-F30438FE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474-B0CA-4746-99A8-BEA9133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D12-3D2C-4C59-A9EA-85A152F0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0224-A673-4970-AE21-CF1C554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E511-2BB8-4FC7-8B63-F9C153E8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959C-C5ED-4220-AD00-EA887D1A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B408-9A15-40A0-A128-1C5F7B1A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348B-EC8D-4A72-89A5-AFE33016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E3536-648E-4E03-8C08-F3280FA4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3382-5DF0-4D60-B2A5-1586A63F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90C7-6C23-4D8A-AFF6-8027847F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A155-A96E-4D02-B283-5EB66DA5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7EAE-386C-4EEE-903A-4393B472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C37-C25A-4C37-936A-5ED47488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5605-EE8E-4EB9-80FF-C64D2660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087FA-95A4-4416-AD92-30499CF4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8E77-EE53-47AA-AB28-3786F2A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98BCA-9E2A-4DA7-B17D-A26B0A2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4A8ED-C610-449E-B2E2-E6ED0397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F845-5ED4-450C-ADF1-E5ABEBC4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D3D6-832D-49BA-B4F3-3DEFB77D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5640-9D72-4F9B-BF50-04F21E23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BED8E-1561-45BE-9CDB-C325CD80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BCC19-A51E-4C48-9E11-8A9D1BA4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3218-2ADE-4C78-A877-A2F90374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F08B-D450-4315-BD7A-48BF7D11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66DF5-065B-4412-AAF6-1836E900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8DD3-8930-47DD-9E02-E51BA1D1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86E29-1639-4591-B537-0A50E50F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6B13-8554-41C0-B558-08407C4B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0140-8C30-4D2C-B9B7-41D1C691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E58F6-28B9-46DE-B59B-9CC5D4A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842BB-08F9-4ECB-8624-DFD75393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C0A9-0B7A-420E-BBD6-8755928E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BC96E-5F8E-48D3-81C8-E9B14C5E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0B7-A315-4011-AECC-D106E1A6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54C7-77EA-4AC3-954B-1A255B73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7592B-E7EC-4A97-B31B-DAA6ECCC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95DB-7925-448E-8159-9BD8164A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71C7A-4DEB-4711-A771-72566586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1DE3-42F6-4C88-8646-87058C51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7536-0264-4D24-B40A-B9DFFD95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54573-C65E-48FC-8AC2-9C2BBD3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D4016-8429-40E4-9D54-0D57AE05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CF33-7026-41E2-A002-8ABB247C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762B3-EEA0-466D-9A1B-34082189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B0A-5111-4D53-AE11-C8B02DF2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41BA-D77B-4D3E-A5B6-1AA73466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76266-AD6B-44A8-9B18-D6C0CAF7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4B31D-C616-4D77-8BBB-1675936B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12E04-32B2-4BA1-8316-DCA72868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983D2-03F6-4747-B2D3-ADE9E7FA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A9DC8-69E0-4BF8-BD85-826E6588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A0A1A-3E1A-42D2-8D89-2A3C03A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A74F3-784A-40E5-8F1D-AAC5105F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22161-A444-48ED-AB8B-2697C61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6F982-21A7-4B40-BEBA-98CB236B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1A3-E840-458D-8B91-7D8754A2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962FF-79AA-42D9-A756-05C5B55B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99EB1-01B5-4D98-9CE6-79B0D31B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8D4E0-9E27-4FD0-9190-18EC5CE2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E16D1-E29A-4014-9F2E-F1C42791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16D5D-292E-4D4B-950F-005171E2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5A4F0-6DDE-4204-B38E-03CD9581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830B-0064-4ECC-952A-B23A8ADE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1B8DE-EBB5-4CCE-8BFF-977B3DCE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81CDD-D78E-4CBA-94F3-1F15957B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FD521-19FC-46A9-9823-5F8CCEF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8A8-1A2F-49C8-A749-4A70A26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2387A-9A02-4572-A1D3-65573C4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F30F7-19EA-4CF8-970C-0BE4E73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E7DDF-1D2E-451A-B5EB-3B84D6B7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C211A-BB86-4460-BD6A-DF885D3E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C4D0C-E2E4-4277-8F6D-D4314AF9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AA3-76D1-4422-90F2-50F55046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7397-28C5-4186-B6C0-417719FBA0C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F770-5F74-41B5-9C6C-5617B75BC590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0341-CD9B-493F-837C-BBE1947AB04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E4A-5AB2-4BD8-8BE5-C94397CD051D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6B5F-5685-40CE-9F29-40EDE2EE1CF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FD62-CA9C-4155-BBB9-B282C52EBC5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64FD-347E-4D43-9854-F760E3DE2278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61440" cy="159732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number is written in base b notation 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…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ff each digit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is a particular integer from 0 through b – 1, and the value of the number i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+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…+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+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0" y="1600200"/>
          <a:ext cx="4191120" cy="4937040"/>
        </p:xfrm>
        <a:graphic>
          <a:graphicData uri="http://schemas.openxmlformats.org/drawingml/2006/table">
            <a:tbl>
              <a:tblPr/>
              <a:tblGrid>
                <a:gridCol w="1092240"/>
                <a:gridCol w="1090440"/>
                <a:gridCol w="2008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xadec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267080" y="1676520"/>
          <a:ext cx="4648320" cy="4479840"/>
        </p:xfrm>
        <a:graphic>
          <a:graphicData uri="http://schemas.openxmlformats.org/drawingml/2006/table">
            <a:tbl>
              <a:tblPr/>
              <a:tblGrid>
                <a:gridCol w="1233720"/>
                <a:gridCol w="1233360"/>
                <a:gridCol w="2181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xadec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 3D7B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6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in base 1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(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 13(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+7(16) + 11(1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288+ 3328+ 112+ 11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5739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 4387 in base 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387 ÷ 6 = 731 r.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731÷ 6 = 121  r. 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1÷ 6 = 20 r.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0 ÷ 6 = 3 r.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 ÷ 6 = 0 r. 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, 32,15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rform the base 2 addition bel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   0    0   1  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   1    0   0  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Straight Connector 4"/>
          <p:cNvSpPr/>
          <p:nvPr/>
        </p:nvSpPr>
        <p:spPr>
          <a:xfrm>
            <a:off x="1066680" y="4648320"/>
            <a:ext cx="3276720" cy="144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358128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3048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25909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12"/>
          <p:cNvSpPr/>
          <p:nvPr/>
        </p:nvSpPr>
        <p:spPr>
          <a:xfrm>
            <a:off x="1905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129528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83808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99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762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31840" y="201600"/>
            <a:ext cx="8461440" cy="14684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3"/>
          <p:cNvGrpSpPr/>
          <p:nvPr/>
        </p:nvGrpSpPr>
        <p:grpSpPr>
          <a:xfrm>
            <a:off x="1981080" y="4062600"/>
            <a:ext cx="1905120" cy="1615680"/>
            <a:chOff x="1981080" y="4062600"/>
            <a:chExt cx="1905120" cy="1615680"/>
          </a:xfrm>
        </p:grpSpPr>
        <p:grpSp>
          <p:nvGrpSpPr>
            <p:cNvPr id="324" name="Group 11"/>
            <p:cNvGrpSpPr/>
            <p:nvPr/>
          </p:nvGrpSpPr>
          <p:grpSpPr>
            <a:xfrm>
              <a:off x="2209320" y="4062600"/>
              <a:ext cx="1676880" cy="1615680"/>
              <a:chOff x="2209320" y="4062600"/>
              <a:chExt cx="1676880" cy="1615680"/>
            </a:xfrm>
          </p:grpSpPr>
          <p:sp>
            <p:nvSpPr>
              <p:cNvPr id="325" name="Chord 7"/>
              <p:cNvSpPr/>
              <p:nvPr/>
            </p:nvSpPr>
            <p:spPr>
              <a:xfrm rot="12133200">
                <a:off x="2388240" y="4267080"/>
                <a:ext cx="131832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TextBox 8"/>
              <p:cNvSpPr/>
              <p:nvPr/>
            </p:nvSpPr>
            <p:spPr>
              <a:xfrm>
                <a:off x="2899800" y="47138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Straight Connector 5"/>
            <p:cNvSpPr/>
            <p:nvPr/>
          </p:nvSpPr>
          <p:spPr>
            <a:xfrm>
              <a:off x="2285640" y="45608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Straight Connector 6"/>
            <p:cNvSpPr/>
            <p:nvPr/>
          </p:nvSpPr>
          <p:spPr>
            <a:xfrm flipV="1">
              <a:off x="1981080" y="5019840"/>
              <a:ext cx="838440" cy="936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2362320" y="2362320"/>
            <a:ext cx="1673280" cy="1060200"/>
            <a:chOff x="2362320" y="2362320"/>
            <a:chExt cx="1673280" cy="1060200"/>
          </a:xfrm>
        </p:grpSpPr>
        <p:grpSp>
          <p:nvGrpSpPr>
            <p:cNvPr id="330" name="Group 13"/>
            <p:cNvGrpSpPr/>
            <p:nvPr/>
          </p:nvGrpSpPr>
          <p:grpSpPr>
            <a:xfrm>
              <a:off x="2743200" y="2362320"/>
              <a:ext cx="1292400" cy="1060200"/>
              <a:chOff x="2743200" y="2362320"/>
              <a:chExt cx="1292400" cy="1060200"/>
            </a:xfrm>
          </p:grpSpPr>
          <p:sp>
            <p:nvSpPr>
              <p:cNvPr id="331" name="Freeform 8"/>
              <p:cNvSpPr/>
              <p:nvPr/>
            </p:nvSpPr>
            <p:spPr>
              <a:xfrm rot="5400000">
                <a:off x="2859120" y="2246040"/>
                <a:ext cx="1060200" cy="129240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Box 14"/>
              <p:cNvSpPr/>
              <p:nvPr/>
            </p:nvSpPr>
            <p:spPr>
              <a:xfrm>
                <a:off x="2979000" y="2743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Straight Connector 11"/>
            <p:cNvSpPr/>
            <p:nvPr/>
          </p:nvSpPr>
          <p:spPr>
            <a:xfrm>
              <a:off x="2362320" y="26668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12"/>
            <p:cNvSpPr/>
            <p:nvPr/>
          </p:nvSpPr>
          <p:spPr>
            <a:xfrm>
              <a:off x="2362320" y="31240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5"/>
          <p:cNvGrpSpPr/>
          <p:nvPr/>
        </p:nvGrpSpPr>
        <p:grpSpPr>
          <a:xfrm>
            <a:off x="3733920" y="4267080"/>
            <a:ext cx="1676160" cy="1060560"/>
            <a:chOff x="3733920" y="4267080"/>
            <a:chExt cx="1676160" cy="1060560"/>
          </a:xfrm>
        </p:grpSpPr>
        <p:grpSp>
          <p:nvGrpSpPr>
            <p:cNvPr id="336" name="Group 15"/>
            <p:cNvGrpSpPr/>
            <p:nvPr/>
          </p:nvGrpSpPr>
          <p:grpSpPr>
            <a:xfrm>
              <a:off x="4191120" y="4267080"/>
              <a:ext cx="1218960" cy="1060560"/>
              <a:chOff x="4191120" y="4267080"/>
              <a:chExt cx="1218960" cy="1060560"/>
            </a:xfrm>
          </p:grpSpPr>
          <p:pic>
            <p:nvPicPr>
              <p:cNvPr id="337" name="Group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191120" y="4267080"/>
                <a:ext cx="1218960" cy="10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Box 14"/>
              <p:cNvSpPr/>
              <p:nvPr/>
            </p:nvSpPr>
            <p:spPr>
              <a:xfrm>
                <a:off x="4276080" y="46530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Straight Connector 17"/>
            <p:cNvSpPr/>
            <p:nvPr/>
          </p:nvSpPr>
          <p:spPr>
            <a:xfrm>
              <a:off x="3733920" y="487692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TextBox 23"/>
          <p:cNvSpPr/>
          <p:nvPr/>
        </p:nvSpPr>
        <p:spPr>
          <a:xfrm>
            <a:off x="137412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24"/>
          <p:cNvSpPr/>
          <p:nvPr/>
        </p:nvSpPr>
        <p:spPr>
          <a:xfrm>
            <a:off x="15264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25"/>
          <p:cNvGrpSpPr/>
          <p:nvPr/>
        </p:nvGrpSpPr>
        <p:grpSpPr>
          <a:xfrm>
            <a:off x="5562000" y="2233800"/>
            <a:ext cx="1676880" cy="1615680"/>
            <a:chOff x="5562000" y="2233800"/>
            <a:chExt cx="1676880" cy="1615680"/>
          </a:xfrm>
        </p:grpSpPr>
        <p:grpSp>
          <p:nvGrpSpPr>
            <p:cNvPr id="343" name="Group 11"/>
            <p:cNvGrpSpPr/>
            <p:nvPr/>
          </p:nvGrpSpPr>
          <p:grpSpPr>
            <a:xfrm>
              <a:off x="5562000" y="2233800"/>
              <a:ext cx="1676880" cy="1615680"/>
              <a:chOff x="5562000" y="2233800"/>
              <a:chExt cx="1676880" cy="1615680"/>
            </a:xfrm>
          </p:grpSpPr>
          <p:sp>
            <p:nvSpPr>
              <p:cNvPr id="344" name="Chord 29"/>
              <p:cNvSpPr/>
              <p:nvPr/>
            </p:nvSpPr>
            <p:spPr>
              <a:xfrm rot="12133200">
                <a:off x="5740920" y="2438280"/>
                <a:ext cx="131832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Box 30"/>
              <p:cNvSpPr/>
              <p:nvPr/>
            </p:nvSpPr>
            <p:spPr>
              <a:xfrm>
                <a:off x="6252480" y="28850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Straight Connector 27"/>
            <p:cNvSpPr/>
            <p:nvPr/>
          </p:nvSpPr>
          <p:spPr>
            <a:xfrm>
              <a:off x="5638680" y="27320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Straight Connector 28"/>
            <p:cNvSpPr/>
            <p:nvPr/>
          </p:nvSpPr>
          <p:spPr>
            <a:xfrm>
              <a:off x="5638680" y="31892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Straight Connector 32"/>
          <p:cNvSpPr/>
          <p:nvPr/>
        </p:nvSpPr>
        <p:spPr>
          <a:xfrm flipV="1">
            <a:off x="1743120" y="26665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9" name="Shape 36"/>
          <p:cNvCxnSpPr>
            <a:stCxn id="340" idx="1"/>
          </p:cNvCxnSpPr>
          <p:nvPr/>
        </p:nvCxnSpPr>
        <p:spPr>
          <a:xfrm flipH="1" flipV="1" rot="10800000">
            <a:off x="1370520" y="2667600"/>
            <a:ext cx="610200" cy="2361240"/>
          </a:xfrm>
          <a:prstGeom prst="bentConnector4">
            <a:avLst>
              <a:gd name="adj1" fmla="val -37485"/>
              <a:gd name="adj2" fmla="val 54879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50" name="Straight Connector 39"/>
          <p:cNvSpPr/>
          <p:nvPr/>
        </p:nvSpPr>
        <p:spPr>
          <a:xfrm flipV="1">
            <a:off x="1828800" y="31237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Shape 41"/>
          <p:cNvCxnSpPr>
            <a:stCxn id="341" idx="3"/>
          </p:cNvCxnSpPr>
          <p:nvPr/>
        </p:nvCxnSpPr>
        <p:spPr>
          <a:xfrm>
            <a:off x="1895040" y="3125520"/>
            <a:ext cx="391320" cy="144684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52" name="Shape 43"/>
          <p:cNvCxnSpPr/>
          <p:nvPr/>
        </p:nvCxnSpPr>
        <p:spPr>
          <a:xfrm flipV="1">
            <a:off x="5409720" y="3199680"/>
            <a:ext cx="229320" cy="160092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53" name="Shape 47"/>
          <p:cNvCxnSpPr>
            <a:stCxn id="331" idx="5"/>
          </p:cNvCxnSpPr>
          <p:nvPr/>
        </p:nvCxnSpPr>
        <p:spPr>
          <a:xfrm flipH="1" flipV="1" rot="5400000">
            <a:off x="5027760" y="1749240"/>
            <a:ext cx="150120" cy="2136960"/>
          </a:xfrm>
          <a:prstGeom prst="bentConnector4">
            <a:avLst>
              <a:gd name="adj1" fmla="val 1923"/>
              <a:gd name="adj2" fmla="val 47295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54" name="Cloud Callout 49"/>
          <p:cNvSpPr/>
          <p:nvPr/>
        </p:nvSpPr>
        <p:spPr>
          <a:xfrm>
            <a:off x="6705720" y="1523880"/>
            <a:ext cx="1447560" cy="122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um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Cloud Callout 50"/>
          <p:cNvSpPr/>
          <p:nvPr/>
        </p:nvSpPr>
        <p:spPr>
          <a:xfrm>
            <a:off x="4419720" y="5635800"/>
            <a:ext cx="1447560" cy="1222200"/>
          </a:xfrm>
          <a:prstGeom prst="cloudCallout">
            <a:avLst>
              <a:gd name="adj1" fmla="val -85768"/>
              <a:gd name="adj2" fmla="val -10398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rry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3"/>
          <p:cNvGrpSpPr/>
          <p:nvPr/>
        </p:nvGrpSpPr>
        <p:grpSpPr>
          <a:xfrm>
            <a:off x="1905120" y="2005200"/>
            <a:ext cx="1904400" cy="1615680"/>
            <a:chOff x="1905120" y="2005200"/>
            <a:chExt cx="1904400" cy="1615680"/>
          </a:xfrm>
        </p:grpSpPr>
        <p:grpSp>
          <p:nvGrpSpPr>
            <p:cNvPr id="357" name="Group 11"/>
            <p:cNvGrpSpPr/>
            <p:nvPr/>
          </p:nvGrpSpPr>
          <p:grpSpPr>
            <a:xfrm>
              <a:off x="2133000" y="2005200"/>
              <a:ext cx="1676520" cy="1615680"/>
              <a:chOff x="2133000" y="2005200"/>
              <a:chExt cx="1676520" cy="1615680"/>
            </a:xfrm>
          </p:grpSpPr>
          <p:sp>
            <p:nvSpPr>
              <p:cNvPr id="358" name="Chord 7"/>
              <p:cNvSpPr/>
              <p:nvPr/>
            </p:nvSpPr>
            <p:spPr>
              <a:xfrm rot="12133200">
                <a:off x="2311920" y="2209680"/>
                <a:ext cx="131796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Box 8"/>
              <p:cNvSpPr/>
              <p:nvPr/>
            </p:nvSpPr>
            <p:spPr>
              <a:xfrm>
                <a:off x="2823840" y="26564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Straight Connector 5"/>
            <p:cNvSpPr/>
            <p:nvPr/>
          </p:nvSpPr>
          <p:spPr>
            <a:xfrm>
              <a:off x="2209680" y="25034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Straight Connector 6"/>
            <p:cNvSpPr/>
            <p:nvPr/>
          </p:nvSpPr>
          <p:spPr>
            <a:xfrm flipV="1">
              <a:off x="1905120" y="2962440"/>
              <a:ext cx="838080" cy="936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9"/>
          <p:cNvGrpSpPr/>
          <p:nvPr/>
        </p:nvGrpSpPr>
        <p:grpSpPr>
          <a:xfrm>
            <a:off x="2286000" y="304920"/>
            <a:ext cx="1673280" cy="1060200"/>
            <a:chOff x="2286000" y="304920"/>
            <a:chExt cx="1673280" cy="1060200"/>
          </a:xfrm>
        </p:grpSpPr>
        <p:grpSp>
          <p:nvGrpSpPr>
            <p:cNvPr id="363" name="Group 13"/>
            <p:cNvGrpSpPr/>
            <p:nvPr/>
          </p:nvGrpSpPr>
          <p:grpSpPr>
            <a:xfrm>
              <a:off x="2666880" y="304920"/>
              <a:ext cx="1292400" cy="1060200"/>
              <a:chOff x="2666880" y="304920"/>
              <a:chExt cx="1292400" cy="1060200"/>
            </a:xfrm>
          </p:grpSpPr>
          <p:sp>
            <p:nvSpPr>
              <p:cNvPr id="364" name="Freeform 8"/>
              <p:cNvSpPr/>
              <p:nvPr/>
            </p:nvSpPr>
            <p:spPr>
              <a:xfrm rot="5400000">
                <a:off x="2782800" y="188640"/>
                <a:ext cx="1060200" cy="129240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TextBox 14"/>
              <p:cNvSpPr/>
              <p:nvPr/>
            </p:nvSpPr>
            <p:spPr>
              <a:xfrm>
                <a:off x="2902680" y="6858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Straight Connector 11"/>
            <p:cNvSpPr/>
            <p:nvPr/>
          </p:nvSpPr>
          <p:spPr>
            <a:xfrm>
              <a:off x="2286000" y="6094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Straight Connector 12"/>
            <p:cNvSpPr/>
            <p:nvPr/>
          </p:nvSpPr>
          <p:spPr>
            <a:xfrm>
              <a:off x="2286000" y="10666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Group 15"/>
          <p:cNvGrpSpPr/>
          <p:nvPr/>
        </p:nvGrpSpPr>
        <p:grpSpPr>
          <a:xfrm>
            <a:off x="3657600" y="2209680"/>
            <a:ext cx="1676520" cy="1060560"/>
            <a:chOff x="3657600" y="2209680"/>
            <a:chExt cx="1676520" cy="1060560"/>
          </a:xfrm>
        </p:grpSpPr>
        <p:grpSp>
          <p:nvGrpSpPr>
            <p:cNvPr id="369" name="Group 15"/>
            <p:cNvGrpSpPr/>
            <p:nvPr/>
          </p:nvGrpSpPr>
          <p:grpSpPr>
            <a:xfrm>
              <a:off x="4114800" y="2209680"/>
              <a:ext cx="1219320" cy="1060560"/>
              <a:chOff x="4114800" y="2209680"/>
              <a:chExt cx="1219320" cy="1060560"/>
            </a:xfrm>
          </p:grpSpPr>
          <p:pic>
            <p:nvPicPr>
              <p:cNvPr id="370" name="Group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800" y="2209680"/>
                <a:ext cx="1219320" cy="10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TextBox 14"/>
              <p:cNvSpPr/>
              <p:nvPr/>
            </p:nvSpPr>
            <p:spPr>
              <a:xfrm>
                <a:off x="4202640" y="25945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" name="Straight Connector 17"/>
            <p:cNvSpPr/>
            <p:nvPr/>
          </p:nvSpPr>
          <p:spPr>
            <a:xfrm>
              <a:off x="3657600" y="281952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TextBox 22"/>
          <p:cNvSpPr/>
          <p:nvPr/>
        </p:nvSpPr>
        <p:spPr>
          <a:xfrm>
            <a:off x="1297800" y="38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1450440" y="838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Group 24"/>
          <p:cNvGrpSpPr/>
          <p:nvPr/>
        </p:nvGrpSpPr>
        <p:grpSpPr>
          <a:xfrm>
            <a:off x="5485680" y="176400"/>
            <a:ext cx="1676520" cy="1615680"/>
            <a:chOff x="5485680" y="176400"/>
            <a:chExt cx="1676520" cy="1615680"/>
          </a:xfrm>
        </p:grpSpPr>
        <p:grpSp>
          <p:nvGrpSpPr>
            <p:cNvPr id="376" name="Group 11"/>
            <p:cNvGrpSpPr/>
            <p:nvPr/>
          </p:nvGrpSpPr>
          <p:grpSpPr>
            <a:xfrm>
              <a:off x="5485680" y="176400"/>
              <a:ext cx="1676520" cy="1615680"/>
              <a:chOff x="5485680" y="176400"/>
              <a:chExt cx="1676520" cy="1615680"/>
            </a:xfrm>
          </p:grpSpPr>
          <p:sp>
            <p:nvSpPr>
              <p:cNvPr id="377" name="Chord 28"/>
              <p:cNvSpPr/>
              <p:nvPr/>
            </p:nvSpPr>
            <p:spPr>
              <a:xfrm rot="12133200">
                <a:off x="5664600" y="380880"/>
                <a:ext cx="131796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TextBox 29"/>
              <p:cNvSpPr/>
              <p:nvPr/>
            </p:nvSpPr>
            <p:spPr>
              <a:xfrm>
                <a:off x="6176520" y="827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Straight Connector 26"/>
            <p:cNvSpPr/>
            <p:nvPr/>
          </p:nvSpPr>
          <p:spPr>
            <a:xfrm>
              <a:off x="5562720" y="6746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Straight Connector 27"/>
            <p:cNvSpPr/>
            <p:nvPr/>
          </p:nvSpPr>
          <p:spPr>
            <a:xfrm>
              <a:off x="5562720" y="11318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Straight Connector 30"/>
          <p:cNvSpPr/>
          <p:nvPr/>
        </p:nvSpPr>
        <p:spPr>
          <a:xfrm flipV="1">
            <a:off x="1666800" y="6091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" name="Shape 31"/>
          <p:cNvCxnSpPr>
            <a:stCxn id="373" idx="1"/>
          </p:cNvCxnSpPr>
          <p:nvPr/>
        </p:nvCxnSpPr>
        <p:spPr>
          <a:xfrm flipH="1" flipV="1" rot="10800000">
            <a:off x="1294920" y="610200"/>
            <a:ext cx="610560" cy="2361240"/>
          </a:xfrm>
          <a:prstGeom prst="bentConnector4">
            <a:avLst>
              <a:gd name="adj1" fmla="val -37463"/>
              <a:gd name="adj2" fmla="val 54879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83" name="Straight Connector 32"/>
          <p:cNvSpPr/>
          <p:nvPr/>
        </p:nvSpPr>
        <p:spPr>
          <a:xfrm flipV="1">
            <a:off x="1752480" y="10663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4" name="Shape 33"/>
          <p:cNvCxnSpPr>
            <a:stCxn id="374" idx="3"/>
          </p:cNvCxnSpPr>
          <p:nvPr/>
        </p:nvCxnSpPr>
        <p:spPr>
          <a:xfrm>
            <a:off x="1819440" y="1068120"/>
            <a:ext cx="390960" cy="144684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85" name="Shape 34"/>
          <p:cNvCxnSpPr/>
          <p:nvPr/>
        </p:nvCxnSpPr>
        <p:spPr>
          <a:xfrm flipV="1">
            <a:off x="5333760" y="1142280"/>
            <a:ext cx="229320" cy="160092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86" name="Shape 35"/>
          <p:cNvCxnSpPr/>
          <p:nvPr/>
        </p:nvCxnSpPr>
        <p:spPr>
          <a:xfrm flipH="1" flipV="1" rot="5400000">
            <a:off x="4951440" y="-308160"/>
            <a:ext cx="150120" cy="2136960"/>
          </a:xfrm>
          <a:prstGeom prst="bentConnector4">
            <a:avLst>
              <a:gd name="adj1" fmla="val 1923"/>
              <a:gd name="adj2" fmla="val 47295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87" name="Cloud Callout 37"/>
          <p:cNvSpPr/>
          <p:nvPr/>
        </p:nvSpPr>
        <p:spPr>
          <a:xfrm>
            <a:off x="6781680" y="0"/>
            <a:ext cx="144792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um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loud Callout 38"/>
          <p:cNvSpPr/>
          <p:nvPr/>
        </p:nvSpPr>
        <p:spPr>
          <a:xfrm>
            <a:off x="4267080" y="3429000"/>
            <a:ext cx="1752840" cy="609480"/>
          </a:xfrm>
          <a:prstGeom prst="cloudCallout">
            <a:avLst>
              <a:gd name="adj1" fmla="val -85768"/>
              <a:gd name="adj2" fmla="val -10398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rry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066680" y="4343400"/>
          <a:ext cx="7543800" cy="2311560"/>
        </p:xfrm>
        <a:graphic>
          <a:graphicData uri="http://schemas.openxmlformats.org/drawingml/2006/table">
            <a:tbl>
              <a:tblPr/>
              <a:tblGrid>
                <a:gridCol w="1078200"/>
                <a:gridCol w="1077840"/>
                <a:gridCol w="1077840"/>
                <a:gridCol w="1076400"/>
                <a:gridCol w="1077840"/>
                <a:gridCol w="1077840"/>
                <a:gridCol w="107784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990720" y="4267080"/>
          <a:ext cx="7619760" cy="2397240"/>
        </p:xfrm>
        <a:graphic>
          <a:graphicData uri="http://schemas.openxmlformats.org/drawingml/2006/table">
            <a:tbl>
              <a:tblPr/>
              <a:tblGrid>
                <a:gridCol w="1089000"/>
                <a:gridCol w="1087200"/>
                <a:gridCol w="1089000"/>
                <a:gridCol w="1089360"/>
                <a:gridCol w="1089000"/>
                <a:gridCol w="1087200"/>
                <a:gridCol w="1089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990720" y="4267080"/>
          <a:ext cx="7772400" cy="239724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990720" y="4267080"/>
          <a:ext cx="7772400" cy="239724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268 – 269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, 6 , 8 , 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11 – 13, 18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39:21Z</dcterms:created>
  <dc:creator>teacher</dc:creator>
  <dc:description/>
  <dc:language>en-US</dc:language>
  <cp:lastModifiedBy>Laura Helbing</cp:lastModifiedBy>
  <dcterms:modified xsi:type="dcterms:W3CDTF">2011-12-09T14:04:16Z</dcterms:modified>
  <cp:revision>7</cp:revision>
  <dc:subject/>
  <dc:title>Polynomial Representations of Integers</dc:title>
</cp:coreProperties>
</file>