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616-E40E-4087-B876-9D5B18A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3FD-A4B2-47A6-BC9E-785BE5B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E0F-138E-4771-978A-86A7A563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4EE-913D-41E5-B85A-D8D55780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871-3240-413E-BC63-3B1431E4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4BC4-FC3C-4A28-AD1E-57A514C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C8EE-9615-44F3-A919-E0C6B082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5CA5-F965-4EA9-A195-9FB8AFE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95F1-7D95-4646-B755-D613240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91B-027D-4B11-B3D4-A086E60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EECD-7911-4A38-B070-4F469BC9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3F4-CEB7-4C0D-A306-2649A5F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453-ABFC-404B-AF2D-5B66B373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95C0-1302-4711-BA83-D7E6B97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97AD-404B-4126-85F7-1A9B665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47F-CACC-4D93-9ABC-6BC0A5A9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884C-20FC-489E-99A9-2DA6DD37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47EF-E06C-44F1-8EB6-8AF6516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4269-B0A3-44F1-9FD3-7AF8B14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7DA4-5262-4E56-9D21-E1CB68A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ACF7-5881-4D39-96AF-03D370BD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167C-880B-4B04-8771-7A6F5344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3C9-B18D-43D0-B5EF-12775B0D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1C8E-FC1A-4DEF-90D2-9E8CEF2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0FA4-44AF-4C70-9E01-1826716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AB15-89B7-49C8-B392-ED94A37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39D5-12F0-4BF2-9A1F-2201BE7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D90A-88E3-46BB-824F-9BA4974C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14A0-3034-47E2-A388-BFCFA212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FE16-9E78-41F3-A133-1E90CEDD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D1E3-A6B5-406A-A6C5-69E47A7F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37CA-99C3-4ED7-A471-8711B935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1F30-8843-4996-955D-CBA9338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31B-6E57-40C9-A12F-19DCE6F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98A9-D8E7-49EA-A71A-048455F4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13C8-82AD-4572-9E87-B8C4D55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AB69-72AE-4B57-92F9-FF17FDB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C90E-2093-4C5D-9DAB-6E6F197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A87F-9009-40E7-A296-D6046642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CD39-DE25-4B36-8416-4CC5423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3E27-BCB6-4A40-89A4-FEAE47C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6877-ABCE-49E9-8617-2D44994C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6042-2BB0-44EE-9EF5-CBB7D3A5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75F-37DD-4E10-8624-64B2FCE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85D-80B8-4441-AA19-8511C471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76B-3266-4E50-8277-86499287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037-0043-4D96-BC49-ACC705F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835-4911-4DCB-85C1-5105046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BD0B-18E8-4717-8152-EDF4301C1F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F20-32D8-47D4-98C5-80782BA3B1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F390-42D3-4BEA-94F9-F9C1893A4A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735-97D5-406B-A7AC-5F451E09E9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67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sson 8.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478 – 47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4 – 5, 8 - 1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210360" cy="5248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208880" y="5562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3200400" y="2514600"/>
            <a:ext cx="19810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514600" y="1752480"/>
            <a:ext cx="3429000" cy="3505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057400" y="1295280"/>
            <a:ext cx="4343400" cy="4343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3809880" y="3048120"/>
            <a:ext cx="83844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5"/>
          <p:cNvCxnSpPr/>
          <p:nvPr/>
        </p:nvCxnSpPr>
        <p:spPr>
          <a:xfrm flipV="1">
            <a:off x="1295280" y="3504600"/>
            <a:ext cx="5677920" cy="435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5" name="Straight Arrow Connector 16"/>
          <p:cNvCxnSpPr/>
          <p:nvPr/>
        </p:nvCxnSpPr>
        <p:spPr>
          <a:xfrm flipH="1">
            <a:off x="4190760" y="763560"/>
            <a:ext cx="2160" cy="5409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Oval 5"/>
          <p:cNvSpPr/>
          <p:nvPr/>
        </p:nvSpPr>
        <p:spPr>
          <a:xfrm>
            <a:off x="4038480" y="33526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/>
          <p:nvPr/>
        </p:nvCxnSpPr>
        <p:spPr>
          <a:xfrm flipV="1">
            <a:off x="1905120" y="3580920"/>
            <a:ext cx="2134080" cy="18295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20"/>
          <p:cNvCxnSpPr/>
          <p:nvPr/>
        </p:nvCxnSpPr>
        <p:spPr>
          <a:xfrm flipH="1" flipV="1">
            <a:off x="6095520" y="4647600"/>
            <a:ext cx="1829520" cy="16009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TextBox 22"/>
          <p:cNvSpPr/>
          <p:nvPr/>
        </p:nvSpPr>
        <p:spPr>
          <a:xfrm>
            <a:off x="7265880" y="62118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ad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3"/>
          <p:cNvCxnSpPr/>
          <p:nvPr/>
        </p:nvCxnSpPr>
        <p:spPr>
          <a:xfrm flipH="1" flipV="1">
            <a:off x="6171840" y="3504960"/>
            <a:ext cx="1905840" cy="76248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TextBox 24"/>
          <p:cNvSpPr/>
          <p:nvPr/>
        </p:nvSpPr>
        <p:spPr>
          <a:xfrm>
            <a:off x="7413840" y="4267080"/>
            <a:ext cx="15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6553440" cy="5771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di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t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ive pol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rdinates [r,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 in which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5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4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lot the point Q = [5, -3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4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581280" y="51814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way of thinking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 can now be negative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point can be writ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-4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-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 +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[-3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0" y="2641680"/>
            <a:ext cx="4419720" cy="3892320"/>
          </a:xfrm>
          <a:prstGeom prst="rect">
            <a:avLst/>
          </a:prstGeom>
          <a:ln w="0">
            <a:noFill/>
          </a:ln>
        </p:spPr>
      </p:pic>
      <p:sp>
        <p:nvSpPr>
          <p:cNvPr id="219" name="Oval 4"/>
          <p:cNvSpPr/>
          <p:nvPr/>
        </p:nvSpPr>
        <p:spPr>
          <a:xfrm>
            <a:off x="6095880" y="3581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60020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r = -2.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200400" y="3352680"/>
            <a:ext cx="2362320" cy="2133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52388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= 100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Straight Connector 6"/>
          <p:cNvSpPr/>
          <p:nvPr/>
        </p:nvSpPr>
        <p:spPr>
          <a:xfrm flipH="1" flipV="1">
            <a:off x="3962160" y="1905120"/>
            <a:ext cx="685800" cy="495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ind rectangular coordinates for the point V = [6, 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5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62720" y="1934640"/>
            <a:ext cx="3124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x and 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 72 = y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= 5.70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 72 = x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= 1.8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(1.854, 5.70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29" name="Straight Connector 6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2950560" y="39625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"/>
          <p:cNvSpPr/>
          <p:nvPr/>
        </p:nvSpPr>
        <p:spPr>
          <a:xfrm>
            <a:off x="2819880" y="2971800"/>
            <a:ext cx="35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-79200" y="1017720"/>
            <a:ext cx="8924760" cy="5846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ample 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38" name="Straight Connector 4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009320" y="358128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018240" y="44197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897360" y="152388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(18,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ck Chart to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35000"/>
          <a:ext cx="8229600" cy="392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lar to Recta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tangular to P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= r cos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9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 = r sin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4724280" y="2666880"/>
                <a:ext cx="3441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5105520" y="4114800"/>
                <a:ext cx="274320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22:55:39Z</dcterms:created>
  <dc:creator>Laura Helbing</dc:creator>
  <dc:description/>
  <dc:language>en-US</dc:language>
  <cp:lastModifiedBy>Laura Helbing</cp:lastModifiedBy>
  <dcterms:modified xsi:type="dcterms:W3CDTF">2011-02-14T14:53:04Z</dcterms:modified>
  <cp:revision>48</cp:revision>
  <dc:subject/>
  <dc:title>Polar Coordinates </dc:title>
</cp:coreProperties>
</file>