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714-0419-4A51-B43E-23F150F2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58C-B06E-4F7B-9FEA-6E813496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2B9-A747-4606-942D-C5925A4D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DB3-7253-4C43-862F-AE11E29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0F5-A30D-4E65-B5FB-6F109CBA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6EF-5ECA-4699-94C5-ACCCECBF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EC17-A583-4F20-B61F-9E7B9322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2A7E-D886-4E5D-B7A4-9EC4A1E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700B-9742-4F60-818C-7A683F4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2CB-72CB-4C59-B705-A15E950A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267E-613E-4A8E-A4D9-14AD8C0E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F132-19C0-406B-9427-FFDB3F01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0685-BDD7-4F85-96C9-5B50A12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3327-6DA2-44E1-81B4-7C6BA671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76D8-8E32-41BF-B37B-7E9E4BA4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BF58-048C-4599-BEA6-3A5C712E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AE62-1BF1-41ED-B8D5-B3F94C4E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0CA4-4241-43E2-86C8-5FD73042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0286-DA64-45CC-8616-9E05D346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6766F-7516-4B44-86E8-C35A7830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F748-92CD-4B6B-B2D2-1914CDBB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24F4-8FF7-4CF3-A036-BDB30F4E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D1C-9C20-4060-80E0-19F92DAF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9524-500B-4248-B74F-ED9460C6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E55C-A1F3-4366-A4EE-7D12BF3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3FCCE-C57D-457C-B1A9-FF4E410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378B-4F4C-4B49-B1AD-C45A9CD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C4BEC-DE30-426E-B095-BAE7C3E0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DF7D-E15F-42C2-8961-BCA0FF88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AC45-C06C-4C4B-9C47-C8D5AC2E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FB48-C255-43E1-A58C-3B425DEF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CB61-CEE2-4B1A-8743-B5390947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54C38-2EC0-49A1-85FC-EA1FCE7C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AE7-0053-4A63-9694-A747E71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B960-76C6-4747-B2AE-D9C1BEA3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E970-249F-42A2-A0CC-5A9D14FA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1DE5-C183-4AD0-948E-10845AD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D5EEA-D5BD-4021-ADDD-4D6BD2EF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645F-1A8D-489B-9ABD-325A7587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76A79-3A7F-4559-AE27-9E6942E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48D7B-A647-4012-B4B2-D7A8ED12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DD7AD-9EAD-48BC-AE96-98B0B3E4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FFDCF-2A4B-4B5C-AE16-F27ED8171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717-4E22-4AB9-8550-67F80DB4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CBB-872E-4D06-B3C0-12F33C8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619-A364-492D-84A6-4CC9023B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6AB-D6B7-4303-8CF9-4E784A81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EBD-2F01-4348-837A-E66853C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8F3-AAFF-46D1-AA07-FC8FDDAFDE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CDDE-1E5F-4EBE-872F-72CA05E6FE1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CA9C-7BB9-46D5-BA8B-993C273B352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E2F-913A-488D-804E-2531DC82A7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67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sson 8.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478 – 47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4 – 5, 8 - 19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210360" cy="5248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208880" y="556272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3200400" y="2514600"/>
            <a:ext cx="1981080" cy="1981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514600" y="1752480"/>
            <a:ext cx="3429000" cy="3505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057400" y="1295280"/>
            <a:ext cx="4343400" cy="4343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3809880" y="3048120"/>
            <a:ext cx="83844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traight Arrow Connector 15"/>
          <p:cNvCxnSpPr/>
          <p:nvPr/>
        </p:nvCxnSpPr>
        <p:spPr>
          <a:xfrm flipV="1">
            <a:off x="1295280" y="3504600"/>
            <a:ext cx="5677920" cy="435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5" name="Straight Arrow Connector 16"/>
          <p:cNvCxnSpPr/>
          <p:nvPr/>
        </p:nvCxnSpPr>
        <p:spPr>
          <a:xfrm flipH="1">
            <a:off x="4190760" y="763560"/>
            <a:ext cx="2160" cy="5409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Oval 5"/>
          <p:cNvSpPr/>
          <p:nvPr/>
        </p:nvSpPr>
        <p:spPr>
          <a:xfrm>
            <a:off x="4038480" y="33526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7"/>
          <p:cNvCxnSpPr/>
          <p:nvPr/>
        </p:nvCxnSpPr>
        <p:spPr>
          <a:xfrm flipV="1">
            <a:off x="1905120" y="3580920"/>
            <a:ext cx="2134080" cy="18295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20"/>
          <p:cNvCxnSpPr/>
          <p:nvPr/>
        </p:nvCxnSpPr>
        <p:spPr>
          <a:xfrm flipH="1" flipV="1">
            <a:off x="6095520" y="4647600"/>
            <a:ext cx="1829520" cy="160092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09" name="TextBox 22"/>
          <p:cNvSpPr/>
          <p:nvPr/>
        </p:nvSpPr>
        <p:spPr>
          <a:xfrm>
            <a:off x="7265880" y="6211800"/>
            <a:ext cx="13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rad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3"/>
          <p:cNvCxnSpPr/>
          <p:nvPr/>
        </p:nvCxnSpPr>
        <p:spPr>
          <a:xfrm flipH="1" flipV="1">
            <a:off x="6171840" y="3504960"/>
            <a:ext cx="1905840" cy="762480"/>
          </a:xfrm>
          <a:prstGeom prst="straightConnector1">
            <a:avLst/>
          </a:prstGeom>
          <a:ln w="7632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TextBox 24"/>
          <p:cNvSpPr/>
          <p:nvPr/>
        </p:nvSpPr>
        <p:spPr>
          <a:xfrm>
            <a:off x="7413840" y="4267080"/>
            <a:ext cx="154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6553440" cy="5771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522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diu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t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1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ive pol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ordinates [r,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 in which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&gt;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5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4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lot the point Q = [5, -3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4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3581280" y="51814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w way of thinking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 can now be negative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point can be writ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3, -4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[-3, 2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 +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[-3, 5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3]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72000" y="2641680"/>
            <a:ext cx="4419720" cy="3892320"/>
          </a:xfrm>
          <a:prstGeom prst="rect">
            <a:avLst/>
          </a:prstGeom>
          <a:ln w="0">
            <a:noFill/>
          </a:ln>
        </p:spPr>
      </p:pic>
      <p:sp>
        <p:nvSpPr>
          <p:cNvPr id="219" name="Oval 4"/>
          <p:cNvSpPr/>
          <p:nvPr/>
        </p:nvSpPr>
        <p:spPr>
          <a:xfrm>
            <a:off x="6095880" y="3581280"/>
            <a:ext cx="30492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60020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r = -2.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3200400" y="3352680"/>
            <a:ext cx="2362320" cy="2133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523880" y="1959120"/>
            <a:ext cx="5562720" cy="48988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ketch all solutions [r,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] to the equation 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θ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= 100˚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Straight Connector 6"/>
          <p:cNvSpPr/>
          <p:nvPr/>
        </p:nvSpPr>
        <p:spPr>
          <a:xfrm flipH="1" flipV="1">
            <a:off x="3962160" y="1905120"/>
            <a:ext cx="685800" cy="4952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ind rectangular coordinates for the point V = [6, 2</a:t>
            </a:r>
            <a:r>
              <a:rPr b="0" lang="el-GR" sz="4500" spc="-1" strike="noStrike">
                <a:solidFill>
                  <a:srgbClr val="04617b"/>
                </a:solidFill>
                <a:latin typeface="Calibri"/>
              </a:rPr>
              <a:t>π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5]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62720" y="1934640"/>
            <a:ext cx="3124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x and 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 72 = y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 = 5.70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s 72 = x/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 = 1.85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, (1.854, 5.70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29" name="Straight Connector 6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"/>
          <p:cNvSpPr/>
          <p:nvPr/>
        </p:nvSpPr>
        <p:spPr>
          <a:xfrm>
            <a:off x="2950560" y="39625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6"/>
          <p:cNvSpPr/>
          <p:nvPr/>
        </p:nvSpPr>
        <p:spPr>
          <a:xfrm>
            <a:off x="2819880" y="2971800"/>
            <a:ext cx="35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" descr=""/>
          <p:cNvPicPr/>
          <p:nvPr/>
        </p:nvPicPr>
        <p:blipFill>
          <a:blip r:embed="rId1"/>
          <a:stretch/>
        </p:blipFill>
        <p:spPr>
          <a:xfrm>
            <a:off x="-79200" y="1017720"/>
            <a:ext cx="8924760" cy="5846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8229600" cy="78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xample 4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1959120"/>
            <a:ext cx="5562720" cy="4898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0"/>
              </a:srgbClr>
            </a:outerShdw>
          </a:effectLst>
        </p:spPr>
      </p:pic>
      <p:sp>
        <p:nvSpPr>
          <p:cNvPr id="238" name="Straight Connector 4"/>
          <p:cNvSpPr/>
          <p:nvPr/>
        </p:nvSpPr>
        <p:spPr>
          <a:xfrm flipV="1">
            <a:off x="2742480" y="2057400"/>
            <a:ext cx="1143000" cy="2362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 flipV="1">
            <a:off x="3809880" y="2209320"/>
            <a:ext cx="76320" cy="221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2743200" y="4419720"/>
            <a:ext cx="1066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009320" y="358128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018240" y="4419720"/>
            <a:ext cx="52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897360" y="1523880"/>
            <a:ext cx="1197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nstantia"/>
              </a:rPr>
              <a:t>(18,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ick Chart to help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935000"/>
          <a:ext cx="8229600" cy="392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lar to Recta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ctangular to Po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x = r cos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9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 = r sin </a:t>
                      </a:r>
                      <a:r>
                        <a:rPr b="1" lang="el-GR" sz="4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θ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7" name="Object 2"/>
              <p:cNvSpPr txBox="1"/>
              <p:nvPr/>
            </p:nvSpPr>
            <p:spPr>
              <a:xfrm>
                <a:off x="4724280" y="2666880"/>
                <a:ext cx="344196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5105520" y="4114800"/>
                <a:ext cx="274320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22:55:39Z</dcterms:created>
  <dc:creator>Laura Helbing</dc:creator>
  <dc:description/>
  <dc:language>en-US</dc:language>
  <cp:lastModifiedBy>Laura Helbing</cp:lastModifiedBy>
  <dcterms:modified xsi:type="dcterms:W3CDTF">2011-02-14T14:53:04Z</dcterms:modified>
  <cp:revision>48</cp:revision>
  <dc:subject/>
  <dc:title>Polar Coordinates </dc:title>
</cp:coreProperties>
</file>