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38F-C1E9-4284-A1BE-C8AC7618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879-9F1B-4F2C-B985-9D802EAA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CB0-C6CB-40EF-AF43-D0E48601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1DB-5962-4DFD-8014-7049FC59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964-BC36-4001-A1A1-19C6FF53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1C33-FEB9-4BF0-9DD8-95310826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BAFA-3732-4391-A4B9-1842717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F5E-6FB6-4EAB-AF1C-41C131EF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4F7-C00B-4450-BEF4-0E0F7BDD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B444-D4F6-421E-B0DE-2C5864FE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A2C9-A630-4525-97F0-35E24E1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56D8-3A41-474E-BE14-E699CDF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A9C9-F3C3-4147-97AC-1714A53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78CA-7FE8-4D24-8FF3-86EFE77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6812-F76A-45E9-B71F-A6808676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8303-BE81-4745-B9CC-0918D01A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39CA-83B6-42B6-AFC2-504144E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FBA8-34CA-4581-B16E-9C2D24C4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FF814-D496-4164-929A-4242401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5C25-E5A0-408F-B773-0993338F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F8D2-4EA4-4521-ACE7-EB64964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086D-B9FF-4760-AA84-2108FC9D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C6C-C465-43EE-8DF1-DC1AFE4A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86E9-3ADB-4F08-941B-CCB261B7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539CB-C7F6-4E79-B682-A8AEE48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6FE5-3095-4DF7-A790-46A19358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9FD8F-78D5-4B82-934C-479F525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02B93-7405-4A40-94ED-E2E15BB1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5317B-83A4-4ED8-9972-A22260AC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A348-7A8A-4A35-B4E6-0711C4CB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4B56C-6D02-4DB2-95CA-B63CDA46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70C95-A3C9-49DF-96A4-05ED542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8542E-8B2A-48DE-9A4D-A799E3F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C19-701A-4ADB-B555-C5EC86B1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A04B-C3F2-4DBD-BD8D-15ADA08E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7D46-7B20-4AE3-8D19-EAD2573F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3E699-2A90-49F7-9B10-80DAB35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23F8C-0157-46FF-B2F4-600F0C08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1428-36E7-44F1-80DD-E5448FB6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61C9-2A2D-489E-A14B-F5E4CE61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A6C-D78D-4E1F-B104-2AFE7161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6E94D-75C5-4E7A-BE24-743DA090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2AD7B-F6B8-4715-9014-BD7540D3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765-AC74-454B-81A9-E5E852EB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358-6B6C-48CF-8BDD-4AB6F860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755-7720-4C53-8DCF-3E0A5A58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99B9-59C4-4649-8CB6-04F0518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A05-876E-43EF-B442-FE37416D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AE7F-0C55-482F-9797-063B51020C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317-B8F1-464A-AF81-DCF6DB3E960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59F-CDD1-4CE3-8222-82383E00A28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EF3A-FFE0-4C88-9F64-FC3E78BBE08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67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sson 8.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478 – 47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4 – 5, 8 - 1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210360" cy="5248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208880" y="5562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3200400" y="2514600"/>
            <a:ext cx="19810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514600" y="1752480"/>
            <a:ext cx="3429000" cy="3505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057400" y="1295280"/>
            <a:ext cx="4343400" cy="4343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3809880" y="3048120"/>
            <a:ext cx="83844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5"/>
          <p:cNvCxnSpPr/>
          <p:nvPr/>
        </p:nvCxnSpPr>
        <p:spPr>
          <a:xfrm flipV="1">
            <a:off x="1295280" y="3504600"/>
            <a:ext cx="5677920" cy="435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5" name="Straight Arrow Connector 16"/>
          <p:cNvCxnSpPr/>
          <p:nvPr/>
        </p:nvCxnSpPr>
        <p:spPr>
          <a:xfrm flipH="1">
            <a:off x="4190760" y="763560"/>
            <a:ext cx="2160" cy="5409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Oval 5"/>
          <p:cNvSpPr/>
          <p:nvPr/>
        </p:nvSpPr>
        <p:spPr>
          <a:xfrm>
            <a:off x="4038480" y="33526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/>
          <p:nvPr/>
        </p:nvCxnSpPr>
        <p:spPr>
          <a:xfrm flipV="1">
            <a:off x="1905120" y="3580920"/>
            <a:ext cx="2134080" cy="18295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20"/>
          <p:cNvCxnSpPr/>
          <p:nvPr/>
        </p:nvCxnSpPr>
        <p:spPr>
          <a:xfrm flipH="1" flipV="1">
            <a:off x="6095520" y="4647600"/>
            <a:ext cx="1829520" cy="16009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TextBox 22"/>
          <p:cNvSpPr/>
          <p:nvPr/>
        </p:nvSpPr>
        <p:spPr>
          <a:xfrm>
            <a:off x="7265880" y="62118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ad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3"/>
          <p:cNvCxnSpPr/>
          <p:nvPr/>
        </p:nvCxnSpPr>
        <p:spPr>
          <a:xfrm flipH="1" flipV="1">
            <a:off x="6171840" y="3504960"/>
            <a:ext cx="1905840" cy="76248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TextBox 24"/>
          <p:cNvSpPr/>
          <p:nvPr/>
        </p:nvSpPr>
        <p:spPr>
          <a:xfrm>
            <a:off x="7413840" y="4267080"/>
            <a:ext cx="15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6553440" cy="5771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di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t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ive pol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rdinates [r,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 in which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5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4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lot the point Q = [5, -3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4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581280" y="51814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way of thinking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 can now be negative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point can be writ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-4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-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 +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[-3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0" y="2641680"/>
            <a:ext cx="4419720" cy="3892320"/>
          </a:xfrm>
          <a:prstGeom prst="rect">
            <a:avLst/>
          </a:prstGeom>
          <a:ln w="0">
            <a:noFill/>
          </a:ln>
        </p:spPr>
      </p:pic>
      <p:sp>
        <p:nvSpPr>
          <p:cNvPr id="219" name="Oval 4"/>
          <p:cNvSpPr/>
          <p:nvPr/>
        </p:nvSpPr>
        <p:spPr>
          <a:xfrm>
            <a:off x="6095880" y="3581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60020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r = -2.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200400" y="3352680"/>
            <a:ext cx="2362320" cy="2133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52388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= 100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Straight Connector 6"/>
          <p:cNvSpPr/>
          <p:nvPr/>
        </p:nvSpPr>
        <p:spPr>
          <a:xfrm flipH="1" flipV="1">
            <a:off x="3962160" y="1905120"/>
            <a:ext cx="685800" cy="495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ind rectangular coordinates for the point V = [6, 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5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62720" y="1934640"/>
            <a:ext cx="3124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x and 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 72 = y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= 5.70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 72 = x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= 1.8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(1.854, 5.70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29" name="Straight Connector 6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2950560" y="39625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"/>
          <p:cNvSpPr/>
          <p:nvPr/>
        </p:nvSpPr>
        <p:spPr>
          <a:xfrm>
            <a:off x="2819880" y="2971800"/>
            <a:ext cx="35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-79200" y="1017720"/>
            <a:ext cx="8924760" cy="5846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ample 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38" name="Straight Connector 4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009320" y="358128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018240" y="44197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897360" y="152388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(18,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ck Chart to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35000"/>
          <a:ext cx="8229600" cy="392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lar to Recta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tangular to P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= r cos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9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 = r sin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4724280" y="2666880"/>
                <a:ext cx="3441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5105520" y="4114800"/>
                <a:ext cx="274320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22:55:39Z</dcterms:created>
  <dc:creator>Laura Helbing</dc:creator>
  <dc:description/>
  <dc:language>en-US</dc:language>
  <cp:lastModifiedBy>Laura Helbing</cp:lastModifiedBy>
  <dcterms:modified xsi:type="dcterms:W3CDTF">2011-02-14T14:53:04Z</dcterms:modified>
  <cp:revision>48</cp:revision>
  <dc:subject/>
  <dc:title>Polar Coordinates </dc:title>
</cp:coreProperties>
</file>