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B48F-89D7-4F49-AD9B-0D0B3C32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B54A-CBE3-489C-AFB5-6CCAA68E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3F4D-9F68-4301-8C56-95E7F049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532F-CB73-4E11-A8A0-5E01A7F2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9BFA-9B6F-4F7C-BF1F-C8472332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837B-7D7F-481C-8E6D-9FE0DD0B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4C5A-B421-4834-BC40-2DCEFFF1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C3BD-F944-4CD0-900B-DC655C40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BE6A-6432-4A10-AE68-A0E4849B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DE45-9010-4167-8FC2-C5A4EE2D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008F-4778-4F2D-9DE0-D84E15FF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E307-BF5C-450F-9B55-6A21EF95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7AF0-8FD9-4608-BBB5-1FD3B780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1D42-F117-4852-8906-DD4BB273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E26D-9F47-4D9F-9F43-C8E97751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8326-4C91-4858-95AD-10ED8348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1124-36F8-40F9-835E-2674A354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CC439-537A-4BE7-A13C-AA36211A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2C459-72AF-4EA3-B72E-35DB204D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B09AA-D8B6-4D3C-9AA9-CC6DEF84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618CA-B172-4AE6-9468-6215A33A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90C54-699C-4C7F-A047-47AA8737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B1A-2E8A-4ACE-A64E-08F600A6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59D00-5956-4D62-A844-5614D4B9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A1A5D-DC9C-453E-B62C-ECC36625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05166-4455-40F2-B01D-C572B8DF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D5B09-D607-4AE6-A8B7-5F31A57A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EF943-0EFC-4E56-B5BD-2C693BEA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0567F-7A60-429F-81A3-0CAD1E90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59F7E-5879-4634-A6AE-415F4539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AE07F-80C7-4C05-89A2-018B20A0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CC7BC-72E5-4387-975B-B9FB6E32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762EE-E4E0-46A5-A0F7-0D6FA6F0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64C-1FD3-4575-B48F-F9826F14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021BB-C588-4F8A-AC9F-9E943ABD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F876D-9E6D-428F-A619-FAFCA6F5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A1DCA-4AA4-4EAC-A2AA-626A0616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2D64C-00C8-4C10-8B56-CE5C47B0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3B7AA-C715-46C8-85BB-8C0CB255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0EDC3-5F5E-4753-A86F-AFEA5C75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A008B-EEDC-4FD1-8056-3DD926CC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DB9CB-1804-4AED-BC13-77920898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FF5E0-EF51-45FE-8CF6-5B072F37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CA79-FF65-43D2-969B-4941E406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97F-CF64-4E35-83BE-1213D4BD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0C08-1353-4919-A49E-AD61E93D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8763-8C1C-48BE-A69C-9E46B8A1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2577-2382-46CC-BBDB-91CB1364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F482-EDC8-4617-8B78-FA7349CF5CF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5617-0158-4CEF-81AC-DC52F98D216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1636-2AE7-446C-9728-22C792B238E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963E-AB65-493E-88E0-AF82DBB1D03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467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esson 8.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nstantia"/>
              </a:rPr>
              <a:t>Pages 478 – 479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nstantia"/>
              </a:rPr>
              <a:t>4 – 5, 8 - 19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210360" cy="52484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1208880" y="55627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3200400" y="2514600"/>
            <a:ext cx="1981080" cy="1981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2514600" y="1752480"/>
            <a:ext cx="3429000" cy="3505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2057400" y="1295280"/>
            <a:ext cx="4343400" cy="4343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3"/>
          <p:cNvSpPr/>
          <p:nvPr/>
        </p:nvSpPr>
        <p:spPr>
          <a:xfrm>
            <a:off x="3809880" y="3048120"/>
            <a:ext cx="838440" cy="838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Straight Arrow Connector 15"/>
          <p:cNvCxnSpPr/>
          <p:nvPr/>
        </p:nvCxnSpPr>
        <p:spPr>
          <a:xfrm flipV="1">
            <a:off x="1295280" y="3504600"/>
            <a:ext cx="5677920" cy="4356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5" name="Straight Arrow Connector 16"/>
          <p:cNvCxnSpPr/>
          <p:nvPr/>
        </p:nvCxnSpPr>
        <p:spPr>
          <a:xfrm flipH="1">
            <a:off x="4190760" y="763560"/>
            <a:ext cx="2160" cy="540936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Oval 5"/>
          <p:cNvSpPr/>
          <p:nvPr/>
        </p:nvSpPr>
        <p:spPr>
          <a:xfrm>
            <a:off x="4038480" y="33526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Straight Arrow Connector 7"/>
          <p:cNvCxnSpPr/>
          <p:nvPr/>
        </p:nvCxnSpPr>
        <p:spPr>
          <a:xfrm flipV="1">
            <a:off x="1905120" y="3580920"/>
            <a:ext cx="2134080" cy="1829520"/>
          </a:xfrm>
          <a:prstGeom prst="straightConnector1">
            <a:avLst/>
          </a:prstGeom>
          <a:ln w="7632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8" name="Straight Arrow Connector 20"/>
          <p:cNvCxnSpPr/>
          <p:nvPr/>
        </p:nvCxnSpPr>
        <p:spPr>
          <a:xfrm flipH="1" flipV="1">
            <a:off x="6095520" y="4647600"/>
            <a:ext cx="1829520" cy="1600920"/>
          </a:xfrm>
          <a:prstGeom prst="straightConnector1">
            <a:avLst/>
          </a:prstGeom>
          <a:ln w="7632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09" name="TextBox 22"/>
          <p:cNvSpPr/>
          <p:nvPr/>
        </p:nvSpPr>
        <p:spPr>
          <a:xfrm>
            <a:off x="7265880" y="6211800"/>
            <a:ext cx="13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rad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Straight Arrow Connector 23"/>
          <p:cNvCxnSpPr/>
          <p:nvPr/>
        </p:nvCxnSpPr>
        <p:spPr>
          <a:xfrm flipH="1" flipV="1">
            <a:off x="6171840" y="3504960"/>
            <a:ext cx="1905840" cy="762480"/>
          </a:xfrm>
          <a:prstGeom prst="straightConnector1">
            <a:avLst/>
          </a:prstGeom>
          <a:ln w="7632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1" name="TextBox 24"/>
          <p:cNvSpPr/>
          <p:nvPr/>
        </p:nvSpPr>
        <p:spPr>
          <a:xfrm>
            <a:off x="7413840" y="4267080"/>
            <a:ext cx="154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ol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ax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6553440" cy="5771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15228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diu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t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13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. Give pola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ordinates [r,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A in which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&gt; 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[5, 5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4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lot the point Q = [5, -3</a:t>
            </a: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π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/4]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3581280" y="51814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w way of thinking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 can now be negative!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point can be writt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[3, 2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3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[3, -4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3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[-3, 2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3 +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]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[-3, 5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3]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572000" y="2641680"/>
            <a:ext cx="4419720" cy="3892320"/>
          </a:xfrm>
          <a:prstGeom prst="rect">
            <a:avLst/>
          </a:prstGeom>
          <a:ln w="0">
            <a:noFill/>
          </a:ln>
        </p:spPr>
      </p:pic>
      <p:sp>
        <p:nvSpPr>
          <p:cNvPr id="219" name="Oval 4"/>
          <p:cNvSpPr/>
          <p:nvPr/>
        </p:nvSpPr>
        <p:spPr>
          <a:xfrm>
            <a:off x="6095880" y="35812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600200" y="1959120"/>
            <a:ext cx="5562720" cy="48988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ketch all solutions [r,</a:t>
            </a: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θ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] to the equation r = -2.5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Oval 4"/>
          <p:cNvSpPr/>
          <p:nvPr/>
        </p:nvSpPr>
        <p:spPr>
          <a:xfrm>
            <a:off x="3200400" y="3352680"/>
            <a:ext cx="2362320" cy="2133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523880" y="1959120"/>
            <a:ext cx="5562720" cy="48988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ketch all solutions [r,</a:t>
            </a: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θ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] to the equation </a:t>
            </a: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θ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= 100˚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Straight Connector 6"/>
          <p:cNvSpPr/>
          <p:nvPr/>
        </p:nvSpPr>
        <p:spPr>
          <a:xfrm flipH="1" flipV="1">
            <a:off x="3962160" y="1905120"/>
            <a:ext cx="685800" cy="4952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Find rectangular coordinates for the point V = [6, 2</a:t>
            </a: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π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/5]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562720" y="1934640"/>
            <a:ext cx="3124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nd x and 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n 72 = y/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 = 5.70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s 72 = x/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 = 1.85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, (1.854, 5.70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0" y="1959120"/>
            <a:ext cx="5562720" cy="48988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</p:pic>
      <p:sp>
        <p:nvSpPr>
          <p:cNvPr id="229" name="Straight Connector 6"/>
          <p:cNvSpPr/>
          <p:nvPr/>
        </p:nvSpPr>
        <p:spPr>
          <a:xfrm flipV="1">
            <a:off x="2742480" y="2057400"/>
            <a:ext cx="1143000" cy="2362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8"/>
          <p:cNvSpPr/>
          <p:nvPr/>
        </p:nvSpPr>
        <p:spPr>
          <a:xfrm flipV="1">
            <a:off x="3809880" y="2209320"/>
            <a:ext cx="76320" cy="221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2"/>
          <p:cNvSpPr/>
          <p:nvPr/>
        </p:nvSpPr>
        <p:spPr>
          <a:xfrm>
            <a:off x="2743200" y="4419720"/>
            <a:ext cx="10666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5"/>
          <p:cNvSpPr/>
          <p:nvPr/>
        </p:nvSpPr>
        <p:spPr>
          <a:xfrm>
            <a:off x="2950560" y="3962520"/>
            <a:ext cx="52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6"/>
          <p:cNvSpPr/>
          <p:nvPr/>
        </p:nvSpPr>
        <p:spPr>
          <a:xfrm>
            <a:off x="2819880" y="2971800"/>
            <a:ext cx="351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" descr=""/>
          <p:cNvPicPr/>
          <p:nvPr/>
        </p:nvPicPr>
        <p:blipFill>
          <a:blip r:embed="rId1"/>
          <a:stretch/>
        </p:blipFill>
        <p:spPr>
          <a:xfrm>
            <a:off x="-79200" y="1017720"/>
            <a:ext cx="8924760" cy="58467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Example 4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0" y="1959120"/>
            <a:ext cx="5562720" cy="48988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</p:pic>
      <p:sp>
        <p:nvSpPr>
          <p:cNvPr id="238" name="Straight Connector 4"/>
          <p:cNvSpPr/>
          <p:nvPr/>
        </p:nvSpPr>
        <p:spPr>
          <a:xfrm flipV="1">
            <a:off x="2742480" y="2057400"/>
            <a:ext cx="1143000" cy="2362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5"/>
          <p:cNvSpPr/>
          <p:nvPr/>
        </p:nvSpPr>
        <p:spPr>
          <a:xfrm flipV="1">
            <a:off x="3809880" y="2209320"/>
            <a:ext cx="76320" cy="221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6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7"/>
          <p:cNvSpPr/>
          <p:nvPr/>
        </p:nvSpPr>
        <p:spPr>
          <a:xfrm>
            <a:off x="2743200" y="4419720"/>
            <a:ext cx="10666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4009320" y="3581280"/>
            <a:ext cx="52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3018240" y="4419720"/>
            <a:ext cx="52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0"/>
          <p:cNvSpPr/>
          <p:nvPr/>
        </p:nvSpPr>
        <p:spPr>
          <a:xfrm>
            <a:off x="3897360" y="1523880"/>
            <a:ext cx="1197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(18,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ick Chart to help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1935000"/>
          <a:ext cx="8229600" cy="3922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olar to Recta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ectangular to Po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 = r cos </a:t>
                      </a:r>
                      <a:r>
                        <a:rPr b="1" lang="el-GR" sz="4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89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 = r sin </a:t>
                      </a:r>
                      <a:r>
                        <a:rPr b="1" lang="el-GR" sz="4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47" name="Object 2"/>
              <p:cNvSpPr txBox="1"/>
              <p:nvPr/>
            </p:nvSpPr>
            <p:spPr>
              <a:xfrm>
                <a:off x="4724280" y="2666880"/>
                <a:ext cx="34419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3"/>
              <p:cNvSpPr txBox="1"/>
              <p:nvPr/>
            </p:nvSpPr>
            <p:spPr>
              <a:xfrm>
                <a:off x="5105520" y="4114800"/>
                <a:ext cx="2743200" cy="17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22:55:39Z</dcterms:created>
  <dc:creator>Laura Helbing</dc:creator>
  <dc:description/>
  <dc:language>en-US</dc:language>
  <cp:lastModifiedBy>Laura Helbing</cp:lastModifiedBy>
  <dcterms:modified xsi:type="dcterms:W3CDTF">2011-02-14T14:53:04Z</dcterms:modified>
  <cp:revision>48</cp:revision>
  <dc:subject/>
  <dc:title>Polar Coordinates </dc:title>
</cp:coreProperties>
</file>