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BB8C-1CCE-44C0-8B68-3B50115A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70FC-65F7-4633-9524-F64D4E42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CD86-B21E-4D34-849F-8F6B52E51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7A21-D54A-49EA-8EFE-1FBCFB18A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744E-35A7-4EB8-852F-F7A37466B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1CB1-BB1D-4CFB-A3DC-2B1F7886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47EB-0EBE-4A13-AC55-DD1298C4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9D3A-FBA0-4D8C-B32F-F045A79E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800A-ADC0-4892-868B-B55D5294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C262-73EC-42BC-8C13-F68C5128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AE79-DF54-4C97-9138-EFBE51C6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0F1B-BD3B-4E3E-AE40-BF1729C2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F4B5-0E86-4D86-8479-7F506A15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7809-CFBC-4762-84AF-5FA929E9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C911-036D-4A75-A25A-3879C747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C42D-76E4-4109-8AA1-B87612B29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B93B-DA8D-4B3E-92D1-B0BF1F567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4D0B27-ED67-40A6-9F70-531FC4FDD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CB8A63-99AF-474E-9A9A-0D8EE8DE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500F0B-0B6F-471A-BFC5-9ECB3A83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F3E88A-0009-429A-AB0B-A0AEB862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79CE1E-0E07-47D0-8091-04BA54FC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4A86-411C-4F9C-8D73-89072ADA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E52843-0A92-4B03-A7C6-88715245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0F8ECD-4D72-434F-9637-E02F13BC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852E62-D0CA-49C1-B7B9-C017791E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0E30A1-103F-4095-A8C1-1F9C7052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8B551E-AD99-469B-9E0B-61E02335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4C0310-2D2D-48AA-8CAB-AA0158E0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D359DF-CEC3-4D9E-8240-EB0D5F76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D87A8-30E8-47A3-9879-FC321B971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A8BBC-9D38-460C-806A-0588044D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A4E76-5DE7-4A93-8B99-A31E85C7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9BAC-01B8-49F2-9519-B4222D49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193B7-81FE-4292-9B54-17296409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1A87A-AFEB-4791-B315-853EE7DD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73EBD-8673-4809-971C-DB3D8140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B4F0C-FC6C-49F5-A76B-04E8FA99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6A1F5-EA8A-48BD-A077-E81E9769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E10E4-4CDA-4310-AD0C-38E3BD9E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930D5-952A-43A6-AE7D-8BB16AF5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6C8AC-E4E5-4723-A6BC-E40742EFD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B5D1C-5744-4AA7-99C3-F5AF5853F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66EE5B-607B-496D-A7C8-F039F48F4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F5C8-F25D-4486-978B-21C267E7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634D57-9564-44BA-8523-12D91688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7D0A47-29B9-4565-A013-EC69DF3D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A55B0D-58AC-49A8-99A7-3698E540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4E0FFF-DFF0-4FFD-A2C9-EF0F68E1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8EAB1B-D7BC-4532-A44A-D4F99A84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F9DC08-132F-488E-8C89-47BE718F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432F30-E0C2-4A04-B128-C7FDC93D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DEE5F9-BB70-441A-8ECC-83503D45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E68A14-D93E-47AC-A780-A14D028E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786886-17EE-4A0E-9292-D104CED9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5AA2-B32D-41AB-BA62-A36ACEAB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D3AB81-9252-49E9-AA4B-C16753D5A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F43F4A-8C5B-4CBD-8E19-6F290888A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C69B8D-0949-476D-B441-7C4E3480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24A9A3-120D-43FE-92B1-004309AB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40C4FC-1641-4388-8D36-D6E4D7EC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8A92B3-FB91-4C05-8341-45266B60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B2AFA3-8100-402D-A2A7-B065A148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4E3885-A949-46AB-8F88-FCA4EE86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C3F2C2-B686-4B30-9D3D-A065E232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04D90C-C695-4ED3-B6BF-28805109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6FA9-3996-40BB-A560-BE0491E9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41E88D-5B1E-4731-885B-AD30AB38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F20F58-29CF-4469-8223-8EE8C3F3C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AFD0A4-5FC4-4D69-BF30-FB498B91D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F5BD8B-6ACE-41EE-AB62-21C9A663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58C443-BFCD-406C-B9A0-6AF02D3B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E21A3D-5BAB-4AD7-9497-18941D83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359971-A191-42AF-8EBC-F4ABBF2C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6C0034-1409-4EC2-B0A1-51EAD2FE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D2D573-3EF2-4B69-A1F3-97744020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B4C36B-CA8E-4B1B-8FB2-2AA23070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31A3-CF1B-41E9-8153-C2F9D7FD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5D0126-2D25-4966-8F42-E86778D2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5547A1-196D-422A-AB28-9B6F6CE5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D2036B-FFF8-49AB-8AB2-B5DA86BB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C5D51B-6B15-4205-958C-5BE7B168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6B28E7-4EC0-4DE7-A1E9-232F86BA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48CB-3561-444E-BBB5-E31F436D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4A73-3145-4CCF-AF3A-C27802C7E45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4BE5-BD5C-4B38-8EEF-1B111BFFA20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BC28-AE14-48E9-B405-81437E7A281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4e7e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4e7e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6A47-E13E-48A0-A6EB-5EE993EA003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92FC-D315-4875-8635-47F8B77C1EB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AD4B-F573-4794-B7B0-DE5A704845F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81BD-68ED-4197-8F4D-99F0D6960CB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13f9a"/>
                </a:solidFill>
                <a:latin typeface="Century Schoolbook"/>
              </a:rPr>
              <a:t>MODULAR ARITHMETIC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13f9a"/>
                </a:solidFill>
                <a:latin typeface="Century Schoolbook"/>
              </a:rPr>
              <a:t>Lesson 4.6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4674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EXAMPLE 6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762120"/>
            <a:ext cx="74674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ve by contradictio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th one exception, If n is a prime number, then n + 1 is not a prime number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ought:  Cannot be true, because if n is a prime number, it must be odd.  Therefore, n + 1 is eve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ssume n + 1 IS a prime numb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 ≡ 1 (mod 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 + 1 ≡ 1 (mod 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ubtracting one from both sides, n ≡ 0 (mod 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TRADICTION!!!  Therefore, n + 1 is not a prime numb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HOMEWORK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entury Schoolbook"/>
              </a:rPr>
              <a:t>Pages 261 – 262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entury Schoolbook"/>
              </a:rPr>
              <a:t>1-3, 5-11, 19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600200"/>
            <a:ext cx="78487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s section, we are grouping numbers, based on their reminde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8 ÷ 4 = 4 r.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2 ÷ 4 = 5 r.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78 ÷ 4 = 19 r.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se are said to be in the same congruence clas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8 ≡ 22 (mod 4)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bc their remainders are the sam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HOW MANY CONGRUENCE CLASSES ARE THERE IN MODULO 7?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77 ÷ 7 = 11 r. 0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78 ÷ 7 = 11 r.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79 ÷ 7 = 11 r.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80 ÷ 7 = 11 r.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81 ÷ 7 = 11 r. 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82 ÷ 7 = 11 r. 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83 ÷ 7 = 11 r. 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84 ÷ 7 = 12 r. 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TextBox 4"/>
          <p:cNvSpPr/>
          <p:nvPr/>
        </p:nvSpPr>
        <p:spPr>
          <a:xfrm>
            <a:off x="3175920" y="6019920"/>
            <a:ext cx="63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5"/>
          <p:cNvSpPr/>
          <p:nvPr/>
        </p:nvSpPr>
        <p:spPr>
          <a:xfrm>
            <a:off x="3023640" y="1676520"/>
            <a:ext cx="63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6"/>
          <p:cNvSpPr/>
          <p:nvPr/>
        </p:nvSpPr>
        <p:spPr>
          <a:xfrm>
            <a:off x="3023640" y="2209680"/>
            <a:ext cx="63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7"/>
          <p:cNvSpPr/>
          <p:nvPr/>
        </p:nvSpPr>
        <p:spPr>
          <a:xfrm>
            <a:off x="3023640" y="2895480"/>
            <a:ext cx="63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8"/>
          <p:cNvSpPr/>
          <p:nvPr/>
        </p:nvSpPr>
        <p:spPr>
          <a:xfrm>
            <a:off x="3023640" y="3505320"/>
            <a:ext cx="63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9"/>
          <p:cNvSpPr/>
          <p:nvPr/>
        </p:nvSpPr>
        <p:spPr>
          <a:xfrm>
            <a:off x="3023640" y="4114800"/>
            <a:ext cx="63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0"/>
          <p:cNvSpPr/>
          <p:nvPr/>
        </p:nvSpPr>
        <p:spPr>
          <a:xfrm>
            <a:off x="3099600" y="4724280"/>
            <a:ext cx="63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1"/>
          <p:cNvSpPr/>
          <p:nvPr/>
        </p:nvSpPr>
        <p:spPr>
          <a:xfrm>
            <a:off x="3099600" y="5334120"/>
            <a:ext cx="63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Straight Arrow Connector 13"/>
          <p:cNvCxnSpPr>
            <a:stCxn id="357" idx="3"/>
            <a:endCxn id="366" idx="1"/>
          </p:cNvCxnSpPr>
          <p:nvPr/>
        </p:nvCxnSpPr>
        <p:spPr>
          <a:xfrm flipV="1">
            <a:off x="3862080" y="3796560"/>
            <a:ext cx="1243800" cy="2547000"/>
          </a:xfrm>
          <a:prstGeom prst="straightConnector1">
            <a:avLst/>
          </a:prstGeom>
          <a:ln w="12600">
            <a:solidFill>
              <a:srgbClr val="b71850"/>
            </a:solidFill>
            <a:miter/>
            <a:tailEnd len="med" type="arrow" w="med"/>
          </a:ln>
        </p:spPr>
      </p:cxnSp>
      <p:cxnSp>
        <p:nvCxnSpPr>
          <p:cNvPr id="367" name="Straight Arrow Connector 15"/>
          <p:cNvCxnSpPr>
            <a:endCxn id="366" idx="1"/>
          </p:cNvCxnSpPr>
          <p:nvPr/>
        </p:nvCxnSpPr>
        <p:spPr>
          <a:xfrm>
            <a:off x="3657600" y="2133360"/>
            <a:ext cx="1448640" cy="1664280"/>
          </a:xfrm>
          <a:prstGeom prst="straightConnector1">
            <a:avLst/>
          </a:prstGeom>
          <a:ln w="12600">
            <a:solidFill>
              <a:srgbClr val="b71850"/>
            </a:solidFill>
            <a:miter/>
            <a:tailEnd len="med" type="arrow" w="med"/>
          </a:ln>
        </p:spPr>
      </p:cxnSp>
      <p:sp>
        <p:nvSpPr>
          <p:cNvPr id="366" name="TextBox 16"/>
          <p:cNvSpPr/>
          <p:nvPr/>
        </p:nvSpPr>
        <p:spPr>
          <a:xfrm>
            <a:off x="5153040" y="350532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77 ≡ 84 (mod 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7"/>
          <p:cNvSpPr/>
          <p:nvPr/>
        </p:nvSpPr>
        <p:spPr>
          <a:xfrm>
            <a:off x="4645440" y="5029200"/>
            <a:ext cx="371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re are 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congruence class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ONGRUENCE THEOREM</a:t>
            </a: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r all integers a and b and all positive integers m, a ≡ b (mod m) iff m is a factor of a – b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BN and credit card check numbers are determined in some way by modular arithmetic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FIND THE CONGRUENCE CLASSES MOD 7: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what class does 427 fall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26 ≡ x (mod 7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26 ÷ 7 = 60 r. 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26 ≡ 6 (mod 7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what class does -17 fall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17 ≡ y (mod 7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17 ÷ 7 = -2 r. -3  but r cannot be negative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ange to -3 r. 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EXAMPLE 3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nd the smallest positive value of n for which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 – 32 ≡ 75 (mod 11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 ≡ 107 (mod 11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gruence class of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 = 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EXAMPLE 4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808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m ≡ 4 (mod 9) and n≡ 7(mod 9), what is the remainder when 5m +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s divided by 9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m +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≡  ?? (mod 9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lug in for n and 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(4) +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6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m +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≡  69 (mod 9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9 ÷ 9 = 7 r. 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, 6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EXAMPLE 2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e modular arithmetic to explain why a date that falls on Friday this year will fall on Wednesday four years from now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65 days in a year + 1 leap year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461 days ÷ 7 days in a week 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08 weeks r. 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riday – r. 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uesday – r. 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t. – r.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dnesday – r. 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un. – r.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ursday – r. 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nday – r.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Oval 3"/>
          <p:cNvSpPr/>
          <p:nvPr/>
        </p:nvSpPr>
        <p:spPr>
          <a:xfrm>
            <a:off x="3886200" y="5029200"/>
            <a:ext cx="3352680" cy="457200"/>
          </a:xfrm>
          <a:prstGeom prst="ellipse">
            <a:avLst/>
          </a:prstGeom>
          <a:noFill/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EXAMPLE 5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final digit of a 12-digit Universal Product Code (UPC) is a check digit.  Suppose the digits of a UPS are represented by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o calculate the check digit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first compute 3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+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(mod 10).  If this number is zero, then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=0, If not, subtract the number from 10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termine the check digit of 300219 – 0952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(3 + 0 + 1 + 0 + 5 + 9) + (0 + 2 + 9 + 9 + 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= 3(18) + (22) 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TextBox 3"/>
          <p:cNvSpPr/>
          <p:nvPr/>
        </p:nvSpPr>
        <p:spPr>
          <a:xfrm>
            <a:off x="2822400" y="6019920"/>
            <a:ext cx="26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6 ÷ 10 = 7 r.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4"/>
          <p:cNvSpPr/>
          <p:nvPr/>
        </p:nvSpPr>
        <p:spPr>
          <a:xfrm>
            <a:off x="6113520" y="6095880"/>
            <a:ext cx="1488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 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01:41:50Z</dcterms:created>
  <dc:creator>teacher</dc:creator>
  <dc:description/>
  <dc:language>en-US</dc:language>
  <cp:lastModifiedBy>Laura Helbing</cp:lastModifiedBy>
  <dcterms:modified xsi:type="dcterms:W3CDTF">2011-12-05T14:03:00Z</dcterms:modified>
  <cp:revision>10</cp:revision>
  <dc:subject/>
  <dc:title>Modular Arithmetic</dc:title>
</cp:coreProperties>
</file>