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CE0-59A6-483E-8982-056111C2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D41-A851-4B20-90D2-AE20682F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969-15BE-4AE3-BED7-982BDE05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F21-F094-48E1-877E-211ED338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5A68-7B1D-44E4-8036-8D60F4D3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8A9C-A244-4934-8E94-0D0BD61C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226E-06E5-40EF-BAFB-256C26A0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EA13-7B7C-4FF8-BDF3-E945E055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5E8D-00F2-4906-AFFF-8AEFA9B8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FAB1-45FF-43DC-BDBD-C4A3FCF2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F680-5D1A-478B-B3C6-2E962EF1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B78-4C5C-4298-A0E1-6D000EF7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4964-41DA-46B7-A904-7E8A3BC6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0F1E-A26B-413B-A839-9E34E5FB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BB47-0FE6-4C12-9277-F5FA86BC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AD1C-CEA8-4103-893B-54023CBA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1D72-3E3F-413C-ABC2-A615F12D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986F5-F65D-4AE3-B8A5-348BEBD0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7FA6D-02A8-4504-8F8E-88339CCB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BF5416-A26D-4144-84D8-BFD2531A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B6395-12F7-4BBC-B989-EC0361FF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4E70E-E7D9-4A38-8678-C15CF57E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045F-AF55-449E-89F1-5A29B06E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F50DD-130F-4554-AB8E-A7D444CE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6EBF6-5B12-4F8B-A73F-0DBFCFAF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96537-BDD4-4711-A52E-88B460A5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402DB-7117-4AD0-8B03-A14CD233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2260A-85C7-445A-8D0A-28D8164E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59960-11D3-4592-B513-08EF897B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D700B-D9FD-4823-B314-8A1D52E1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EDD6B-9C18-430D-B3F4-B0BC4C56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DD907-A35E-4D2D-A68E-A720CD94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0A783-B58A-482C-8644-EECF0D02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AE90-BA10-4BC6-8FAE-BCF5B10E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4B59-950C-4F9E-8B92-0CD5D5A4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AEC44-EBEC-4A34-B092-7748D804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1555F-09BA-4B70-ABA3-F13CE869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61C73-7D68-4F16-B91A-0ED1EF8D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B0914-2FDC-4DDA-9709-11B59F5E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2C4BE-2348-497F-B72F-9B36DD76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88A8C-298C-4A85-99B8-5D21C4C2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1A1F9-3857-4020-99EF-D2B480D6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BDBF6-4768-4725-A23B-CAFD3A28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BE1A20-273B-4DCD-BEDA-AB07FCE0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152-E739-47C5-83C3-DCECC310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FFA3F-7D19-4F8E-8B24-5EF1C64E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A6D8F-938B-4624-A718-B5B48EC4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939E1-1419-401C-887D-14350598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228FE-3787-4E17-9795-F1058943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AAFBC-48D0-4AAB-B58A-A05B3740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4223E6-A551-42F6-8BD4-6B30D3DC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0A82D-EB3B-422B-8B7A-16F8547B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3AEE96-B551-4A0C-A636-A35EC51F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A069C0-D120-40CC-ACA5-E7ED3C93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BA93A2-CFD9-42C9-BBC2-0B4C7215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040-24A1-4BC3-BC14-C889949C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EA40C-5D95-4D71-ACB7-37E4435F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BA454F-CF0C-4449-AB88-989C211D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494AF-3032-4778-8300-FCAEB695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AC0F25-BB44-4C0A-A658-2E228158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A78BA-9C31-47F9-8775-5F51A73D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CE6DB-6AE9-45C2-81E6-88E3CD88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8F143-970C-4A9E-8DE9-70CD2DD8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B2E35-DB5C-4A14-8B2C-2015AE2C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BD3CB-23C7-481C-B086-5E4FDBA7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4B34E-D10C-4A95-849D-DC495C50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0DA-69FA-4E04-887F-0932C239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149E8-6131-401D-944F-EDACC4BA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C27E0-3B87-4C10-825D-53CA8743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0A83C-CFAE-4908-B547-BB01CEB0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28F1E6-9E00-4FC4-B0C3-13B15274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3CA58-418E-41C0-B077-32329069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A2DEE1-3F40-4603-AFFD-038506EE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45CFF-F01E-46FF-8D43-81444B92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741996-4E08-4D23-B3A9-FA217F62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633C2-EDC5-44E8-8336-6E847254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03FAAF-8B61-45A9-883B-F894E78E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DBE-F1D6-4112-A492-0E93FACE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B4A32-1F53-4A97-93BA-B2EC0DB8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0C9B67-F90F-4EEE-96C7-7D0BEC56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9E8ADD-3E43-4DF0-AE16-8ABE1426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45A4E2-2048-43F6-86E3-337446D0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CA57C7-D3DA-4693-9BFC-0494BF9E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4C89-ECFD-432A-8AC5-26BBEADD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30DE-0CE4-4E52-80FC-BC9AB0F6395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0547-2A8D-4768-843E-1147E5BF363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20DE-0E04-4476-89EA-30A8CD201F7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e7e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186C-1848-4FAC-8F5C-D78BDFE766A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7A30-F0F0-4C4C-902B-A9B4A48069F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F11A-016E-48A1-A384-66EB930380A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8829-E706-4CFB-BE97-941D007EC1D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13f9a"/>
                </a:solidFill>
                <a:latin typeface="Century Schoolbook"/>
              </a:rPr>
              <a:t>MODULAR ARITHMETIC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13f9a"/>
                </a:solidFill>
                <a:latin typeface="Century Schoolbook"/>
              </a:rPr>
              <a:t>Lesson 4.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6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762120"/>
            <a:ext cx="746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e by contradic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 one exception, If n is a prime number, then n + 1 is not a prime number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ought:  Cannot be true, because if n is a prime number, it must be odd.  Therefore, n + 1 is ev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sume n + 1 IS a prime numb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≡ 1 (mod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+ 1 ≡ 1 (mod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btracting one from both sides, n ≡ 0 (mod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RADICTION!!!  Therefore, n + 1 is not a prime numb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Pages 261 – 262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entury Schoolbook"/>
              </a:rPr>
              <a:t>1-3, 5-11, 19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7848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section, we are grouping numbers, based on their remind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8 ÷ 4 = 4 r.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2 ÷ 4 = 5 r.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8 ÷ 4 = 19 r.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are said to be in the same congruence clas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8 ≡ 22 (mod 4)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bc their remainders are the sa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HOW MANY CONGRUENCE CLASSES ARE THERE IN MODULO 7?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7 ÷ 7 = 11 r. 0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8 ÷ 7 = 11 r.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9 ÷ 7 = 11 r.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0 ÷ 7 = 11 r.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1 ÷ 7 = 11 r. 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2 ÷ 7 = 11 r.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3 ÷ 7 = 11 r.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4 ÷ 7 = 12 r.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3175920" y="601992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"/>
          <p:cNvSpPr/>
          <p:nvPr/>
        </p:nvSpPr>
        <p:spPr>
          <a:xfrm>
            <a:off x="3023640" y="167652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3023640" y="220968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3023640" y="289548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3023640" y="350532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3023640" y="411480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0"/>
          <p:cNvSpPr/>
          <p:nvPr/>
        </p:nvSpPr>
        <p:spPr>
          <a:xfrm>
            <a:off x="3099600" y="472428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1"/>
          <p:cNvSpPr/>
          <p:nvPr/>
        </p:nvSpPr>
        <p:spPr>
          <a:xfrm>
            <a:off x="3099600" y="5334120"/>
            <a:ext cx="63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Straight Arrow Connector 13"/>
          <p:cNvCxnSpPr>
            <a:stCxn id="357" idx="3"/>
            <a:endCxn id="366" idx="1"/>
          </p:cNvCxnSpPr>
          <p:nvPr/>
        </p:nvCxnSpPr>
        <p:spPr>
          <a:xfrm flipV="1">
            <a:off x="3862080" y="3796560"/>
            <a:ext cx="1243800" cy="2547000"/>
          </a:xfrm>
          <a:prstGeom prst="straightConnector1">
            <a:avLst/>
          </a:prstGeom>
          <a:ln w="12600">
            <a:solidFill>
              <a:srgbClr val="b71850"/>
            </a:solidFill>
            <a:miter/>
            <a:tailEnd len="med" type="arrow" w="med"/>
          </a:ln>
        </p:spPr>
      </p:cxnSp>
      <p:cxnSp>
        <p:nvCxnSpPr>
          <p:cNvPr id="367" name="Straight Arrow Connector 15"/>
          <p:cNvCxnSpPr>
            <a:endCxn id="366" idx="1"/>
          </p:cNvCxnSpPr>
          <p:nvPr/>
        </p:nvCxnSpPr>
        <p:spPr>
          <a:xfrm>
            <a:off x="3657600" y="2133360"/>
            <a:ext cx="1448640" cy="1664280"/>
          </a:xfrm>
          <a:prstGeom prst="straightConnector1">
            <a:avLst/>
          </a:prstGeom>
          <a:ln w="12600">
            <a:solidFill>
              <a:srgbClr val="b71850"/>
            </a:solidFill>
            <a:miter/>
            <a:tailEnd len="med" type="arrow" w="med"/>
          </a:ln>
        </p:spPr>
      </p:cxnSp>
      <p:sp>
        <p:nvSpPr>
          <p:cNvPr id="366" name="TextBox 16"/>
          <p:cNvSpPr/>
          <p:nvPr/>
        </p:nvSpPr>
        <p:spPr>
          <a:xfrm>
            <a:off x="5153040" y="350532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77 ≡ 84 (mod 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7"/>
          <p:cNvSpPr/>
          <p:nvPr/>
        </p:nvSpPr>
        <p:spPr>
          <a:xfrm>
            <a:off x="4645440" y="5029200"/>
            <a:ext cx="371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here are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ongruence class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ONGRUENCE THEOREM</a:t>
            </a: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	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all integers a and b and all positive integers m, a ≡ b (mod m) iff m is a factor of a – b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BN and credit card check numbers are determined in some way by modular arithmeti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FIND THE CONGRUENCE CLASSES MOD 7: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what class does 427 fal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6 ≡ x (mod 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6 ÷ 7 = 60 r.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6 ≡ 6 (mod 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what class does -17 fal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17 ≡ y (mod 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17 ÷ 7 = -2 r. -3  but r cannot be negativ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nge to -3 r. 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3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the smallest positive value of n for whic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– 32 ≡ 75 (mod 1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≡ 107 (mod 11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gruence class of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 = 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4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0880" y="160020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m ≡ 4 (mod 9) and n≡ 7(mod 9), what is the remainder when 5m +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divided by 9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m +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≡  ?? (mod 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ug in for n and 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(4) +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6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m +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≡  69 (mod 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9 ÷ 9 = 7 r.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, 6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2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 modular arithmetic to explain why a date that falls on Friday this year will fall on Wednesday four years from now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65 days in a year + 1 leap year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461 days ÷ 7 days in a week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08 weeks r.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riday – r. 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uesday – r. 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t. – r.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dnesday – r. 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un. – r.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ursday – r. 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nday – r.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Oval 3"/>
          <p:cNvSpPr/>
          <p:nvPr/>
        </p:nvSpPr>
        <p:spPr>
          <a:xfrm>
            <a:off x="3886200" y="5029200"/>
            <a:ext cx="3352680" cy="457200"/>
          </a:xfrm>
          <a:prstGeom prst="ellipse">
            <a:avLst/>
          </a:prstGeom>
          <a:noFill/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EXAMPLE 5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final digit of a 12-digit Universal Product Code (UPC) is a check digit.  Suppose the digits of a UPS are represented b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calculate the check digit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first compute 3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+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(mod 10).  If this number is zero, th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0, If not, subtract the number from 10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termine the check digit of 300219 – 0952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(3 + 0 + 1 + 0 + 5 + 9) + (0 + 2 + 9 + 9 +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3(18) + (22) 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2822400" y="6019920"/>
            <a:ext cx="26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6 ÷ 10 = 7 r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4"/>
          <p:cNvSpPr/>
          <p:nvPr/>
        </p:nvSpPr>
        <p:spPr>
          <a:xfrm>
            <a:off x="6113520" y="6095880"/>
            <a:ext cx="1488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1:41:50Z</dcterms:created>
  <dc:creator>teacher</dc:creator>
  <dc:description/>
  <dc:language>en-US</dc:language>
  <cp:lastModifiedBy>Laura Helbing</cp:lastModifiedBy>
  <dcterms:modified xsi:type="dcterms:W3CDTF">2011-12-05T14:03:00Z</dcterms:modified>
  <cp:revision>10</cp:revision>
  <dc:subject/>
  <dc:title>Modular Arithmetic</dc:title>
</cp:coreProperties>
</file>