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EC7A-64DC-480E-8D0E-7836EECB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860-9146-4AB4-A780-CAB5C555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CF8F-0A94-485B-BD11-287B714B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376-8744-496A-A60C-601A8664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A163-2E17-42DF-8D8A-FA89D9A3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D1DD-0C84-47A1-B0E9-4FF3EB6E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C1AD-DF17-4DD1-B151-6436D5AC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35DF-AE16-4C2C-8095-C8A76322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70AC-364B-454D-BCFB-55E09F04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8820-E85A-4B84-9B1F-68E22FB7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D032-E4F3-4FDE-A30A-A0C526D1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A90-4A94-40E6-BE57-DFEDFF74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7533-05F2-4FA1-88EE-70C453AF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AF23-4165-43E2-A872-221DC1C2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7FAB-598C-4E70-9406-AA475F90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D33A-01D9-419B-A700-CF731E5B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DB49-2F6E-4562-B673-6881F0C8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D9142-900C-48D4-9A7D-8AA7DBFC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335F7-1D88-4B1E-867C-BC92258D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477C9-5D9A-4B10-81E0-D69EC63F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E65D0-A444-44EE-AD29-7D6534CE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20564F-A5F8-4211-B85F-87F47D93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DBE-C67C-4A07-A855-EEEF89A3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21B82-D9EE-4A8E-A8B8-25C658BA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4C0CF-641C-48B9-8347-B3A071E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EFFF3-7750-46E6-95BA-CAD3631C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A061D-FB67-46FF-B161-61AA7B36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D53EB-4953-47CE-B52F-6D543D2C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12AED-4B48-4BFB-A8D9-AA3A1D6D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8D478-6D9F-437D-B2FB-783D9FFF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00AD9-6B76-4129-9294-34387D1D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BE0C-72E3-4C31-BEE7-49880FA7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3E91B-1E36-4BF5-B5A9-65457998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0C2-5563-4E9F-9F09-E4C78859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AA2C-6BC8-4F77-AE5C-23F2A3A6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29922-BFED-466D-A455-7C0E4B10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B24C-2022-409F-B1C7-16CE5A3F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300E4-6FC5-4F9F-894F-D7AE0A14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D751-6697-45D5-A791-937D3111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E235-9AE9-46F2-9A9A-0CC58863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0D0A-66F8-44FA-AFB4-A90A5B4C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A7C80-E53C-48DB-8739-85D94C51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52571-57AA-47AA-BB84-176DE84D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7B4D1-BD5C-4BF8-95FA-90345619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583-6F09-4075-AC0F-8A4C6991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ABCD3-AB41-45FB-A2CB-7F46DD6C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F5A86-E2F6-47EF-B3F7-F2A350C1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99C16-035E-49B2-926D-78B210BB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9E978-2BF3-4A39-AB69-8C10E59A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73C51-F308-431C-B880-BDBC267F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9538B-2192-4785-B205-D4F0A42B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EE551-56AA-4177-ABF1-9F528449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DC4F54-2EC9-4C0A-A24D-E2D54DDA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C5B14-C2BC-4CD7-85DA-C29120A5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B98CD-16BD-4052-B51F-3DE52F66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FC0-A687-442E-9A69-A2CE4DDF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BE7F47-689F-4340-A48B-C64948C6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739C4-63EA-470E-85F1-E08947CE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944F6-A78B-403D-AEEF-F6C9EEC3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AB9C2-B172-4B6B-AF52-99889B12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7C3982-A669-4210-9028-E6B9B9CE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892B6-D3E8-4937-9992-4F5D2165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994FC-53D7-42AE-9944-74E4A8B2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3EBB2-FB92-4426-A414-B6522E80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DBAA7-32C4-470A-8D14-8D3DC784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F044D-576C-4AF8-83B1-3C939DD1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8E3D-2C95-4EE8-972E-09421053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26F3B-17FE-47F9-8AFE-2D3FDC0E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0208E-8027-414A-92BC-BD3674F5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0EB0F-2F00-46E3-8F99-36AA62E0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9C5AA-295A-46A3-92D5-F19D61F8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0843E-5B17-4E94-9809-5D9E3DC5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25E16-CB87-42C2-AD10-E7436B0D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00AA4-5698-4B17-A6DC-7A2C652E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70115-0070-4F89-B633-34536C19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6F810-3F2C-4BE2-9BEC-26281D89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E4DA8-ABEE-480A-B22B-FD16DDA6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891-5F3D-46B0-BE3D-C8EB1681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D7A8B8-22BC-4731-9F8B-BFBEF0BD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83615-A22E-4A29-AA2B-88E16819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8CE763-A551-4D15-BA73-9C50F228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6851C1-FAC9-4B99-B1B7-A6AD5BC3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A9FFB-EC23-4700-8E1C-A13CE48E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8AB-B468-4DA0-8E40-B3A9D4B3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B655-FECA-4FDE-AF08-F92E5464608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C7A0-DFE3-4EEA-B1D3-F778FB5167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0D42-BBF3-4906-89D6-A58B7F5703B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e7e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2EEC-8014-47E3-AABF-6A30491524C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51B8-10F9-46A2-80E1-62AE75732A7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246B-2420-4173-B642-4F20F8ADE1B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1EE5-9C41-4707-BD1F-70D30E99136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13f9a"/>
                </a:solidFill>
                <a:latin typeface="Century Schoolbook"/>
              </a:rPr>
              <a:t>MODULAR ARITHMETIC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Century Schoolbook"/>
              </a:rPr>
              <a:t>Lesson 4.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6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762120"/>
            <a:ext cx="746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e by contradic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one exception, If n is a prime number, then n + 1 is not a prime number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ought:  Cannot be true, because if n is a prime number, it must be odd.  Therefore, n + 1 is ev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ume n + 1 IS a prim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≡ 1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+ 1 ≡ 1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btracting one from both sides, n ≡ 0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RADICTION!!!  Therefore, n + 1 is not a prim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Pages 261 – 262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1-3, 5-11, 19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section, we are grouping numbers, based on their remind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 ÷ 4 = 4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2 ÷ 4 = 5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8 ÷ 4 = 19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are said to be in the same congruence cla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 ≡ 22 (mod 4)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c their remainders are the sa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HOW MANY CONGRUENCE CLASSES ARE THERE IN MODULO 7?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7 ÷ 7 = 11 r. 0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8 ÷ 7 = 11 r.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9 ÷ 7 = 11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0 ÷ 7 = 11 r.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1 ÷ 7 = 11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2 ÷ 7 = 11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3 ÷ 7 = 11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4 ÷ 7 = 12 r.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3175920" y="60199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3023640" y="16765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3023640" y="22096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023640" y="28954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3023640" y="35053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3023640" y="411480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0"/>
          <p:cNvSpPr/>
          <p:nvPr/>
        </p:nvSpPr>
        <p:spPr>
          <a:xfrm>
            <a:off x="3099600" y="47242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3099600" y="53341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Straight Arrow Connector 13"/>
          <p:cNvCxnSpPr>
            <a:stCxn id="357" idx="3"/>
            <a:endCxn id="366" idx="1"/>
          </p:cNvCxnSpPr>
          <p:nvPr/>
        </p:nvCxnSpPr>
        <p:spPr>
          <a:xfrm flipV="1">
            <a:off x="3862080" y="3796560"/>
            <a:ext cx="1243800" cy="2547000"/>
          </a:xfrm>
          <a:prstGeom prst="straightConnector1">
            <a:avLst/>
          </a:prstGeom>
          <a:ln w="12600">
            <a:solidFill>
              <a:srgbClr val="b71850"/>
            </a:solidFill>
            <a:miter/>
            <a:tailEnd len="med" type="arrow" w="med"/>
          </a:ln>
        </p:spPr>
      </p:cxnSp>
      <p:cxnSp>
        <p:nvCxnSpPr>
          <p:cNvPr id="367" name="Straight Arrow Connector 15"/>
          <p:cNvCxnSpPr>
            <a:endCxn id="366" idx="1"/>
          </p:cNvCxnSpPr>
          <p:nvPr/>
        </p:nvCxnSpPr>
        <p:spPr>
          <a:xfrm>
            <a:off x="3657600" y="2133360"/>
            <a:ext cx="1448640" cy="1664280"/>
          </a:xfrm>
          <a:prstGeom prst="straightConnector1">
            <a:avLst/>
          </a:prstGeom>
          <a:ln w="12600">
            <a:solidFill>
              <a:srgbClr val="b71850"/>
            </a:solidFill>
            <a:miter/>
            <a:tailEnd len="med" type="arrow" w="med"/>
          </a:ln>
        </p:spPr>
      </p:cxnSp>
      <p:sp>
        <p:nvSpPr>
          <p:cNvPr id="366" name="TextBox 16"/>
          <p:cNvSpPr/>
          <p:nvPr/>
        </p:nvSpPr>
        <p:spPr>
          <a:xfrm>
            <a:off x="5153040" y="35053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77 ≡ 84 (mod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4645440" y="5029200"/>
            <a:ext cx="371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re are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ongruence class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ONGRUENCE THEOREM</a:t>
            </a: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all integers a and b and all positive integers m, a ≡ b (mod m) iff m is a factor of a – b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BN and credit card check numbers are determined in some way by modular arithmeti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FIND THE CONGRUENCE CLASSES MOD 7: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what class does 427 fal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≡ x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÷ 7 = 60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≡ 6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what class does -17 fal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17 ≡ y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17 ÷ 7 = -2 r. -3  but r cannot be negativ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nge to -3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the smallest positive value of n for whic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– 32 ≡ 75 (mod 1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≡ 107 (mod 1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gruence class of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4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08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m ≡ 4 (mod 9) and n≡ 7(mod 9), what is the remainder when 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divided by 9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≡  ?? (mod 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ug in for n and 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(4) +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6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≡  69 (mod 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9 ÷ 9 = 7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, 6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modular arithmetic to explain why a date that falls on Friday this year will fall on Wednesday four years from now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65 days in a year + 1 leap year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461 days ÷ 7 days in a week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08 weeks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iday – r. 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uesday –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t. – r.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dnesday –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n. – r.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ursday –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nday – r.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3886200" y="5029200"/>
            <a:ext cx="3352680" cy="457200"/>
          </a:xfrm>
          <a:prstGeom prst="ellipse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5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inal digit of a 12-digit Universal Product Code (UPC) is a check digit.  Suppose the digits of a UPS are represented b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calculate the check digi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first compute 3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+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(mod 10).  If this number is zero, th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0, If not, subtract the number from 10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termine the check digit of 300219 – 0952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(3 + 0 + 1 + 0 + 5 + 9) + (0 + 2 + 9 + 9 +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3(18) + (22)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2822400" y="601992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6 ÷ 10 = 7 r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6113520" y="6095880"/>
            <a:ext cx="148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1:41:50Z</dcterms:created>
  <dc:creator>teacher</dc:creator>
  <dc:description/>
  <dc:language>en-US</dc:language>
  <cp:lastModifiedBy>Laura Helbing</cp:lastModifiedBy>
  <dcterms:modified xsi:type="dcterms:W3CDTF">2011-12-05T14:03:00Z</dcterms:modified>
  <cp:revision>10</cp:revision>
  <dc:subject/>
  <dc:title>Modular Arithmetic</dc:title>
</cp:coreProperties>
</file>