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790-768B-41D3-8A50-05F10E83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FA2-843E-4D09-B257-8171E75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9C0-EE58-4EF8-8E83-F53ED6DC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252-A62D-4240-91D5-9F97AC2D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84C3-A368-4D83-90AB-3213C64E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A543-5574-4CB5-AF09-4BA848DA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9703-1F65-433F-94B9-4BCDCC89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0719-689D-4080-9A67-CA018D59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812-70FA-4925-BD08-E98AAE8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DC8C-2CD5-4C7B-950F-2E05338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45B1-F3AF-41B2-9DCC-1F4BD8BC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295-AA66-4C08-9FC8-DF7758C7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260-68C8-4487-9F7E-AF2DAEC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0207-7B91-4715-8F2F-AEBD8A75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B061-9036-4E4C-9FE0-9A815F11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E835-AAC0-4EC6-838F-FA6496BD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D299-F81F-4CF0-B1B6-56F5D1CC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7EC33-8545-40ED-803A-2BBB58EA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44403-06C0-48D3-A053-54FC0AA9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E957B-FCEA-44D3-B556-AE0E319C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4A82C-8E24-4CAB-8350-80ECA186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36712-74EE-41AE-ABB0-1CCAE278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31E-D2C8-43EC-B4C5-7AB170C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639DF-FD81-4FE7-87CB-94632DEA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F491E-42E4-4BBF-AF87-4673AFCB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CF8A7-65AE-4846-9A48-70E4D09E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A3ECA-8117-4BE1-B2E0-46F9280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B8506-4595-428F-887C-FDD35BBA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D3487-8BB5-40B2-A735-704505C6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F1090-F606-4D88-B991-A5330DDC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434D-E229-4AB6-9777-701B40A6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31EC-F550-410D-A835-9C2C243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CB70-6621-4E3E-82A9-3143BA8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31C-5F7F-4F9A-9163-418EA7A6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A910-402F-4678-8896-9027BF32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06658-6438-47CD-91DB-A4C824C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7792-F1F6-4FE0-87F2-232C225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78C3-0EC3-4957-9518-BD7C1740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A0DA-9A96-4C12-ADEF-325849A1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8AEC-7092-4EA1-A29E-38DE47B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FE65-03B3-4BBC-80EC-08A3D2AC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029A-CE64-40AC-87CD-917FD2D5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1290-5B3B-43B9-88D8-78FCF4B4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145BA-BDB0-4C91-AA00-43C66696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851-7EBA-4D15-AA94-EE751438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746F8-1158-4322-9872-26AE1399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9083B-7BF8-4EA4-B809-ADB1D98B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17A57-C7F1-4F4D-8C17-D79F1984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E1EA2-FCA2-4026-B51E-3C01C43A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332F2-A868-4E15-9A74-713C1D00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126F3-E11B-4C40-B399-ACE56E09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06CA7-769D-4527-ABC0-7F497F2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E457E-A067-45BD-A037-0A615D5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6E3B0-DDF3-41BF-B7D8-0368A918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036A1-6900-4263-B197-20520922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D15-5807-48D3-A5C1-7FEE019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6A8D0-278B-4A51-A1D5-30E22029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64F68-3B80-47BF-AB85-40027C68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A545F-0043-45FC-8047-6C996E3E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B50FB-D991-4B7F-8B7A-F6BD8C7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066AC-EA86-407B-AC44-573C307F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A4F96-732B-4A50-8D44-A47BB4A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446A2-41D9-4C7F-881D-F65EA344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AE0A4-2E9F-4D27-9DBC-115B3EB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A9610-112C-4799-8BFA-5F57B672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4C11B-257C-4E54-911D-FC30813C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6F8-CF93-47A2-A48A-6BB6C613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50853-0361-415D-B59C-A68A1CD2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8D55D-F146-4D06-BB7F-E4B1A46E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A0F66-62C8-4487-BF70-BA388817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40359-B7ED-4AE3-B6ED-39C80AE8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F523B-0086-49CF-A2E5-EB95C39F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5F72E-668E-4728-A378-54F03503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585FC-0975-4337-BB39-062B14BB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A392B-B223-4031-BC6F-4DB91CA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17CC3-1578-45EF-8A2C-50952560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F7511-7236-4BE1-9BDF-30C1E21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5B4-690D-41A6-8FF3-2CA79325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94D15-C79A-43D0-AE86-500CBA4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16258-2F96-407D-9905-8FB2FF5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2D7E7-4DFE-4399-AA5F-11DBA602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66D1E-E207-4911-8D6E-16752D8A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1BCB4-892E-424E-BC8F-D021CB65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14B-DEF9-4298-8531-AD0B253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D097-65B3-4F41-A52E-BF5DF5D700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3D3-C024-4D46-8318-18DEEB1AB1E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E38-1EC8-4BE1-8972-38537FD684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1B43-C02B-4026-B5A0-DD5B8F91D1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04EB-25F4-4A6E-B4B1-FB4BC22B90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65FB-75B2-4412-9971-F104B29AD5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351E-D524-476B-993C-850F757C61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13f9a"/>
                </a:solidFill>
                <a:latin typeface="Century Schoolbook"/>
              </a:rPr>
              <a:t>MODULAR ARITHMETIC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Century Schoolbook"/>
              </a:rPr>
              <a:t>Lesson 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6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7621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by contradic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one exception, If n is a prime number, then n + 1 is not a prime number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ought:  Cannot be true, because if n is a prime number, it must be odd.  Therefore, n + 1 is ev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e n + 1 IS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+ 1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btracting one from both sides, n ≡ 0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ADICTION!!!  Therefore, n + 1 is not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ages 261 – 262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1-3, 5-11, 19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ection, we are grouping numbers, based on their remind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÷ 4 = 4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2 ÷ 4 = 5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4 = 19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re said to be in the same congruenc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≡ 22 (mod 4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c their remainders are the s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W MANY CONGRUENCE CLASSES ARE THERE IN MODULO 7?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7 ÷ 7 = 11 r. 0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7 = 11 r.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9 ÷ 7 = 11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÷ 7 = 11 r.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1 ÷ 7 = 11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2 ÷ 7 = 11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3 ÷ 7 = 11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4 ÷ 7 = 12 r.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3175920" y="60199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3023640" y="16765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3023640" y="22096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023640" y="28954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3023640" y="35053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3023640" y="411480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3099600" y="47242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3099600" y="53341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13"/>
          <p:cNvCxnSpPr>
            <a:stCxn id="357" idx="3"/>
            <a:endCxn id="366" idx="1"/>
          </p:cNvCxnSpPr>
          <p:nvPr/>
        </p:nvCxnSpPr>
        <p:spPr>
          <a:xfrm flipV="1">
            <a:off x="3862080" y="3796560"/>
            <a:ext cx="1243800" cy="254700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cxnSp>
        <p:nvCxnSpPr>
          <p:cNvPr id="367" name="Straight Arrow Connector 15"/>
          <p:cNvCxnSpPr>
            <a:endCxn id="366" idx="1"/>
          </p:cNvCxnSpPr>
          <p:nvPr/>
        </p:nvCxnSpPr>
        <p:spPr>
          <a:xfrm>
            <a:off x="3657600" y="2133360"/>
            <a:ext cx="1448640" cy="166428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sp>
        <p:nvSpPr>
          <p:cNvPr id="366" name="TextBox 16"/>
          <p:cNvSpPr/>
          <p:nvPr/>
        </p:nvSpPr>
        <p:spPr>
          <a:xfrm>
            <a:off x="5153040" y="35053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77 ≡ 84 (mod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645440" y="5029200"/>
            <a:ext cx="371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re are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ngruence clas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ONGRUENCE THEOREM</a:t>
            </a: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all integers a and b and all positive integers m, a ≡ b (mod m) iff m is a factor of a – b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BN and credit card check numbers are determined in some way by modular arithmet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FIND THE CONGRUENCE CLASSES MOD 7: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42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x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÷ 7 = 60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6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-1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≡ y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÷ 7 = -2 r. -3  but r cannot be negativ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o -3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the smallest positive value of n for whi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– 32 ≡ 75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07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ce class o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4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08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m ≡ 4 (mod 9) and n≡ 7(mod 9), what is the remainder when 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divided by 9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??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ug in for n and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4) +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6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69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9 ÷ 9 = 7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, 6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modular arithmetic to explain why a date that falls on Friday this year will fall on Wednesday four years from no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65 days in a year + 1 leap yea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61 days ÷ 7 days in a week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08 weeks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iday – r. 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esday –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t. – r.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dnesday –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n. – r.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rsday –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day – r.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3886200" y="5029200"/>
            <a:ext cx="3352680" cy="457200"/>
          </a:xfrm>
          <a:prstGeom prst="ellipse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5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inal digit of a 12-digit Universal Product Code (UPC) is a check digit.  Suppose the digits of a UPS are represented b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calculate the check digi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first compute 3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+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(mod 10).  If this number is zero, th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0, If not, subtract the number from 10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rmine the check digit of 300219 – 0952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(3 + 0 + 1 + 0 + 5 + 9) + (0 + 2 + 9 + 9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(18) + (22)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2822400" y="601992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 ÷ 10 = 7 r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6113520" y="6095880"/>
            <a:ext cx="148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1:41:50Z</dcterms:created>
  <dc:creator>teacher</dc:creator>
  <dc:description/>
  <dc:language>en-US</dc:language>
  <cp:lastModifiedBy>Laura Helbing</cp:lastModifiedBy>
  <dcterms:modified xsi:type="dcterms:W3CDTF">2011-12-05T14:03:00Z</dcterms:modified>
  <cp:revision>10</cp:revision>
  <dc:subject/>
  <dc:title>Modular Arithmetic</dc:title>
</cp:coreProperties>
</file>