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5EE-2C30-4174-9F6A-CCE43DA6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A5C-C2AF-475E-A1C7-7BC698F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C57-C1DF-4FF1-ADBE-B9CF91CC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D1B-1594-458F-81C5-1338118D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F46-DBF1-4C8C-A85B-0DE610E3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B50-0B6F-4560-A404-A5F7754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80CE-531C-4544-920B-F2A6792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A0E1-35B2-455B-9790-6F557F5B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D67D-32B0-467B-8C0A-152A46A2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B3C6-6762-4EBE-9807-6AC8691C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EF84-84C0-4413-A8FF-FE955D9D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671-601A-48A2-BFAB-280A31E8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BD76-8516-4F6B-BAED-67BC1AFE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7A79-CF23-4D9F-8037-BA6C396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0B95-D775-4700-A32A-B03B963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6123-EF2A-4D2A-8766-36A6BF5B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A83-8FC1-46E5-9AA7-5860D8C6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264A-7BBC-4F53-9198-5CE5EDA9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C995-821A-4F6D-90CB-777F2D6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6A7B5-1A13-4569-AC9E-7085290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6520-B0A5-4D7D-80A7-9965514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9D1B-04A6-4519-AC61-7BD43E1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376-8A1F-4131-8776-207B7909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6731B-1B09-442B-8026-FA9227CA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86D6-4DF7-4A0B-B098-B85D5C2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FBAE-E269-47C5-A38D-3A15A80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1789-3613-418E-A08F-706AEE8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096E-2B15-48C6-A12F-EA029C02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3EDE-3B57-41FB-9840-CD2E0D69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92D6-954C-494D-BB58-88CF8A83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A722-53A8-442D-AAA0-712C0D06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D9A57-924E-4030-A904-15061CBA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82251-1888-4C35-80B8-40ADEF8A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741-8762-41B1-9DF4-DFD7AD0E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016E-D1FA-4118-9808-5446E583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3C7C-471E-44A2-8E94-715BEB30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A05A-2E3E-461B-AE84-E24DB6A0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49EA-5B95-4620-B314-F1FC0F8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7888-23B5-4B50-843E-74386416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34A5-B5C0-4318-9075-32BB6A16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D5D66-5355-4CF5-B1E5-BF1A01DE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B1A0C-DC8F-4B67-B045-13D07ACF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3C4F1-B59E-437A-AC20-6A4A0A9D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AD31-F7EA-4CF8-AB0F-5DD8CBD8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DED-47AD-4137-A010-AD1BD85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5925-851E-4D5C-83F9-B2D60DC0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2517-E1FF-43E6-B32A-FF05E4DA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9EE35-EC82-47D3-A37C-5FD1E37A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8E410-1D8A-4CAC-BC74-C2B2619C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99BF-1D73-4975-B077-B7108212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69439-8C9B-49B5-BED2-F794B6A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C1E0-9936-4D5E-806E-D207C100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5A1C-E2A1-4F4E-A6A2-AF9533C9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27DF-5ED0-45CB-932F-FEAB20E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4627-0E13-45B6-986B-FC74B207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7C0-C27C-4552-8B98-BB86B8CA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5D739-59B0-4710-BDE2-36962295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77791-2DF6-48E1-9327-CC215EE2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1577-BE97-4993-9A2B-BEB9225E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59BB-7E68-42C5-9FA6-B23ACD78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26940-610B-4EE5-B200-F57A3F13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9495-1E96-4F00-B822-FB21B75D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1D7D-F4CC-4A3B-9DDA-67CEE45E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CDBBF-7FEE-4E53-9B81-1BDFD783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C48DB-2366-404A-B287-97288C25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C5FE8-DE7C-48A7-BF08-3C76F18B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5F1-83BB-4A5E-96BF-0DD5E804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4F97-BC28-42F3-8BAE-53F7A9E0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1A225-CF30-4D41-97ED-BA73E180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DAA6F-E3E4-4DE5-A4FD-B77F93D2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B917B-C50B-463A-854A-BE7314B8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0E09-01D3-4309-B942-3A0A1CB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A4B6B-3665-4447-8B31-0F363661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14A92-6C81-4BF2-8C75-21BDC38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4BCFB-A32D-401C-AA2C-DE5D52F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EF294-57BA-49C8-ADE2-3A3B5D8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2D591-4883-4A0D-B6BE-0F8B850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A2E-929B-4971-AAEA-A38284E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87B1-3DC8-4AC7-9CBF-28A6C96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36563-EEA9-409F-9397-0C98B97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AC02E-2A1A-449C-9894-F06C3FE5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1630B-97C1-45C2-B085-7C005496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A4E94-DC10-4F04-A9D7-5D9635B9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10D7-7ADD-4F55-89F0-5CC63210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E197-4BC6-4E84-A81B-F78BCC2E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258D-F99D-4E04-8A96-3052CE94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85E36-9017-41F2-985B-9E04BDFB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C04D9-EC1E-4665-AC00-627FFE5A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853-13C9-4AE0-A78F-44591A9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8EB2D-9B4F-450F-9177-95CB0AC9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DB385-51E0-441D-90F9-B2B389E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44314-8383-4E1A-B6B2-919828A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A022D-42DA-4B24-9407-30B4133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1558A-D55E-43AB-88E4-EA2297C5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EEBD1-FA62-4E54-AB51-8025B96A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3BF44-E979-4356-9EBC-4BB22AEE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ADBC-40BD-46B9-B563-46C002FABF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E13A-BF78-4CBA-A690-16BE0C02C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BBDE-E7E6-49BC-9F61-34C38851A4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296-6582-4295-A133-BA76933569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08FC-7C5B-48A9-B6F6-C4DD3D8884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FB74-15BD-4D47-80C9-1444E97F3D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4A8-023F-4B82-B645-D6763272E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EB58-6BC9-4104-98EE-D96DEBEC6F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13.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the adjacency matrix for the di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380880" y="2209680"/>
            <a:ext cx="484992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Object 4"/>
              <p:cNvSpPr txBox="1"/>
              <p:nvPr/>
            </p:nvSpPr>
            <p:spPr>
              <a:xfrm>
                <a:off x="5943600" y="3505320"/>
                <a:ext cx="273672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raw a picture of an undirected graph that has the following adjacency matri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914400" y="2438280"/>
                <a:ext cx="2025720" cy="20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43" name="Picture 3" descr=""/>
          <p:cNvPicPr/>
          <p:nvPr/>
        </p:nvPicPr>
        <p:blipFill>
          <a:blip r:embed="rId2"/>
          <a:srcRect l="78003" t="47339" r="4998" b="43339"/>
          <a:stretch/>
        </p:blipFill>
        <p:spPr>
          <a:xfrm>
            <a:off x="2852640" y="3276720"/>
            <a:ext cx="62913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ach vertex is adjacent to every other vertex (also known as a k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graph or a cliq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838080" y="2514600"/>
            <a:ext cx="3819600" cy="4010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791320" y="3733920"/>
                <a:ext cx="255888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ymmetric over the main diagonal (upper left to lower righ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b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,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undirected graphs are symmetr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walk – number of edges in the walk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e.g. – walk of length 2 must go through an intermediate vertex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find number of walks of length n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find 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and look at the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i,j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l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many walks of length 2 are there from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o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graph shown below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2" name="Oval 3"/>
          <p:cNvSpPr/>
          <p:nvPr/>
        </p:nvSpPr>
        <p:spPr>
          <a:xfrm>
            <a:off x="76212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4"/>
          <p:cNvSpPr/>
          <p:nvPr/>
        </p:nvSpPr>
        <p:spPr>
          <a:xfrm>
            <a:off x="7238880" y="3505320"/>
            <a:ext cx="228600" cy="30456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"/>
          <p:cNvSpPr/>
          <p:nvPr/>
        </p:nvSpPr>
        <p:spPr>
          <a:xfrm>
            <a:off x="4038480" y="3581280"/>
            <a:ext cx="228600" cy="304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7"/>
          <p:cNvSpPr/>
          <p:nvPr/>
        </p:nvSpPr>
        <p:spPr>
          <a:xfrm flipV="1">
            <a:off x="4267080" y="3657600"/>
            <a:ext cx="3200400" cy="76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Curved Connector 9"/>
          <p:cNvCxnSpPr>
            <a:stCxn id="452" idx="3"/>
            <a:endCxn id="453" idx="4"/>
          </p:cNvCxnSpPr>
          <p:nvPr/>
        </p:nvCxnSpPr>
        <p:spPr>
          <a:xfrm flipH="1" rot="16200000">
            <a:off x="4051080" y="508320"/>
            <a:ext cx="45000" cy="6558840"/>
          </a:xfrm>
          <a:prstGeom prst="curvedConnector5">
            <a:avLst>
              <a:gd name="adj1" fmla="val 5566129"/>
              <a:gd name="adj2" fmla="val 50000"/>
              <a:gd name="adj3" fmla="val 5566129"/>
            </a:avLst>
          </a:prstGeom>
          <a:ln w="9360">
            <a:solidFill>
              <a:srgbClr val="2da2bf"/>
            </a:solidFill>
            <a:miter/>
          </a:ln>
        </p:spPr>
      </p:cxnSp>
      <p:sp>
        <p:nvSpPr>
          <p:cNvPr id="457" name="Freeform 24"/>
          <p:cNvSpPr/>
          <p:nvPr/>
        </p:nvSpPr>
        <p:spPr>
          <a:xfrm>
            <a:off x="893880" y="2697120"/>
            <a:ext cx="3232080" cy="98100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6"/>
          <p:cNvSpPr/>
          <p:nvPr/>
        </p:nvSpPr>
        <p:spPr>
          <a:xfrm>
            <a:off x="3830760" y="2544840"/>
            <a:ext cx="606240" cy="117612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27"/>
          <p:cNvSpPr/>
          <p:nvPr/>
        </p:nvSpPr>
        <p:spPr>
          <a:xfrm rot="11416200">
            <a:off x="3832920" y="3701520"/>
            <a:ext cx="606600" cy="11764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4189320" y="2867040"/>
            <a:ext cx="3125880" cy="811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4210200" y="3763800"/>
            <a:ext cx="3105000" cy="667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1"/>
          <p:cNvSpPr/>
          <p:nvPr/>
        </p:nvSpPr>
        <p:spPr>
          <a:xfrm>
            <a:off x="548280" y="28195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2"/>
          <p:cNvSpPr/>
          <p:nvPr/>
        </p:nvSpPr>
        <p:spPr>
          <a:xfrm>
            <a:off x="3215160" y="350532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3"/>
          <p:cNvSpPr/>
          <p:nvPr/>
        </p:nvSpPr>
        <p:spPr>
          <a:xfrm>
            <a:off x="7177680" y="2743200"/>
            <a:ext cx="583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Content Placeholder 3"/>
              <p:cNvSpPr txBox="1"/>
              <p:nvPr/>
            </p:nvSpPr>
            <p:spPr>
              <a:xfrm>
                <a:off x="6553080" y="4267080"/>
                <a:ext cx="2590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7" name="Content Placeholder 3"/>
              <p:cNvSpPr txBox="1"/>
              <p:nvPr/>
            </p:nvSpPr>
            <p:spPr>
              <a:xfrm>
                <a:off x="0" y="1447920"/>
                <a:ext cx="25909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Content Placeholder 3"/>
              <p:cNvSpPr txBox="1"/>
              <p:nvPr/>
            </p:nvSpPr>
            <p:spPr>
              <a:xfrm>
                <a:off x="2819520" y="1447920"/>
                <a:ext cx="25905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9" name="Rectangle 6"/>
          <p:cNvSpPr/>
          <p:nvPr/>
        </p:nvSpPr>
        <p:spPr>
          <a:xfrm>
            <a:off x="304920" y="2438280"/>
            <a:ext cx="1981080" cy="6098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4572000" y="1523880"/>
            <a:ext cx="685800" cy="2438640"/>
          </a:xfrm>
          <a:prstGeom prst="rect">
            <a:avLst/>
          </a:prstGeom>
          <a:solidFill>
            <a:srgbClr val="2da2bf">
              <a:alpha val="44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>
            <a:off x="3671280" y="4343400"/>
            <a:ext cx="23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+ 6 + 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9"/>
          <p:cNvSpPr/>
          <p:nvPr/>
        </p:nvSpPr>
        <p:spPr>
          <a:xfrm>
            <a:off x="4575600" y="5334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edges that have v as an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T: a loop is counted TWIC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tal degree of 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wice the number of edges in the grap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ro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tal degree must be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number of vertices with odd vertices is ev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4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s are used with matrices and probability to figure out many conditions, specifically in the scienc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"/>
          <p:cNvPicPr/>
          <p:nvPr/>
        </p:nvPicPr>
        <p:blipFill>
          <a:blip r:embed="rId2"/>
          <a:srcRect l="7503" t="0" r="11251" b="0"/>
          <a:stretch/>
        </p:blipFill>
        <p:spPr>
          <a:xfrm>
            <a:off x="3505320" y="1219320"/>
            <a:ext cx="54482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obability of the current state depends on the previous sta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chastic matrix: Each row of the matrix adds up to 1 with no negative ent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4" descr="markov.gif"/>
          <p:cNvPicPr/>
          <p:nvPr/>
        </p:nvPicPr>
        <p:blipFill>
          <a:blip r:embed="rId1"/>
          <a:stretch/>
        </p:blipFill>
        <p:spPr>
          <a:xfrm>
            <a:off x="914400" y="1447920"/>
            <a:ext cx="6680160" cy="2160360"/>
          </a:xfrm>
          <a:prstGeom prst="rect">
            <a:avLst/>
          </a:prstGeom>
          <a:ln w="0">
            <a:noFill/>
          </a:ln>
        </p:spPr>
      </p:pic>
      <p:pic>
        <p:nvPicPr>
          <p:cNvPr id="481" name="Title 2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tices (nodes): poi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ges: 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jacent vertices: share an 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allel: when two vertices are connected by more than one ed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op: an edge which starts and ends with the same end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nite set of edg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function that maps each edge to a set of vert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ppose in a certain nation, 90% of those born in cities stay in cities and the other 10% move to rural regions.  Of those born in rural regions, 70% stay there and 30% move to the cities.  In the long run, what percentage of people will live in rural region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84" name="Object 4"/>
              <p:cNvSpPr txBox="1"/>
              <p:nvPr/>
            </p:nvSpPr>
            <p:spPr>
              <a:xfrm>
                <a:off x="1676520" y="4419720"/>
                <a:ext cx="190476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5" name="TextBox 4"/>
          <p:cNvSpPr/>
          <p:nvPr/>
        </p:nvSpPr>
        <p:spPr>
          <a:xfrm>
            <a:off x="4431960" y="4114800"/>
            <a:ext cx="24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9a + .3b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b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5"/>
          <p:cNvSpPr/>
          <p:nvPr/>
        </p:nvSpPr>
        <p:spPr>
          <a:xfrm>
            <a:off x="4960800" y="5486400"/>
            <a:ext cx="139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= 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6789960" y="548640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¼ 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33520" y="838080"/>
          <a:ext cx="8229600" cy="6705720"/>
        </p:xfrm>
        <a:graphic>
          <a:graphicData uri="http://schemas.openxmlformats.org/drawingml/2006/table">
            <a:tbl>
              <a:tblPr/>
              <a:tblGrid>
                <a:gridCol w="761760"/>
                <a:gridCol w="2819520"/>
                <a:gridCol w="259092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a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me required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-requisite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oose musi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egotiate royalty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st Tryo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rchestra Au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sign Set and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o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orchestra w/o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struct set, sew costu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hearse cast w/ orche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 ,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chnical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,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ress rehears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erform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,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15920" y="-85680"/>
            <a:ext cx="850428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Oval 3"/>
          <p:cNvSpPr/>
          <p:nvPr/>
        </p:nvSpPr>
        <p:spPr>
          <a:xfrm>
            <a:off x="228600" y="29718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5"/>
          <p:cNvCxnSpPr>
            <a:stCxn id="377" idx="6"/>
            <a:endCxn id="379" idx="2"/>
          </p:cNvCxnSpPr>
          <p:nvPr/>
        </p:nvCxnSpPr>
        <p:spPr>
          <a:xfrm flipV="1">
            <a:off x="1143000" y="1751760"/>
            <a:ext cx="534240" cy="1677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0" name="Straight Arrow Connector 6"/>
          <p:cNvCxnSpPr>
            <a:stCxn id="377" idx="6"/>
            <a:endCxn id="381" idx="2"/>
          </p:cNvCxnSpPr>
          <p:nvPr/>
        </p:nvCxnSpPr>
        <p:spPr>
          <a:xfrm flipV="1">
            <a:off x="1143000" y="2971440"/>
            <a:ext cx="8388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2" name="Straight Arrow Connector 9"/>
          <p:cNvCxnSpPr>
            <a:stCxn id="377" idx="6"/>
            <a:endCxn id="383" idx="2"/>
          </p:cNvCxnSpPr>
          <p:nvPr/>
        </p:nvCxnSpPr>
        <p:spPr>
          <a:xfrm>
            <a:off x="1142640" y="3428640"/>
            <a:ext cx="762840" cy="610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84" name="Straight Arrow Connector 12"/>
          <p:cNvCxnSpPr>
            <a:stCxn id="377" idx="6"/>
            <a:endCxn id="385" idx="1"/>
          </p:cNvCxnSpPr>
          <p:nvPr/>
        </p:nvCxnSpPr>
        <p:spPr>
          <a:xfrm>
            <a:off x="1142640" y="3429000"/>
            <a:ext cx="819720" cy="1581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79" name="Oval 15"/>
          <p:cNvSpPr/>
          <p:nvPr/>
        </p:nvSpPr>
        <p:spPr>
          <a:xfrm>
            <a:off x="1676520" y="1295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6"/>
          <p:cNvSpPr/>
          <p:nvPr/>
        </p:nvSpPr>
        <p:spPr>
          <a:xfrm>
            <a:off x="19810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17"/>
          <p:cNvSpPr/>
          <p:nvPr/>
        </p:nvSpPr>
        <p:spPr>
          <a:xfrm>
            <a:off x="1905120" y="35812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8"/>
          <p:cNvSpPr/>
          <p:nvPr/>
        </p:nvSpPr>
        <p:spPr>
          <a:xfrm>
            <a:off x="1828800" y="4876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3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7620120" y="20574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25"/>
          <p:cNvSpPr/>
          <p:nvPr/>
        </p:nvSpPr>
        <p:spPr>
          <a:xfrm>
            <a:off x="4038480" y="251460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4038480" y="37339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27"/>
          <p:cNvSpPr/>
          <p:nvPr/>
        </p:nvSpPr>
        <p:spPr>
          <a:xfrm>
            <a:off x="5486400" y="30481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28"/>
          <p:cNvSpPr/>
          <p:nvPr/>
        </p:nvSpPr>
        <p:spPr>
          <a:xfrm>
            <a:off x="3962520" y="518148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29"/>
          <p:cNvCxnSpPr>
            <a:stCxn id="381" idx="6"/>
            <a:endCxn id="388" idx="2"/>
          </p:cNvCxnSpPr>
          <p:nvPr/>
        </p:nvCxnSpPr>
        <p:spPr>
          <a:xfrm>
            <a:off x="2895120" y="2971800"/>
            <a:ext cx="114372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3" name="Straight Arrow Connector 33"/>
          <p:cNvCxnSpPr>
            <a:stCxn id="383" idx="6"/>
            <a:endCxn id="389" idx="2"/>
          </p:cNvCxnSpPr>
          <p:nvPr/>
        </p:nvCxnSpPr>
        <p:spPr>
          <a:xfrm>
            <a:off x="2819520" y="4038480"/>
            <a:ext cx="1219680" cy="153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4" name="Straight Arrow Connector 37"/>
          <p:cNvCxnSpPr>
            <a:stCxn id="385" idx="6"/>
            <a:endCxn id="391" idx="2"/>
          </p:cNvCxnSpPr>
          <p:nvPr/>
        </p:nvCxnSpPr>
        <p:spPr>
          <a:xfrm>
            <a:off x="2742840" y="5334120"/>
            <a:ext cx="1220040" cy="3052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5" name="Straight Arrow Connector 40"/>
          <p:cNvCxnSpPr>
            <a:stCxn id="391" idx="6"/>
            <a:endCxn id="396" idx="3"/>
          </p:cNvCxnSpPr>
          <p:nvPr/>
        </p:nvCxnSpPr>
        <p:spPr>
          <a:xfrm flipV="1">
            <a:off x="4876560" y="4285440"/>
            <a:ext cx="2724840" cy="1353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7" name="Straight Arrow Connector 44"/>
          <p:cNvCxnSpPr>
            <a:stCxn id="389" idx="6"/>
            <a:endCxn id="390" idx="2"/>
          </p:cNvCxnSpPr>
          <p:nvPr/>
        </p:nvCxnSpPr>
        <p:spPr>
          <a:xfrm flipV="1">
            <a:off x="4952880" y="3504600"/>
            <a:ext cx="53424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8" name="Straight Arrow Connector 47"/>
          <p:cNvCxnSpPr>
            <a:stCxn id="388" idx="6"/>
            <a:endCxn id="390" idx="1"/>
          </p:cNvCxnSpPr>
          <p:nvPr/>
        </p:nvCxnSpPr>
        <p:spPr>
          <a:xfrm>
            <a:off x="4952880" y="2971800"/>
            <a:ext cx="667440" cy="210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9" name="Straight Arrow Connector 50"/>
          <p:cNvCxnSpPr>
            <a:stCxn id="390" idx="6"/>
            <a:endCxn id="396" idx="2"/>
          </p:cNvCxnSpPr>
          <p:nvPr/>
        </p:nvCxnSpPr>
        <p:spPr>
          <a:xfrm>
            <a:off x="6400440" y="3505320"/>
            <a:ext cx="1067400" cy="4579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0" name="Straight Arrow Connector 53"/>
          <p:cNvCxnSpPr>
            <a:stCxn id="387" idx="0"/>
            <a:endCxn id="386" idx="4"/>
          </p:cNvCxnSpPr>
          <p:nvPr/>
        </p:nvCxnSpPr>
        <p:spPr>
          <a:xfrm flipV="1">
            <a:off x="8074440" y="1372320"/>
            <a:ext cx="3960" cy="686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1" name="Straight Arrow Connector 56"/>
          <p:cNvCxnSpPr>
            <a:stCxn id="379" idx="7"/>
            <a:endCxn id="386" idx="2"/>
          </p:cNvCxnSpPr>
          <p:nvPr/>
        </p:nvCxnSpPr>
        <p:spPr>
          <a:xfrm flipV="1">
            <a:off x="2456280" y="913680"/>
            <a:ext cx="5163480" cy="515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96" name="Oval 63"/>
          <p:cNvSpPr/>
          <p:nvPr/>
        </p:nvSpPr>
        <p:spPr>
          <a:xfrm>
            <a:off x="7467480" y="3505320"/>
            <a:ext cx="91440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68"/>
          <p:cNvCxnSpPr>
            <a:stCxn id="396" idx="0"/>
            <a:endCxn id="387" idx="4"/>
          </p:cNvCxnSpPr>
          <p:nvPr/>
        </p:nvCxnSpPr>
        <p:spPr>
          <a:xfrm flipV="1">
            <a:off x="7924680" y="2971440"/>
            <a:ext cx="153360" cy="5342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72"/>
          <p:cNvSpPr/>
          <p:nvPr/>
        </p:nvSpPr>
        <p:spPr>
          <a:xfrm>
            <a:off x="460800" y="251460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3"/>
          <p:cNvSpPr/>
          <p:nvPr/>
        </p:nvSpPr>
        <p:spPr>
          <a:xfrm>
            <a:off x="1298520" y="10666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4"/>
          <p:cNvSpPr/>
          <p:nvPr/>
        </p:nvSpPr>
        <p:spPr>
          <a:xfrm>
            <a:off x="1679400" y="236232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77"/>
          <p:cNvSpPr/>
          <p:nvPr/>
        </p:nvSpPr>
        <p:spPr>
          <a:xfrm>
            <a:off x="1526040" y="4800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8"/>
          <p:cNvSpPr/>
          <p:nvPr/>
        </p:nvSpPr>
        <p:spPr>
          <a:xfrm>
            <a:off x="1679760" y="33526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79"/>
          <p:cNvSpPr/>
          <p:nvPr/>
        </p:nvSpPr>
        <p:spPr>
          <a:xfrm>
            <a:off x="3812400" y="22096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80"/>
          <p:cNvSpPr/>
          <p:nvPr/>
        </p:nvSpPr>
        <p:spPr>
          <a:xfrm>
            <a:off x="3813840" y="35053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81"/>
          <p:cNvSpPr/>
          <p:nvPr/>
        </p:nvSpPr>
        <p:spPr>
          <a:xfrm>
            <a:off x="3737160" y="487692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2"/>
          <p:cNvSpPr/>
          <p:nvPr/>
        </p:nvSpPr>
        <p:spPr>
          <a:xfrm>
            <a:off x="5565600" y="2590920"/>
            <a:ext cx="2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3"/>
          <p:cNvSpPr/>
          <p:nvPr/>
        </p:nvSpPr>
        <p:spPr>
          <a:xfrm>
            <a:off x="7317720" y="3124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84"/>
          <p:cNvSpPr/>
          <p:nvPr/>
        </p:nvSpPr>
        <p:spPr>
          <a:xfrm>
            <a:off x="7395480" y="17524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5"/>
          <p:cNvSpPr/>
          <p:nvPr/>
        </p:nvSpPr>
        <p:spPr>
          <a:xfrm>
            <a:off x="7241400" y="304920"/>
            <a:ext cx="3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minimum number of days required to produce the musical through the last performanc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nt the longest spanning tree (remember this graph is read from left to right: directed graph- digraph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jewelry store has found that 85% of its customers are women.  Of the female customers who purchase jewelry, 36% spend over $100.  Of the male customers who purchase jewelry 52% spend over $10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. What percent of the customers who purchase jewelry spend over $100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s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15920" y="-49320"/>
            <a:ext cx="85042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1" name="Oval 3"/>
          <p:cNvSpPr/>
          <p:nvPr/>
        </p:nvSpPr>
        <p:spPr>
          <a:xfrm>
            <a:off x="228600" y="2971800"/>
            <a:ext cx="25909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4"/>
          <p:cNvCxnSpPr>
            <a:stCxn id="421" idx="6"/>
            <a:endCxn id="423" idx="2"/>
          </p:cNvCxnSpPr>
          <p:nvPr/>
        </p:nvCxnSpPr>
        <p:spPr>
          <a:xfrm flipV="1">
            <a:off x="2819520" y="2666160"/>
            <a:ext cx="381600" cy="762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24" name="Straight Arrow Connector 5"/>
          <p:cNvCxnSpPr>
            <a:stCxn id="421" idx="6"/>
            <a:endCxn id="425" idx="2"/>
          </p:cNvCxnSpPr>
          <p:nvPr/>
        </p:nvCxnSpPr>
        <p:spPr>
          <a:xfrm>
            <a:off x="2819520" y="3429000"/>
            <a:ext cx="457920" cy="838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3" name="Oval 6"/>
          <p:cNvSpPr/>
          <p:nvPr/>
        </p:nvSpPr>
        <p:spPr>
          <a:xfrm>
            <a:off x="3200400" y="2362320"/>
            <a:ext cx="2743200" cy="6094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"/>
          <p:cNvSpPr/>
          <p:nvPr/>
        </p:nvSpPr>
        <p:spPr>
          <a:xfrm>
            <a:off x="3276720" y="3886200"/>
            <a:ext cx="2666880" cy="7621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0"/>
          <p:cNvCxnSpPr>
            <a:stCxn id="423" idx="6"/>
          </p:cNvCxnSpPr>
          <p:nvPr/>
        </p:nvCxnSpPr>
        <p:spPr>
          <a:xfrm flipV="1">
            <a:off x="5943600" y="2133000"/>
            <a:ext cx="381600" cy="53388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27" name="Oval 25"/>
          <p:cNvSpPr/>
          <p:nvPr/>
        </p:nvSpPr>
        <p:spPr>
          <a:xfrm>
            <a:off x="6172200" y="1752480"/>
            <a:ext cx="2743200" cy="6098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3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3"/>
          <p:cNvSpPr/>
          <p:nvPr/>
        </p:nvSpPr>
        <p:spPr>
          <a:xfrm>
            <a:off x="7010280" y="3581280"/>
            <a:ext cx="213372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</a:rPr>
              <a:t>5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Straight Arrow Connector 34"/>
          <p:cNvCxnSpPr>
            <a:stCxn id="425" idx="6"/>
            <a:endCxn id="428" idx="2"/>
          </p:cNvCxnSpPr>
          <p:nvPr/>
        </p:nvCxnSpPr>
        <p:spPr>
          <a:xfrm flipV="1">
            <a:off x="5943240" y="4037760"/>
            <a:ext cx="1067400" cy="2293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. if a customer spend over $100, what is the probability that the customer is ma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7.8 / 38.4  ≈ 20.3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table for an edge endpoint function with the graph shown 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rcRect l="75002" t="50002" r="8126" b="35999"/>
          <a:stretch/>
        </p:blipFill>
        <p:spPr>
          <a:xfrm>
            <a:off x="0" y="2590920"/>
            <a:ext cx="484992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4876920" y="2514600"/>
          <a:ext cx="4267080" cy="233208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d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,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{ 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2:09:41Z</dcterms:created>
  <dc:creator>Laura Helbing</dc:creator>
  <dc:description/>
  <dc:language>en-US</dc:language>
  <cp:lastModifiedBy>Laura Helbing</cp:lastModifiedBy>
  <dcterms:modified xsi:type="dcterms:W3CDTF">2011-05-27T18:19:15Z</dcterms:modified>
  <cp:revision>3</cp:revision>
  <dc:subject/>
  <dc:title>Modeling with Graphs</dc:title>
</cp:coreProperties>
</file>