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0587-DF0E-45D0-AE11-64125AB6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408-B1F2-43AD-8D74-D45CA8B4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77ED-7BFC-45A7-9773-FA4300F0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F36D-630E-417B-BAFF-656981D6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4E50-D0D3-48F7-B276-94FD4526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F3EB-ED51-4F20-9FA4-7EBFBF68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E8C2-4D57-4828-9946-4BA7E325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3256-524F-42F3-AE83-03775895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9FA1-5617-4AF9-AEBB-C51E7245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5FB7-5C37-4530-8A5D-F5B1D125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7A82-1D06-4ADC-9839-FA99EA8B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03F-6BF5-4D3C-AC52-6E66FDC8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2000-5A5A-4077-95F2-DDFC84C2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9F06-7510-45E3-BB04-E4C3EF54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40FE-B8BB-42C2-9CA2-D66B3E35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A708-3893-429D-949A-32B510BB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DDE3-F830-4176-BC9A-72C45A31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AEEF4-2636-434B-924A-06A6F980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EED3E-BB9F-4BCA-924C-AF4D3958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779F7-09F5-47C8-A178-1FD36124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70983-C2E0-422C-A4AE-1AA85BA2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2DCB6-BB8D-4FF0-8A98-74EDE87C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CCBB-6D2F-4A1E-B5E8-E81EA094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7FA39-C00B-419B-8FF4-C1656E95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8AAE2-2929-4BEC-B61C-F5B447C1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01F55-F97C-4B0B-8C81-111F92F6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BBC81-DCFF-4BBC-B296-616849B4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4D582-B633-4AD7-9523-6359D7D0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3B248-87AD-4850-9B78-39C9840A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A189B-F1DE-4E15-A396-2C78AB10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DB2B9-3645-4A6D-B5FE-16C5BFD5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1800D-6E99-48DA-B53A-1D651BD0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D43BF-08BE-47F2-A2D3-A95222D6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8554-FC71-4C02-B029-D609ED12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9E0CC-B11B-4CE4-9F05-DA181CFB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4DC22-0748-4A4F-B1FD-E7CA9EEC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F3C72-25B8-4A8A-9E77-88373B1A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EE2CC-037A-49E7-8C0B-C12961F7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91AFF-EDA9-46AE-A939-17940BC3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7FD44-9748-4CE0-9E7B-A71D82DB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68B7E-786F-4E41-B0C2-5B822399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00D20-523D-4994-BD41-EE39347E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39B11-4FC8-4F19-8B4F-40E7D077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72C46-79D0-47A4-9BD6-E498AF79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0F7C-9459-49EB-8445-A2098D88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929F0-8971-4B67-98FB-73905BD4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14142-E501-4501-AC5A-435EDC40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4C74A-DC97-4AE8-8191-5DC0BE3A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72D72-662A-4C74-AAA0-D734BBC5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601A1-774B-4419-9EE5-E798680C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654E3-7280-4381-8C53-5D79DBF3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33563-A66F-4CC7-AC87-0BA88A8B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B345D-D778-4B83-BD1E-64123A11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503F4-6950-43D5-B263-2D90BB75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28DA1-11E0-4E51-8560-AA979241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FC7-2437-4554-86AE-38E48E07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CDE5A-A579-4E94-9D7C-E47FDC6E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69AD2-495B-48E1-9E19-C7890CCA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5AA3A-93FA-4BE4-A6FB-F3F49AD3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99D6D-1E2F-47D3-87BE-EF0EE00B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E9378-C3E8-4DF2-9E17-485C091D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DA82C-54BF-40C9-9BA5-275644C4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914D7-FB7B-4E5D-87BA-50B39857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1E9FD-33C8-479D-B423-5736757F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B99AB-A684-4031-BE96-09ED2EC2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FA0E4-E0CB-4BCA-BF63-43914B6B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B079-721F-40E0-952D-16810231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D97DF-139A-4D61-A2BC-990917BC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C8AF5-593C-4E7D-AF61-49F1055D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D26BE-07F3-4705-BE46-53200221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AF22E-5431-44AA-9C7E-457236C7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A5940-B068-4236-BA56-D42556BC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0EA79-115C-4BE7-9865-56E764F3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0076F-B2BA-4EDF-83CE-BA37A701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8622D-D7DC-46C7-A12B-D745B10B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5BF0A-FDC0-4783-996C-BE220569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ABC2C-6B54-4B85-A97E-24771ED7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2902-441D-42DC-93E2-9875B301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FEC84-A157-4889-BB1B-3C67B691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565A5-499A-4C3A-B085-8336C771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3987A-0EF8-4D0E-8025-A7B70101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944D9-8282-4E91-8BFE-720A733F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790EB-0CD8-470D-BD7E-D79BC017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CE949-FDD5-4B45-85FE-D0D9F069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0A3A3-08BB-443F-8674-5F421229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598B2-F8B4-4A6F-BEAF-35F84572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E436D-C72C-4772-BE82-8C781411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50BED-4F1B-4778-93DF-DF8F08A9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C57-359E-48A0-9486-B3F2A86C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787C0-0630-4800-BE15-47FABB04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A70B7-1662-4C1A-88F0-B2C93F6D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0F698-6CB3-4E49-8EDD-524A0104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64C9F-A93D-4309-81BC-C4F62267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CA4B2-D29E-4E56-875F-BBA75B15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F3901-3D5D-4579-9E47-7C50DA5C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6257E-401D-4377-A20C-57D19C19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947A-6383-45F5-BF55-E84597909C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9B9A-ED47-47F0-8890-8079D0966B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0900-B80A-4DD8-ACC5-0B81970FBF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704C-ED5E-488D-AFD8-97CAF6628B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7139-5BFE-4DF3-8E95-D2600C61D7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07FE-46B3-4BC2-A760-998DD2E655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5120-E355-47E3-A071-AB1DCD0D7A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C506-DF22-49D9-9315-1FB11152C3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Lesson 13.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 the adjacency matrix for the digrap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" descr=""/>
          <p:cNvPicPr/>
          <p:nvPr/>
        </p:nvPicPr>
        <p:blipFill>
          <a:blip r:embed="rId2"/>
          <a:srcRect l="75002" t="50002" r="8126" b="35999"/>
          <a:stretch/>
        </p:blipFill>
        <p:spPr>
          <a:xfrm>
            <a:off x="380880" y="2209680"/>
            <a:ext cx="4849920" cy="251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9" name="Object 4"/>
              <p:cNvSpPr txBox="1"/>
              <p:nvPr/>
            </p:nvSpPr>
            <p:spPr>
              <a:xfrm>
                <a:off x="5943600" y="3505320"/>
                <a:ext cx="2736720" cy="28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raw a picture of an undirected graph that has the following adjacency matri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Object 2"/>
              <p:cNvSpPr txBox="1"/>
              <p:nvPr/>
            </p:nvSpPr>
            <p:spPr>
              <a:xfrm>
                <a:off x="914400" y="2438280"/>
                <a:ext cx="2025720" cy="20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43" name="Picture 3" descr=""/>
          <p:cNvPicPr/>
          <p:nvPr/>
        </p:nvPicPr>
        <p:blipFill>
          <a:blip r:embed="rId2"/>
          <a:srcRect l="78003" t="47339" r="4998" b="43339"/>
          <a:stretch/>
        </p:blipFill>
        <p:spPr>
          <a:xfrm>
            <a:off x="2852640" y="3276720"/>
            <a:ext cx="62913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vertex is adjacent to every other vertex (also known as a k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raph or a cliqu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" descr=""/>
          <p:cNvPicPr/>
          <p:nvPr/>
        </p:nvPicPr>
        <p:blipFill>
          <a:blip r:embed="rId2"/>
          <a:stretch/>
        </p:blipFill>
        <p:spPr>
          <a:xfrm>
            <a:off x="838080" y="2514600"/>
            <a:ext cx="3819600" cy="4010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7" name="Object 3"/>
              <p:cNvSpPr txBox="1"/>
              <p:nvPr/>
            </p:nvSpPr>
            <p:spPr>
              <a:xfrm>
                <a:off x="5791320" y="3733920"/>
                <a:ext cx="255888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ymmetric over the main diagonal (upper left to lower righ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i,j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j,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undirected graphs are symmetr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gth of walk – number of edges in the walk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e.g. – walk of length 2 must go through an intermediate vertex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find number of walks of length n from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find 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nd look at the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i,j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le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many walks of length 2 are there from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graph shown below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2" name="Oval 3"/>
          <p:cNvSpPr/>
          <p:nvPr/>
        </p:nvSpPr>
        <p:spPr>
          <a:xfrm>
            <a:off x="762120" y="3505320"/>
            <a:ext cx="228600" cy="30456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4"/>
          <p:cNvSpPr/>
          <p:nvPr/>
        </p:nvSpPr>
        <p:spPr>
          <a:xfrm>
            <a:off x="7238880" y="3505320"/>
            <a:ext cx="228600" cy="30456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5"/>
          <p:cNvSpPr/>
          <p:nvPr/>
        </p:nvSpPr>
        <p:spPr>
          <a:xfrm>
            <a:off x="4038480" y="3581280"/>
            <a:ext cx="228600" cy="304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7"/>
          <p:cNvSpPr/>
          <p:nvPr/>
        </p:nvSpPr>
        <p:spPr>
          <a:xfrm flipV="1">
            <a:off x="4267080" y="3657600"/>
            <a:ext cx="3200400" cy="76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6" name="Curved Connector 9"/>
          <p:cNvCxnSpPr>
            <a:stCxn id="452" idx="3"/>
            <a:endCxn id="453" idx="4"/>
          </p:cNvCxnSpPr>
          <p:nvPr/>
        </p:nvCxnSpPr>
        <p:spPr>
          <a:xfrm flipH="1" rot="16200000">
            <a:off x="4051080" y="508320"/>
            <a:ext cx="45000" cy="6558840"/>
          </a:xfrm>
          <a:prstGeom prst="curvedConnector5">
            <a:avLst>
              <a:gd name="adj1" fmla="val 5566129"/>
              <a:gd name="adj2" fmla="val 50000"/>
              <a:gd name="adj3" fmla="val 5566129"/>
            </a:avLst>
          </a:prstGeom>
          <a:ln w="9360">
            <a:solidFill>
              <a:srgbClr val="2da2bf"/>
            </a:solidFill>
            <a:miter/>
          </a:ln>
        </p:spPr>
      </p:cxnSp>
      <p:sp>
        <p:nvSpPr>
          <p:cNvPr id="457" name="Freeform 24"/>
          <p:cNvSpPr/>
          <p:nvPr/>
        </p:nvSpPr>
        <p:spPr>
          <a:xfrm>
            <a:off x="893880" y="2697120"/>
            <a:ext cx="3232080" cy="98100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26"/>
          <p:cNvSpPr/>
          <p:nvPr/>
        </p:nvSpPr>
        <p:spPr>
          <a:xfrm>
            <a:off x="3830760" y="2544840"/>
            <a:ext cx="606240" cy="117612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27"/>
          <p:cNvSpPr/>
          <p:nvPr/>
        </p:nvSpPr>
        <p:spPr>
          <a:xfrm rot="11416200">
            <a:off x="3832920" y="3701520"/>
            <a:ext cx="606600" cy="117648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9"/>
          <p:cNvSpPr/>
          <p:nvPr/>
        </p:nvSpPr>
        <p:spPr>
          <a:xfrm>
            <a:off x="4189320" y="2867040"/>
            <a:ext cx="3125880" cy="81108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30"/>
          <p:cNvSpPr/>
          <p:nvPr/>
        </p:nvSpPr>
        <p:spPr>
          <a:xfrm>
            <a:off x="4210200" y="3763800"/>
            <a:ext cx="3105000" cy="66708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31"/>
          <p:cNvSpPr/>
          <p:nvPr/>
        </p:nvSpPr>
        <p:spPr>
          <a:xfrm>
            <a:off x="548280" y="2819520"/>
            <a:ext cx="583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32"/>
          <p:cNvSpPr/>
          <p:nvPr/>
        </p:nvSpPr>
        <p:spPr>
          <a:xfrm>
            <a:off x="3215160" y="3505320"/>
            <a:ext cx="583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33"/>
          <p:cNvSpPr/>
          <p:nvPr/>
        </p:nvSpPr>
        <p:spPr>
          <a:xfrm>
            <a:off x="7177680" y="2743200"/>
            <a:ext cx="583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Content Placeholder 3"/>
              <p:cNvSpPr txBox="1"/>
              <p:nvPr/>
            </p:nvSpPr>
            <p:spPr>
              <a:xfrm>
                <a:off x="6553080" y="4267080"/>
                <a:ext cx="25909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7" name="Content Placeholder 3"/>
              <p:cNvSpPr txBox="1"/>
              <p:nvPr/>
            </p:nvSpPr>
            <p:spPr>
              <a:xfrm>
                <a:off x="0" y="1447920"/>
                <a:ext cx="259092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Content Placeholder 3"/>
              <p:cNvSpPr txBox="1"/>
              <p:nvPr/>
            </p:nvSpPr>
            <p:spPr>
              <a:xfrm>
                <a:off x="2819520" y="1447920"/>
                <a:ext cx="259056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9" name="Rectangle 6"/>
          <p:cNvSpPr/>
          <p:nvPr/>
        </p:nvSpPr>
        <p:spPr>
          <a:xfrm>
            <a:off x="304920" y="2438280"/>
            <a:ext cx="1981080" cy="609840"/>
          </a:xfrm>
          <a:prstGeom prst="rect">
            <a:avLst/>
          </a:prstGeom>
          <a:solidFill>
            <a:srgbClr val="2da2bf">
              <a:alpha val="44000"/>
            </a:srgbClr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4572000" y="1523880"/>
            <a:ext cx="685800" cy="2438640"/>
          </a:xfrm>
          <a:prstGeom prst="rect">
            <a:avLst/>
          </a:prstGeom>
          <a:solidFill>
            <a:srgbClr val="2da2bf">
              <a:alpha val="44000"/>
            </a:srgbClr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8"/>
          <p:cNvSpPr/>
          <p:nvPr/>
        </p:nvSpPr>
        <p:spPr>
          <a:xfrm>
            <a:off x="3671280" y="4343400"/>
            <a:ext cx="23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+ 6 + 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9"/>
          <p:cNvSpPr/>
          <p:nvPr/>
        </p:nvSpPr>
        <p:spPr>
          <a:xfrm>
            <a:off x="4575600" y="53341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umber of edges that have v as an endpoi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MPT: a loop is counted TWICE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tal degree of grap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wice the number of edges in the graph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roll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tal degree must be ev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number of vertices with odd vertices is ev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48104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phs are used with matrices and probability to figure out many conditions, specifically in the scienc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" descr=""/>
          <p:cNvPicPr/>
          <p:nvPr/>
        </p:nvPicPr>
        <p:blipFill>
          <a:blip r:embed="rId2"/>
          <a:srcRect l="7503" t="0" r="11251" b="0"/>
          <a:stretch/>
        </p:blipFill>
        <p:spPr>
          <a:xfrm>
            <a:off x="3505320" y="1219320"/>
            <a:ext cx="54482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obability of the current state depends on the previous sta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ochastic matrix: Each row of the matrix adds up to 1 with no negative ent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Content Placeholder 4" descr="markov.gif"/>
          <p:cNvPicPr/>
          <p:nvPr/>
        </p:nvPicPr>
        <p:blipFill>
          <a:blip r:embed="rId1"/>
          <a:stretch/>
        </p:blipFill>
        <p:spPr>
          <a:xfrm>
            <a:off x="914400" y="1447920"/>
            <a:ext cx="6680160" cy="2160360"/>
          </a:xfrm>
          <a:prstGeom prst="rect">
            <a:avLst/>
          </a:prstGeom>
          <a:ln w="0">
            <a:noFill/>
          </a:ln>
        </p:spPr>
      </p:pic>
      <p:pic>
        <p:nvPicPr>
          <p:cNvPr id="481" name="Title 2" descr=""/>
          <p:cNvPicPr/>
          <p:nvPr/>
        </p:nvPicPr>
        <p:blipFill>
          <a:blip r:embed="rId2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rtices (nodes): poi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dges: li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jacent vertices: share an ed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allel: when two vertices are connected by more than one edg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op: an edge which starts and ends with the same endpoi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p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inite set of vertic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inite set of edg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 function that maps each edge to a set of vertic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ppose in a certain nation, 90% of those born in cities stay in cities and the other 10% move to rural regions.  Of those born in rural regions, 70% stay there and 30% move to the cities.  In the long run, what percentage of people will live in rural region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84" name="Object 4"/>
              <p:cNvSpPr txBox="1"/>
              <p:nvPr/>
            </p:nvSpPr>
            <p:spPr>
              <a:xfrm>
                <a:off x="1676520" y="4419720"/>
                <a:ext cx="1904760" cy="16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5" name="TextBox 4"/>
          <p:cNvSpPr/>
          <p:nvPr/>
        </p:nvSpPr>
        <p:spPr>
          <a:xfrm>
            <a:off x="4431960" y="4114800"/>
            <a:ext cx="248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9a + .3b =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+ b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5"/>
          <p:cNvSpPr/>
          <p:nvPr/>
        </p:nvSpPr>
        <p:spPr>
          <a:xfrm>
            <a:off x="4960800" y="5486400"/>
            <a:ext cx="139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= 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= 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6789960" y="548640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¼ 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533520" y="838080"/>
          <a:ext cx="8229600" cy="6705720"/>
        </p:xfrm>
        <a:graphic>
          <a:graphicData uri="http://schemas.openxmlformats.org/drawingml/2006/table">
            <a:tbl>
              <a:tblPr/>
              <a:tblGrid>
                <a:gridCol w="761760"/>
                <a:gridCol w="2819520"/>
                <a:gridCol w="259092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a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me required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re-requisite 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hoose music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egotiate royalty agre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st Tryo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rchestra Au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sign Set and costu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hearse cast w/o orches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hearse orchestra w/o c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nstruct set, sew costu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hearse cast w/ orches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 ,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echnical rehear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,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ress rehear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erform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,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15920" y="-85680"/>
            <a:ext cx="850428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Oval 3"/>
          <p:cNvSpPr/>
          <p:nvPr/>
        </p:nvSpPr>
        <p:spPr>
          <a:xfrm>
            <a:off x="228600" y="297180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Straight Arrow Connector 5"/>
          <p:cNvCxnSpPr>
            <a:stCxn id="377" idx="6"/>
            <a:endCxn id="379" idx="2"/>
          </p:cNvCxnSpPr>
          <p:nvPr/>
        </p:nvCxnSpPr>
        <p:spPr>
          <a:xfrm flipV="1">
            <a:off x="1143000" y="1751760"/>
            <a:ext cx="534240" cy="16772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80" name="Straight Arrow Connector 6"/>
          <p:cNvCxnSpPr>
            <a:stCxn id="377" idx="6"/>
            <a:endCxn id="381" idx="2"/>
          </p:cNvCxnSpPr>
          <p:nvPr/>
        </p:nvCxnSpPr>
        <p:spPr>
          <a:xfrm flipV="1">
            <a:off x="1143000" y="2971440"/>
            <a:ext cx="83880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82" name="Straight Arrow Connector 9"/>
          <p:cNvCxnSpPr>
            <a:stCxn id="377" idx="6"/>
            <a:endCxn id="383" idx="2"/>
          </p:cNvCxnSpPr>
          <p:nvPr/>
        </p:nvCxnSpPr>
        <p:spPr>
          <a:xfrm>
            <a:off x="1142640" y="3428640"/>
            <a:ext cx="762840" cy="6102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84" name="Straight Arrow Connector 12"/>
          <p:cNvCxnSpPr>
            <a:stCxn id="377" idx="6"/>
            <a:endCxn id="385" idx="1"/>
          </p:cNvCxnSpPr>
          <p:nvPr/>
        </p:nvCxnSpPr>
        <p:spPr>
          <a:xfrm>
            <a:off x="1142640" y="3429000"/>
            <a:ext cx="819720" cy="1581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79" name="Oval 15"/>
          <p:cNvSpPr/>
          <p:nvPr/>
        </p:nvSpPr>
        <p:spPr>
          <a:xfrm>
            <a:off x="1676520" y="129528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6"/>
          <p:cNvSpPr/>
          <p:nvPr/>
        </p:nvSpPr>
        <p:spPr>
          <a:xfrm>
            <a:off x="1981080" y="251460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7"/>
          <p:cNvSpPr/>
          <p:nvPr/>
        </p:nvSpPr>
        <p:spPr>
          <a:xfrm>
            <a:off x="1905120" y="358128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8"/>
          <p:cNvSpPr/>
          <p:nvPr/>
        </p:nvSpPr>
        <p:spPr>
          <a:xfrm>
            <a:off x="1828800" y="487692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3"/>
          <p:cNvSpPr/>
          <p:nvPr/>
        </p:nvSpPr>
        <p:spPr>
          <a:xfrm>
            <a:off x="7620120" y="45720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4"/>
          <p:cNvSpPr/>
          <p:nvPr/>
        </p:nvSpPr>
        <p:spPr>
          <a:xfrm>
            <a:off x="7620120" y="205740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5"/>
          <p:cNvSpPr/>
          <p:nvPr/>
        </p:nvSpPr>
        <p:spPr>
          <a:xfrm>
            <a:off x="4038480" y="251460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26"/>
          <p:cNvSpPr/>
          <p:nvPr/>
        </p:nvSpPr>
        <p:spPr>
          <a:xfrm>
            <a:off x="4038480" y="373392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27"/>
          <p:cNvSpPr/>
          <p:nvPr/>
        </p:nvSpPr>
        <p:spPr>
          <a:xfrm>
            <a:off x="5486400" y="304812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28"/>
          <p:cNvSpPr/>
          <p:nvPr/>
        </p:nvSpPr>
        <p:spPr>
          <a:xfrm>
            <a:off x="3962520" y="518148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Straight Arrow Connector 29"/>
          <p:cNvCxnSpPr>
            <a:stCxn id="381" idx="6"/>
            <a:endCxn id="388" idx="2"/>
          </p:cNvCxnSpPr>
          <p:nvPr/>
        </p:nvCxnSpPr>
        <p:spPr>
          <a:xfrm>
            <a:off x="2895120" y="2971800"/>
            <a:ext cx="1143720" cy="2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3" name="Straight Arrow Connector 33"/>
          <p:cNvCxnSpPr>
            <a:stCxn id="383" idx="6"/>
            <a:endCxn id="389" idx="2"/>
          </p:cNvCxnSpPr>
          <p:nvPr/>
        </p:nvCxnSpPr>
        <p:spPr>
          <a:xfrm>
            <a:off x="2819520" y="4038480"/>
            <a:ext cx="1219680" cy="153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4" name="Straight Arrow Connector 37"/>
          <p:cNvCxnSpPr>
            <a:stCxn id="385" idx="6"/>
            <a:endCxn id="391" idx="2"/>
          </p:cNvCxnSpPr>
          <p:nvPr/>
        </p:nvCxnSpPr>
        <p:spPr>
          <a:xfrm>
            <a:off x="2742840" y="5334120"/>
            <a:ext cx="1220040" cy="3052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5" name="Straight Arrow Connector 40"/>
          <p:cNvCxnSpPr>
            <a:stCxn id="391" idx="6"/>
            <a:endCxn id="396" idx="3"/>
          </p:cNvCxnSpPr>
          <p:nvPr/>
        </p:nvCxnSpPr>
        <p:spPr>
          <a:xfrm flipV="1">
            <a:off x="4876560" y="4285440"/>
            <a:ext cx="2724840" cy="13532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7" name="Straight Arrow Connector 44"/>
          <p:cNvCxnSpPr>
            <a:stCxn id="389" idx="6"/>
            <a:endCxn id="390" idx="2"/>
          </p:cNvCxnSpPr>
          <p:nvPr/>
        </p:nvCxnSpPr>
        <p:spPr>
          <a:xfrm flipV="1">
            <a:off x="4952880" y="3504600"/>
            <a:ext cx="534240" cy="686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8" name="Straight Arrow Connector 47"/>
          <p:cNvCxnSpPr>
            <a:stCxn id="388" idx="6"/>
            <a:endCxn id="390" idx="1"/>
          </p:cNvCxnSpPr>
          <p:nvPr/>
        </p:nvCxnSpPr>
        <p:spPr>
          <a:xfrm>
            <a:off x="4952880" y="2971800"/>
            <a:ext cx="667440" cy="2102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9" name="Straight Arrow Connector 50"/>
          <p:cNvCxnSpPr>
            <a:stCxn id="390" idx="6"/>
            <a:endCxn id="396" idx="2"/>
          </p:cNvCxnSpPr>
          <p:nvPr/>
        </p:nvCxnSpPr>
        <p:spPr>
          <a:xfrm>
            <a:off x="6400440" y="3505320"/>
            <a:ext cx="106740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0" name="Straight Arrow Connector 53"/>
          <p:cNvCxnSpPr>
            <a:stCxn id="387" idx="0"/>
            <a:endCxn id="386" idx="4"/>
          </p:cNvCxnSpPr>
          <p:nvPr/>
        </p:nvCxnSpPr>
        <p:spPr>
          <a:xfrm flipV="1">
            <a:off x="8074440" y="1372320"/>
            <a:ext cx="3960" cy="686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1" name="Straight Arrow Connector 56"/>
          <p:cNvCxnSpPr>
            <a:stCxn id="379" idx="7"/>
            <a:endCxn id="386" idx="2"/>
          </p:cNvCxnSpPr>
          <p:nvPr/>
        </p:nvCxnSpPr>
        <p:spPr>
          <a:xfrm flipV="1">
            <a:off x="2456280" y="913680"/>
            <a:ext cx="5163480" cy="515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96" name="Oval 63"/>
          <p:cNvSpPr/>
          <p:nvPr/>
        </p:nvSpPr>
        <p:spPr>
          <a:xfrm>
            <a:off x="7467480" y="350532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Straight Arrow Connector 68"/>
          <p:cNvCxnSpPr>
            <a:stCxn id="396" idx="0"/>
            <a:endCxn id="387" idx="4"/>
          </p:cNvCxnSpPr>
          <p:nvPr/>
        </p:nvCxnSpPr>
        <p:spPr>
          <a:xfrm flipV="1">
            <a:off x="7924680" y="2971440"/>
            <a:ext cx="153360" cy="5342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3" name="TextBox 72"/>
          <p:cNvSpPr/>
          <p:nvPr/>
        </p:nvSpPr>
        <p:spPr>
          <a:xfrm>
            <a:off x="460800" y="251460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73"/>
          <p:cNvSpPr/>
          <p:nvPr/>
        </p:nvSpPr>
        <p:spPr>
          <a:xfrm>
            <a:off x="1298520" y="10666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74"/>
          <p:cNvSpPr/>
          <p:nvPr/>
        </p:nvSpPr>
        <p:spPr>
          <a:xfrm>
            <a:off x="1679400" y="236232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77"/>
          <p:cNvSpPr/>
          <p:nvPr/>
        </p:nvSpPr>
        <p:spPr>
          <a:xfrm>
            <a:off x="1526040" y="4800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78"/>
          <p:cNvSpPr/>
          <p:nvPr/>
        </p:nvSpPr>
        <p:spPr>
          <a:xfrm>
            <a:off x="1679760" y="335268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79"/>
          <p:cNvSpPr/>
          <p:nvPr/>
        </p:nvSpPr>
        <p:spPr>
          <a:xfrm>
            <a:off x="3812400" y="22096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80"/>
          <p:cNvSpPr/>
          <p:nvPr/>
        </p:nvSpPr>
        <p:spPr>
          <a:xfrm>
            <a:off x="3813840" y="350532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81"/>
          <p:cNvSpPr/>
          <p:nvPr/>
        </p:nvSpPr>
        <p:spPr>
          <a:xfrm>
            <a:off x="3737160" y="487692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82"/>
          <p:cNvSpPr/>
          <p:nvPr/>
        </p:nvSpPr>
        <p:spPr>
          <a:xfrm>
            <a:off x="5565600" y="259092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83"/>
          <p:cNvSpPr/>
          <p:nvPr/>
        </p:nvSpPr>
        <p:spPr>
          <a:xfrm>
            <a:off x="7317720" y="312408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84"/>
          <p:cNvSpPr/>
          <p:nvPr/>
        </p:nvSpPr>
        <p:spPr>
          <a:xfrm>
            <a:off x="7395480" y="175248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85"/>
          <p:cNvSpPr/>
          <p:nvPr/>
        </p:nvSpPr>
        <p:spPr>
          <a:xfrm>
            <a:off x="7241400" y="304920"/>
            <a:ext cx="3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is the minimum number of days required to produce the musical through the last performanc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unt the longest spanning tree (remember this graph is read from left to right: directed graph- digraph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jewelry store has found that 85% of its customers are women.  Of the female customers who purchase jewelry, 36% spend over $100.  Of the male customers who purchase jewelry 52% spend over $100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. What percent of the customers who purchase jewelry spend over $100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. If a customer spends over $100, what is the probability that the customer is mal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15920" y="-49320"/>
            <a:ext cx="850428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1" name="Oval 3"/>
          <p:cNvSpPr/>
          <p:nvPr/>
        </p:nvSpPr>
        <p:spPr>
          <a:xfrm>
            <a:off x="228600" y="2971800"/>
            <a:ext cx="259092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Straight Arrow Connector 4"/>
          <p:cNvCxnSpPr>
            <a:stCxn id="421" idx="6"/>
            <a:endCxn id="423" idx="2"/>
          </p:cNvCxnSpPr>
          <p:nvPr/>
        </p:nvCxnSpPr>
        <p:spPr>
          <a:xfrm flipV="1">
            <a:off x="2819520" y="2666160"/>
            <a:ext cx="381600" cy="762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24" name="Straight Arrow Connector 5"/>
          <p:cNvCxnSpPr>
            <a:stCxn id="421" idx="6"/>
            <a:endCxn id="425" idx="2"/>
          </p:cNvCxnSpPr>
          <p:nvPr/>
        </p:nvCxnSpPr>
        <p:spPr>
          <a:xfrm>
            <a:off x="2819520" y="3429000"/>
            <a:ext cx="457920" cy="838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23" name="Oval 6"/>
          <p:cNvSpPr/>
          <p:nvPr/>
        </p:nvSpPr>
        <p:spPr>
          <a:xfrm>
            <a:off x="3200400" y="2362320"/>
            <a:ext cx="2743200" cy="6094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8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7"/>
          <p:cNvSpPr/>
          <p:nvPr/>
        </p:nvSpPr>
        <p:spPr>
          <a:xfrm>
            <a:off x="3276720" y="3886200"/>
            <a:ext cx="2666880" cy="7621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Straight Arrow Connector 10"/>
          <p:cNvCxnSpPr>
            <a:stCxn id="423" idx="6"/>
          </p:cNvCxnSpPr>
          <p:nvPr/>
        </p:nvCxnSpPr>
        <p:spPr>
          <a:xfrm flipV="1">
            <a:off x="5943600" y="2133000"/>
            <a:ext cx="381600" cy="5338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27" name="Oval 25"/>
          <p:cNvSpPr/>
          <p:nvPr/>
        </p:nvSpPr>
        <p:spPr>
          <a:xfrm>
            <a:off x="6172200" y="1752480"/>
            <a:ext cx="2743200" cy="609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3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33"/>
          <p:cNvSpPr/>
          <p:nvPr/>
        </p:nvSpPr>
        <p:spPr>
          <a:xfrm>
            <a:off x="7010280" y="3581280"/>
            <a:ext cx="213372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5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9" name="Straight Arrow Connector 34"/>
          <p:cNvCxnSpPr>
            <a:stCxn id="425" idx="6"/>
            <a:endCxn id="428" idx="2"/>
          </p:cNvCxnSpPr>
          <p:nvPr/>
        </p:nvCxnSpPr>
        <p:spPr>
          <a:xfrm flipV="1">
            <a:off x="5943240" y="4037760"/>
            <a:ext cx="1067400" cy="2293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. if a customer spend over $100, what is the probability that the customer is mal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7.8 / 38.4  ≈ 20.3%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a table for an edge endpoint function with the graph shown he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" descr=""/>
          <p:cNvPicPr/>
          <p:nvPr/>
        </p:nvPicPr>
        <p:blipFill>
          <a:blip r:embed="rId2"/>
          <a:srcRect l="75002" t="50002" r="8126" b="35999"/>
          <a:stretch/>
        </p:blipFill>
        <p:spPr>
          <a:xfrm>
            <a:off x="0" y="2590920"/>
            <a:ext cx="4849920" cy="25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4876920" y="2514600"/>
          <a:ext cx="4267080" cy="233208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nd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{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1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{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,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{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,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{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,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{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2:09:41Z</dcterms:created>
  <dc:creator>Laura Helbing</dc:creator>
  <dc:description/>
  <dc:language>en-US</dc:language>
  <cp:lastModifiedBy>Laura Helbing</cp:lastModifiedBy>
  <dcterms:modified xsi:type="dcterms:W3CDTF">2011-05-27T18:19:15Z</dcterms:modified>
  <cp:revision>3</cp:revision>
  <dc:subject/>
  <dc:title>Modeling with Graphs</dc:title>
</cp:coreProperties>
</file>