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F12-EA65-4EA5-91B6-E4C85111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459-83A7-48F9-B2FE-2C2FC2E3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7FA-7DEE-4EE0-9103-7BFBA982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624-16C1-44B9-9A27-D6710735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FE8E-5155-4C8F-BA5C-413F179C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8358-C9C6-412B-B4B9-7060877C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263E-B3A1-4B5F-A9C9-93D2E73D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ECE9-C682-4BE6-BB65-BB11C73A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949C-7946-4E07-94FF-59DCB12E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8856-4123-4547-92F8-DAD73F84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6C54-4C8D-403C-BB7E-F655B3F5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C04-82C4-4DE8-9E38-885F40C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ED3B-62F3-43F4-8A01-E1009FE7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75A9-16D2-42FA-B996-FF2C80C0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2389-6468-47EF-A6E6-751502E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6B79-B94B-4201-ADA0-07840D76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4EF9-2FE1-4624-8AD8-78B5F960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80BF-24FD-44C7-9A4F-AE7E9C03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CCD2-608C-43EF-9EEA-74C4055A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3DF0-9EAD-49C5-91D5-8B1D4CAE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FEA1-914C-4906-A465-2EBCF822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519E-A1DA-4E35-8730-984AF3F5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ED8-77F3-4A66-A48F-5EBBA3CF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D343-C7C6-43D5-A38A-ADF61EA5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F898-7214-4D9B-B2C6-1A647DE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2E2F-3B0C-4F15-AD2E-4A6D2BB8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DAE3-4FB5-43AB-B0F2-DBC78E4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F46FC-8731-4287-BB7A-7EDE9B49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9B6E-326C-4EF3-A7DB-295AC71A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D4AD-C050-419D-A019-B84672F9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0CF5-5A07-40CB-812C-961551C2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6E21-0D2B-4AE3-88A4-F2DF39A4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9AA0A-0F56-44C5-88AA-66C45C7D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A04-8BC6-479F-A4C0-538F7AE5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12F52-9496-4A82-ABCA-A7D971C3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A44E-758A-409F-976A-C91C9C21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54BF-017D-4012-A0E0-F54360A1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5C34-9855-40B2-BC71-A5B0A32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9786-C9DF-42CB-AE13-EC4B5CA7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530D9-3969-4BE6-B6AC-D9695203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63CA-078D-4C72-9547-0789B520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4BDF-9097-425A-A586-BE22DFEB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E012B-C9C1-425D-84C7-1620F05D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8325D-F527-48F0-993B-0AEEAB76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83D-D43E-475D-8F26-7B28132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6B591-08B5-45DE-9416-CF4AAE32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972B-AC7C-4AB6-88D2-3AD2D98C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DC0E-2F7B-4A2C-BBE0-FD04AFD4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12671-598C-49A8-97BF-F0DCC5D0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4D143-1F52-4308-B22B-6A1EFD68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9504-17E6-47E6-A98D-1257E7F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4E55-250F-4CBC-8BE9-6F239CD7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F013-90CC-4765-BA34-D3048CA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1403-5414-46F8-8FE7-5E3E693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6BC3-EE18-42A3-A8EB-2CAFF9CD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171-2A45-487E-87B2-CF51633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7229-9A72-436F-9785-307F22EC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A32C-68E6-4111-BF59-277A79C9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22133-C335-487B-A5B0-03F40B2B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9A2F-E432-408F-B696-AA4DFDC6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D234-8DEF-4987-AB52-51F4D5C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6F04F-2702-4045-B048-2C07BF4F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BF88-1ADE-4470-A6F5-671C0EE4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28C7B-497A-4949-8EC0-37B8EC2C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85C46-ED68-46B2-AD0A-9F71BD7F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D5893-C223-4668-AB43-92895B7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287-D965-4D00-862C-FA6864D1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208B-200C-49B8-B3FD-9BAEFEF1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88F3F-D752-4146-B416-8C680C7B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C0A92-6901-45B6-AC7A-B8211F4A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10BE-18B8-4BC1-97E0-2978FC86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6CD6-87C9-493D-B1FB-8525CB6F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A311-7345-49A1-A7FC-7A17B161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2152-59FC-485C-8135-D99ED99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6874-62EA-4EA8-AB33-A7D45CE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717F8-AD6D-45E5-BE41-A52631CD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E502B-674D-4147-B846-210931A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C47-EB45-4D9F-9961-1DA9EE4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EE206-AF12-43AD-BEB9-BA8592D8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DF41-BA31-498F-AF02-1AD1B50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668F3-6A8D-4C0A-9EFC-37136366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CC2D1-CBF1-42D0-A78C-92937C5D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13BFF-2900-4FA8-B2E2-C87EA88D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139F0-7924-4AA0-8356-C37E107D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A2AC0-3B4F-4772-8FBE-7EF8F150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C292-52B1-4A78-ACC2-B71F78E7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2FAD-6130-4046-AFC3-72D05200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C50E9-1516-4F19-8463-BF6A0E38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BA1-3763-4C3F-B665-E97BEA2B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FBA5-FFA3-43BF-A3C6-D6A9EB40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4088-337C-4E47-95F1-90511AD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40EC4-E459-4EE3-92CA-7CD424BD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4416B-D082-4A56-84F0-27A7885D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880F-5960-44C0-9A95-5B04596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ED80E-FDD4-4F24-8FE7-0C1A366B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3F033-6985-40D4-AA48-7DA73A4B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36AA-3F13-4C2A-8963-7B720B5ED9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0E2E-E504-4A90-B2F0-B7A12DA150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6B59-98A9-42B0-B986-37D7567455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AA6-ACFD-4FEF-BCBB-CEBE83D7A2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4771-D65A-4974-AB2C-C803EC402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0F76-AEB0-4957-BC69-F9679AFAEA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5BCA-E343-4B69-9822-CAA51E200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5F68-2076-4ECA-93E6-F462451A55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13.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the adjacency matrix for the di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"/>
          <p:cNvPicPr/>
          <p:nvPr/>
        </p:nvPicPr>
        <p:blipFill>
          <a:blip r:embed="rId2"/>
          <a:srcRect l="75002" t="50002" r="8126" b="35999"/>
          <a:stretch/>
        </p:blipFill>
        <p:spPr>
          <a:xfrm>
            <a:off x="380880" y="2209680"/>
            <a:ext cx="484992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5943600" y="3505320"/>
                <a:ext cx="273672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aw a picture of an undirected graph that has the following adjacency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914400" y="2438280"/>
                <a:ext cx="2025720" cy="20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43" name="Picture 3" descr=""/>
          <p:cNvPicPr/>
          <p:nvPr/>
        </p:nvPicPr>
        <p:blipFill>
          <a:blip r:embed="rId2"/>
          <a:srcRect l="78003" t="47339" r="4998" b="43339"/>
          <a:stretch/>
        </p:blipFill>
        <p:spPr>
          <a:xfrm>
            <a:off x="2852640" y="3276720"/>
            <a:ext cx="6291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vertex is adjacent to every other vertex (also known as a k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ph or a cliq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3819600" cy="401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791320" y="3733920"/>
                <a:ext cx="255888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mmetric over the main diagonal (upper left to lower righ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j,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undirected graphs are symmetr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walk – number of edges in the wal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e.g. – walk of length 2 must go through an intermediate vertex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find number of walks of length n from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find 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look at the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l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walks of length 2 are there from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graph shown bel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2" name="Oval 3"/>
          <p:cNvSpPr/>
          <p:nvPr/>
        </p:nvSpPr>
        <p:spPr>
          <a:xfrm>
            <a:off x="762120" y="3505320"/>
            <a:ext cx="228600" cy="3045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7238880" y="3505320"/>
            <a:ext cx="228600" cy="3045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4038480" y="3581280"/>
            <a:ext cx="228600" cy="304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7"/>
          <p:cNvSpPr/>
          <p:nvPr/>
        </p:nvSpPr>
        <p:spPr>
          <a:xfrm flipV="1">
            <a:off x="4267080" y="3657600"/>
            <a:ext cx="3200400" cy="76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Curved Connector 9"/>
          <p:cNvCxnSpPr>
            <a:stCxn id="452" idx="3"/>
            <a:endCxn id="453" idx="4"/>
          </p:cNvCxnSpPr>
          <p:nvPr/>
        </p:nvCxnSpPr>
        <p:spPr>
          <a:xfrm flipH="1" rot="16200000">
            <a:off x="4051080" y="508320"/>
            <a:ext cx="45000" cy="6558840"/>
          </a:xfrm>
          <a:prstGeom prst="curvedConnector5">
            <a:avLst>
              <a:gd name="adj1" fmla="val 5566129"/>
              <a:gd name="adj2" fmla="val 50000"/>
              <a:gd name="adj3" fmla="val 5566129"/>
            </a:avLst>
          </a:prstGeom>
          <a:ln w="9360">
            <a:solidFill>
              <a:srgbClr val="2da2bf"/>
            </a:solidFill>
            <a:miter/>
          </a:ln>
        </p:spPr>
      </p:cxnSp>
      <p:sp>
        <p:nvSpPr>
          <p:cNvPr id="457" name="Freeform 24"/>
          <p:cNvSpPr/>
          <p:nvPr/>
        </p:nvSpPr>
        <p:spPr>
          <a:xfrm>
            <a:off x="893880" y="2697120"/>
            <a:ext cx="3232080" cy="98100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6"/>
          <p:cNvSpPr/>
          <p:nvPr/>
        </p:nvSpPr>
        <p:spPr>
          <a:xfrm>
            <a:off x="3830760" y="2544840"/>
            <a:ext cx="606240" cy="117612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7"/>
          <p:cNvSpPr/>
          <p:nvPr/>
        </p:nvSpPr>
        <p:spPr>
          <a:xfrm rot="11416200">
            <a:off x="3832920" y="3701520"/>
            <a:ext cx="606600" cy="11764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9"/>
          <p:cNvSpPr/>
          <p:nvPr/>
        </p:nvSpPr>
        <p:spPr>
          <a:xfrm>
            <a:off x="4189320" y="2867040"/>
            <a:ext cx="3125880" cy="811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0"/>
          <p:cNvSpPr/>
          <p:nvPr/>
        </p:nvSpPr>
        <p:spPr>
          <a:xfrm>
            <a:off x="4210200" y="3763800"/>
            <a:ext cx="3105000" cy="667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1"/>
          <p:cNvSpPr/>
          <p:nvPr/>
        </p:nvSpPr>
        <p:spPr>
          <a:xfrm>
            <a:off x="548280" y="281952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32"/>
          <p:cNvSpPr/>
          <p:nvPr/>
        </p:nvSpPr>
        <p:spPr>
          <a:xfrm>
            <a:off x="3215160" y="350532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33"/>
          <p:cNvSpPr/>
          <p:nvPr/>
        </p:nvSpPr>
        <p:spPr>
          <a:xfrm>
            <a:off x="7177680" y="274320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Content Placeholder 3"/>
              <p:cNvSpPr txBox="1"/>
              <p:nvPr/>
            </p:nvSpPr>
            <p:spPr>
              <a:xfrm>
                <a:off x="6553080" y="4267080"/>
                <a:ext cx="2590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7" name="Content Placeholder 3"/>
              <p:cNvSpPr txBox="1"/>
              <p:nvPr/>
            </p:nvSpPr>
            <p:spPr>
              <a:xfrm>
                <a:off x="0" y="1447920"/>
                <a:ext cx="25909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Content Placeholder 3"/>
              <p:cNvSpPr txBox="1"/>
              <p:nvPr/>
            </p:nvSpPr>
            <p:spPr>
              <a:xfrm>
                <a:off x="2819520" y="1447920"/>
                <a:ext cx="25905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9" name="Rectangle 6"/>
          <p:cNvSpPr/>
          <p:nvPr/>
        </p:nvSpPr>
        <p:spPr>
          <a:xfrm>
            <a:off x="304920" y="2438280"/>
            <a:ext cx="1981080" cy="609840"/>
          </a:xfrm>
          <a:prstGeom prst="rect">
            <a:avLst/>
          </a:prstGeom>
          <a:solidFill>
            <a:srgbClr val="2da2bf">
              <a:alpha val="44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4572000" y="1523880"/>
            <a:ext cx="685800" cy="2438640"/>
          </a:xfrm>
          <a:prstGeom prst="rect">
            <a:avLst/>
          </a:prstGeom>
          <a:solidFill>
            <a:srgbClr val="2da2bf">
              <a:alpha val="44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3671280" y="434340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+ 6 +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4575600" y="5334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edges that have v as an end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T: a loop is counted TWIC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tal degree of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wice the number of edges in the grap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o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tal degree must be ev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vertices with odd vertices is ev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s are used with matrices and probability to figure out many conditions, specifically in the scie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"/>
          <p:cNvPicPr/>
          <p:nvPr/>
        </p:nvPicPr>
        <p:blipFill>
          <a:blip r:embed="rId2"/>
          <a:srcRect l="7503" t="0" r="11251" b="0"/>
          <a:stretch/>
        </p:blipFill>
        <p:spPr>
          <a:xfrm>
            <a:off x="3505320" y="1219320"/>
            <a:ext cx="54482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bability of the current state depends on the previous sta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ochastic matrix: Each row of the matrix adds up to 1 with no negative ent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4" descr="markov.gif"/>
          <p:cNvPicPr/>
          <p:nvPr/>
        </p:nvPicPr>
        <p:blipFill>
          <a:blip r:embed="rId1"/>
          <a:stretch/>
        </p:blipFill>
        <p:spPr>
          <a:xfrm>
            <a:off x="914400" y="1447920"/>
            <a:ext cx="6680160" cy="2160360"/>
          </a:xfrm>
          <a:prstGeom prst="rect">
            <a:avLst/>
          </a:prstGeom>
          <a:ln w="0">
            <a:noFill/>
          </a:ln>
        </p:spPr>
      </p:pic>
      <p:pic>
        <p:nvPicPr>
          <p:cNvPr id="481" name="Title 2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tices (nodes):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dges: 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jacent vertices: share an 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allel: when two vertices are connected by more than one ed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op: an edge which starts and ends with the same end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ite set of vert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ite set of edg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function that maps each edge to a set of vert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se in a certain nation, 90% of those born in cities stay in cities and the other 10% move to rural regions.  Of those born in rural regions, 70% stay there and 30% move to the cities.  In the long run, what percentage of people will live in rural regio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1676520" y="4419720"/>
                <a:ext cx="190476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5" name="TextBox 4"/>
          <p:cNvSpPr/>
          <p:nvPr/>
        </p:nvSpPr>
        <p:spPr>
          <a:xfrm>
            <a:off x="4431960" y="4114800"/>
            <a:ext cx="24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9a + .3b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+ b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"/>
          <p:cNvSpPr/>
          <p:nvPr/>
        </p:nvSpPr>
        <p:spPr>
          <a:xfrm>
            <a:off x="4960800" y="5486400"/>
            <a:ext cx="139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 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6789960" y="54864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¼ 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33520" y="838080"/>
          <a:ext cx="8229600" cy="6705720"/>
        </p:xfrm>
        <a:graphic>
          <a:graphicData uri="http://schemas.openxmlformats.org/drawingml/2006/table">
            <a:tbl>
              <a:tblPr/>
              <a:tblGrid>
                <a:gridCol w="761760"/>
                <a:gridCol w="2819520"/>
                <a:gridCol w="259092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me required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-requisite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oose mus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egotiate royalty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st Tryo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rchestra Au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sign Set and cost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cast w/o orche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orchestra w/o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struct set, sew cost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cast w/ orche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 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chnical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ress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rform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,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15920" y="-85680"/>
            <a:ext cx="85042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Oval 3"/>
          <p:cNvSpPr/>
          <p:nvPr/>
        </p:nvSpPr>
        <p:spPr>
          <a:xfrm>
            <a:off x="228600" y="29718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5"/>
          <p:cNvCxnSpPr>
            <a:stCxn id="377" idx="6"/>
            <a:endCxn id="379" idx="2"/>
          </p:cNvCxnSpPr>
          <p:nvPr/>
        </p:nvCxnSpPr>
        <p:spPr>
          <a:xfrm flipV="1">
            <a:off x="1143000" y="1751760"/>
            <a:ext cx="534240" cy="1677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0" name="Straight Arrow Connector 6"/>
          <p:cNvCxnSpPr>
            <a:stCxn id="377" idx="6"/>
            <a:endCxn id="381" idx="2"/>
          </p:cNvCxnSpPr>
          <p:nvPr/>
        </p:nvCxnSpPr>
        <p:spPr>
          <a:xfrm flipV="1">
            <a:off x="1143000" y="2971440"/>
            <a:ext cx="83880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2" name="Straight Arrow Connector 9"/>
          <p:cNvCxnSpPr>
            <a:stCxn id="377" idx="6"/>
            <a:endCxn id="383" idx="2"/>
          </p:cNvCxnSpPr>
          <p:nvPr/>
        </p:nvCxnSpPr>
        <p:spPr>
          <a:xfrm>
            <a:off x="1142640" y="3428640"/>
            <a:ext cx="762840" cy="610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Straight Arrow Connector 12"/>
          <p:cNvCxnSpPr>
            <a:stCxn id="377" idx="6"/>
            <a:endCxn id="385" idx="1"/>
          </p:cNvCxnSpPr>
          <p:nvPr/>
        </p:nvCxnSpPr>
        <p:spPr>
          <a:xfrm>
            <a:off x="1142640" y="3429000"/>
            <a:ext cx="819720" cy="1581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79" name="Oval 15"/>
          <p:cNvSpPr/>
          <p:nvPr/>
        </p:nvSpPr>
        <p:spPr>
          <a:xfrm>
            <a:off x="1676520" y="12952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6"/>
          <p:cNvSpPr/>
          <p:nvPr/>
        </p:nvSpPr>
        <p:spPr>
          <a:xfrm>
            <a:off x="1981080" y="25146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7"/>
          <p:cNvSpPr/>
          <p:nvPr/>
        </p:nvSpPr>
        <p:spPr>
          <a:xfrm>
            <a:off x="1905120" y="35812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1828800" y="48769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3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4"/>
          <p:cNvSpPr/>
          <p:nvPr/>
        </p:nvSpPr>
        <p:spPr>
          <a:xfrm>
            <a:off x="7620120" y="20574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5"/>
          <p:cNvSpPr/>
          <p:nvPr/>
        </p:nvSpPr>
        <p:spPr>
          <a:xfrm>
            <a:off x="4038480" y="25146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4038480" y="37339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7"/>
          <p:cNvSpPr/>
          <p:nvPr/>
        </p:nvSpPr>
        <p:spPr>
          <a:xfrm>
            <a:off x="5486400" y="30481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8"/>
          <p:cNvSpPr/>
          <p:nvPr/>
        </p:nvSpPr>
        <p:spPr>
          <a:xfrm>
            <a:off x="3962520" y="51814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29"/>
          <p:cNvCxnSpPr>
            <a:stCxn id="381" idx="6"/>
            <a:endCxn id="388" idx="2"/>
          </p:cNvCxnSpPr>
          <p:nvPr/>
        </p:nvCxnSpPr>
        <p:spPr>
          <a:xfrm>
            <a:off x="2895120" y="2971800"/>
            <a:ext cx="114372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3" name="Straight Arrow Connector 33"/>
          <p:cNvCxnSpPr>
            <a:stCxn id="383" idx="6"/>
            <a:endCxn id="389" idx="2"/>
          </p:cNvCxnSpPr>
          <p:nvPr/>
        </p:nvCxnSpPr>
        <p:spPr>
          <a:xfrm>
            <a:off x="2819520" y="4038480"/>
            <a:ext cx="1219680" cy="153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4" name="Straight Arrow Connector 37"/>
          <p:cNvCxnSpPr>
            <a:stCxn id="385" idx="6"/>
            <a:endCxn id="391" idx="2"/>
          </p:cNvCxnSpPr>
          <p:nvPr/>
        </p:nvCxnSpPr>
        <p:spPr>
          <a:xfrm>
            <a:off x="2742840" y="5334120"/>
            <a:ext cx="1220040" cy="3052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5" name="Straight Arrow Connector 40"/>
          <p:cNvCxnSpPr>
            <a:stCxn id="391" idx="6"/>
            <a:endCxn id="396" idx="3"/>
          </p:cNvCxnSpPr>
          <p:nvPr/>
        </p:nvCxnSpPr>
        <p:spPr>
          <a:xfrm flipV="1">
            <a:off x="4876560" y="4285440"/>
            <a:ext cx="2724840" cy="1353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7" name="Straight Arrow Connector 44"/>
          <p:cNvCxnSpPr>
            <a:stCxn id="389" idx="6"/>
            <a:endCxn id="390" idx="2"/>
          </p:cNvCxnSpPr>
          <p:nvPr/>
        </p:nvCxnSpPr>
        <p:spPr>
          <a:xfrm flipV="1">
            <a:off x="4952880" y="3504600"/>
            <a:ext cx="53424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8" name="Straight Arrow Connector 47"/>
          <p:cNvCxnSpPr>
            <a:stCxn id="388" idx="6"/>
            <a:endCxn id="390" idx="1"/>
          </p:cNvCxnSpPr>
          <p:nvPr/>
        </p:nvCxnSpPr>
        <p:spPr>
          <a:xfrm>
            <a:off x="4952880" y="2971800"/>
            <a:ext cx="667440" cy="210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9" name="Straight Arrow Connector 50"/>
          <p:cNvCxnSpPr>
            <a:stCxn id="390" idx="6"/>
            <a:endCxn id="396" idx="2"/>
          </p:cNvCxnSpPr>
          <p:nvPr/>
        </p:nvCxnSpPr>
        <p:spPr>
          <a:xfrm>
            <a:off x="6400440" y="3505320"/>
            <a:ext cx="106740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0" name="Straight Arrow Connector 53"/>
          <p:cNvCxnSpPr>
            <a:stCxn id="387" idx="0"/>
            <a:endCxn id="386" idx="4"/>
          </p:cNvCxnSpPr>
          <p:nvPr/>
        </p:nvCxnSpPr>
        <p:spPr>
          <a:xfrm flipV="1">
            <a:off x="8074440" y="1372320"/>
            <a:ext cx="396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1" name="Straight Arrow Connector 56"/>
          <p:cNvCxnSpPr>
            <a:stCxn id="379" idx="7"/>
            <a:endCxn id="386" idx="2"/>
          </p:cNvCxnSpPr>
          <p:nvPr/>
        </p:nvCxnSpPr>
        <p:spPr>
          <a:xfrm flipV="1">
            <a:off x="2456280" y="913680"/>
            <a:ext cx="5163480" cy="515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96" name="Oval 63"/>
          <p:cNvSpPr/>
          <p:nvPr/>
        </p:nvSpPr>
        <p:spPr>
          <a:xfrm>
            <a:off x="7467480" y="35053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68"/>
          <p:cNvCxnSpPr>
            <a:stCxn id="396" idx="0"/>
            <a:endCxn id="387" idx="4"/>
          </p:cNvCxnSpPr>
          <p:nvPr/>
        </p:nvCxnSpPr>
        <p:spPr>
          <a:xfrm flipV="1">
            <a:off x="7924680" y="2971440"/>
            <a:ext cx="153360" cy="534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72"/>
          <p:cNvSpPr/>
          <p:nvPr/>
        </p:nvSpPr>
        <p:spPr>
          <a:xfrm>
            <a:off x="460800" y="25146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3"/>
          <p:cNvSpPr/>
          <p:nvPr/>
        </p:nvSpPr>
        <p:spPr>
          <a:xfrm>
            <a:off x="1298520" y="1066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4"/>
          <p:cNvSpPr/>
          <p:nvPr/>
        </p:nvSpPr>
        <p:spPr>
          <a:xfrm>
            <a:off x="1679400" y="23623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7"/>
          <p:cNvSpPr/>
          <p:nvPr/>
        </p:nvSpPr>
        <p:spPr>
          <a:xfrm>
            <a:off x="1526040" y="480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8"/>
          <p:cNvSpPr/>
          <p:nvPr/>
        </p:nvSpPr>
        <p:spPr>
          <a:xfrm>
            <a:off x="1679760" y="33526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79"/>
          <p:cNvSpPr/>
          <p:nvPr/>
        </p:nvSpPr>
        <p:spPr>
          <a:xfrm>
            <a:off x="3812400" y="22096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80"/>
          <p:cNvSpPr/>
          <p:nvPr/>
        </p:nvSpPr>
        <p:spPr>
          <a:xfrm>
            <a:off x="3813840" y="35053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81"/>
          <p:cNvSpPr/>
          <p:nvPr/>
        </p:nvSpPr>
        <p:spPr>
          <a:xfrm>
            <a:off x="3737160" y="48769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82"/>
          <p:cNvSpPr/>
          <p:nvPr/>
        </p:nvSpPr>
        <p:spPr>
          <a:xfrm>
            <a:off x="5565600" y="259092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3"/>
          <p:cNvSpPr/>
          <p:nvPr/>
        </p:nvSpPr>
        <p:spPr>
          <a:xfrm>
            <a:off x="7317720" y="3124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84"/>
          <p:cNvSpPr/>
          <p:nvPr/>
        </p:nvSpPr>
        <p:spPr>
          <a:xfrm>
            <a:off x="7395480" y="17524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5"/>
          <p:cNvSpPr/>
          <p:nvPr/>
        </p:nvSpPr>
        <p:spPr>
          <a:xfrm>
            <a:off x="7241400" y="304920"/>
            <a:ext cx="3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minimum number of days required to produce the musical through the last performa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nt the longest spanning tree (remember this graph is read from left to right: directed graph- digraph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jewelry store has found that 85% of its customers are women.  Of the female customers who purchase jewelry, 36% spend over $100.  Of the male customers who purchase jewelry 52% spend over $10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. What percent of the customers who purchase jewelry spend over $100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If a customer spends over $100, what is the probability that the customer is ma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15920" y="-49320"/>
            <a:ext cx="85042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Oval 3"/>
          <p:cNvSpPr/>
          <p:nvPr/>
        </p:nvSpPr>
        <p:spPr>
          <a:xfrm>
            <a:off x="228600" y="2971800"/>
            <a:ext cx="259092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4"/>
          <p:cNvCxnSpPr>
            <a:stCxn id="421" idx="6"/>
            <a:endCxn id="423" idx="2"/>
          </p:cNvCxnSpPr>
          <p:nvPr/>
        </p:nvCxnSpPr>
        <p:spPr>
          <a:xfrm flipV="1">
            <a:off x="2819520" y="2666160"/>
            <a:ext cx="381600" cy="762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4" name="Straight Arrow Connector 5"/>
          <p:cNvCxnSpPr>
            <a:stCxn id="421" idx="6"/>
            <a:endCxn id="425" idx="2"/>
          </p:cNvCxnSpPr>
          <p:nvPr/>
        </p:nvCxnSpPr>
        <p:spPr>
          <a:xfrm>
            <a:off x="2819520" y="3429000"/>
            <a:ext cx="457920" cy="838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3" name="Oval 6"/>
          <p:cNvSpPr/>
          <p:nvPr/>
        </p:nvSpPr>
        <p:spPr>
          <a:xfrm>
            <a:off x="3200400" y="2362320"/>
            <a:ext cx="2743200" cy="6094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7"/>
          <p:cNvSpPr/>
          <p:nvPr/>
        </p:nvSpPr>
        <p:spPr>
          <a:xfrm>
            <a:off x="3276720" y="3886200"/>
            <a:ext cx="2666880" cy="762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10"/>
          <p:cNvCxnSpPr>
            <a:stCxn id="423" idx="6"/>
          </p:cNvCxnSpPr>
          <p:nvPr/>
        </p:nvCxnSpPr>
        <p:spPr>
          <a:xfrm flipV="1">
            <a:off x="5943600" y="2133000"/>
            <a:ext cx="381600" cy="5338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7" name="Oval 25"/>
          <p:cNvSpPr/>
          <p:nvPr/>
        </p:nvSpPr>
        <p:spPr>
          <a:xfrm>
            <a:off x="6172200" y="1752480"/>
            <a:ext cx="2743200" cy="609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3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3"/>
          <p:cNvSpPr/>
          <p:nvPr/>
        </p:nvSpPr>
        <p:spPr>
          <a:xfrm>
            <a:off x="7010280" y="3581280"/>
            <a:ext cx="213372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Straight Arrow Connector 34"/>
          <p:cNvCxnSpPr>
            <a:stCxn id="425" idx="6"/>
            <a:endCxn id="428" idx="2"/>
          </p:cNvCxnSpPr>
          <p:nvPr/>
        </p:nvCxnSpPr>
        <p:spPr>
          <a:xfrm flipV="1">
            <a:off x="5943240" y="4037760"/>
            <a:ext cx="1067400" cy="229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if a customer spend over $100, what is the probability that the customer is ma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.8 / 38.4  ≈ 20.3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 table for an edge endpoint function with the graph shown he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rcRect l="75002" t="50002" r="8126" b="35999"/>
          <a:stretch/>
        </p:blipFill>
        <p:spPr>
          <a:xfrm>
            <a:off x="0" y="2590920"/>
            <a:ext cx="484992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4876920" y="2514600"/>
          <a:ext cx="4267080" cy="23320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d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2:09:41Z</dcterms:created>
  <dc:creator>Laura Helbing</dc:creator>
  <dc:description/>
  <dc:language>en-US</dc:language>
  <cp:lastModifiedBy>Laura Helbing</cp:lastModifiedBy>
  <dcterms:modified xsi:type="dcterms:W3CDTF">2011-05-27T18:19:15Z</dcterms:modified>
  <cp:revision>3</cp:revision>
  <dc:subject/>
  <dc:title>Modeling with Graphs</dc:title>
</cp:coreProperties>
</file>