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3DF-BB1B-4843-8F21-2199F0AE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6EA-58A7-4250-913F-4B33E286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6CA-8A1E-46EC-A0EF-F4C095CB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6F1-17F3-4601-9B85-5556D3FF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53AB-5546-422D-B81A-98D0A59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A81F-27CF-4712-9511-CA2636D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E2E3-A1AE-4172-B206-31BC9EE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C6D-E4E1-4908-A4FC-41EDD52C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7DC-3161-4EBA-B91A-8647821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B4F0-0BE4-44DB-AE5E-2A55358B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B19F-902E-470A-AD15-13A6830F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A74-8577-4CE3-9F59-765670D2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7EDE-6B85-47EE-8DF7-E3CD52F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EB4F-6EAC-41E5-BEB7-6BEE81A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692-7D58-4912-BB0C-36FF5F10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E73-D3BD-457A-B06F-42EE7859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F83-CEEF-4DBF-A0BA-915D2844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EA29-D93D-46DA-9395-466911D9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C0CCC-A10F-45F0-876D-9EBF9718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1B8FD-642E-404A-B5D6-2B0294A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4415-56EF-4282-84AE-2020DE82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1D9E-0D56-4738-8E62-9400C396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4C8-2BFA-4CFE-BA4F-05A199FC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6BDC-6388-40E8-8217-5843BC9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521D-7520-447E-B38D-510D52B5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ED158-5982-45C7-9FD0-B6097A8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1D36-DBF5-4115-8418-3C6DA74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666A-B7C7-4B7E-A39A-28A65FE7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EB7E2-F1A0-4DE9-A204-AC90AE6B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8FA1-7830-44F0-BAF5-EDD73364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23B3F-59B1-4B86-8128-584FB8D2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C181-658C-4F53-8D15-3BC2AB6D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0987-6388-45DC-B00F-A9492B71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2CA-CF09-4D98-BFE2-2102B6E8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AC9D-BE2D-4D9B-B061-9861B529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A8C2-E8AB-487B-B4F0-FDEDF40E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E402-AE14-4EB9-8D7F-349569EF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0515-952B-42F0-B8DE-B48E1166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8F2D3-0DB8-405C-8199-C2F3434F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4FBA1-43E3-48B6-A0E0-CD5D95F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3E89-E036-48BB-8021-3E799EA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D86F-6336-46DC-9504-4B19DC86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BD4D2-38EF-4772-8A26-E9AEA78B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F6A2-C7D7-491C-A8BA-F9BA93AC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765-DCB3-477C-9252-355ADE7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6AE21-81C0-4ED1-924D-377D9EE5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6E79-9064-49D7-9B17-C41BEE2E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CD5A-B3D8-4A35-8A75-3CC38B2F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2DE6-ABC7-48ED-A581-23193A6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2C1F4-2C70-4F00-91A1-651DF407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00720-DC6A-4D1B-865C-16929B2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AA857-D391-463A-AEE2-E8D2387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9C87-2A82-4358-A13D-D3943915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B5B2-1FA0-43C9-89E9-55580E20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E7DA9-0F14-490D-9CE6-BE315785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9EB-5C7D-4F13-9830-CFBE4DE1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5537-DEB7-4028-B655-0060E993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5831F-6F4C-47F8-8E3B-A30D1448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E7D3D-1558-4E90-A56D-A97803A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62A6D-F104-42D9-B4F8-59EEC1B8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4E892-0CC8-48EA-8D00-AFC8AFA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C260B-7B78-4B24-A38C-58AA38C2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99F5-E05E-4D8E-A859-4DE33D8B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D0D57-6919-4102-B7B2-5B47B12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8AAF7-DB5A-4CA9-842C-CE0A130F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D43EF-24C7-4E0B-A113-12B9018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2B2-0273-4251-BD67-69FB44F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8C7AB-38FE-482F-9995-3582F32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8A99F-DA09-4F27-A1B8-183F7711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312A6-A14B-4F1A-8856-DC52AF5D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D9C7-20E4-4802-B0EC-DBC0F166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821B-07DC-46CC-B758-4AA05980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AF79-EE5C-491A-A8EA-B3F76F42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7EEE-5DC4-4316-8927-412D2B71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3BF2A-ED6E-48C2-82B6-749F8926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EE57-554B-4477-A821-4BD2BC30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CD296-DFAF-46F8-9C46-1B6FFCC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B19-353C-4590-B5CC-8B4E006A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38CCF-D1FB-4420-88C9-68612B7F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F07E-C09E-4E6F-8788-0020E24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3E1C5-9D1C-4F06-B269-5C4C22A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149DB-5848-4D99-BF51-7B8F3A5A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D464E-9A3E-4444-9AA1-F43BE0F4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5E500-CB4F-4CF4-95D6-E7F251D3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8C897-2DAF-4F9A-9CA3-0D93E349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AC17-BAA5-4C1C-9D64-3918CC02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0D26-60DD-4C49-99A7-F842AA71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E4BF2-8A95-491E-9810-0648D072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3F1-A908-4D8A-8360-09237C4F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14CBC-D0E3-48EE-B8E0-85672234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F390-47E0-41F3-ABD5-15AE0CF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92813-F181-4956-BECB-AC8E5BFE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439FE-A4E0-40B9-8F8C-BEAD773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7F8B5-4FEA-4825-AA1A-ECB71638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5C31E-615F-4C4B-A349-982BE6F0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F866-A427-4601-BA9D-C88BDB54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A636-CFF9-4A67-964A-96850EECD1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C955-F9E2-428E-9C70-F3887A3FD9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C61-9641-4550-AC30-DAEB2A09E3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963D-6CC7-4A71-85E4-416ADCE0E8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CDE1-3E6D-4845-8A72-EB92D27F32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44C3-AFC0-4568-9830-65EDCE501D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D7F9-05AA-4310-8799-2A3228CAE5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43ED-0B4F-41C6-BC9B-8A56F6F97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13.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the adjacency matrix for the di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380880" y="2209680"/>
            <a:ext cx="484992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943600" y="3505320"/>
                <a:ext cx="27367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picture of an undirected graph that has the following adjacency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914400" y="2438280"/>
                <a:ext cx="20257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43" name="Picture 3" descr=""/>
          <p:cNvPicPr/>
          <p:nvPr/>
        </p:nvPicPr>
        <p:blipFill>
          <a:blip r:embed="rId2"/>
          <a:srcRect l="78003" t="47339" r="4998" b="43339"/>
          <a:stretch/>
        </p:blipFill>
        <p:spPr>
          <a:xfrm>
            <a:off x="2852640" y="3276720"/>
            <a:ext cx="62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tex is adjacent to every other vertex (also known as a k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ph or a cliq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819600" cy="401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791320" y="3733920"/>
                <a:ext cx="255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mmetric over the main diagonal (upper left to lower righ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,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ndirected graphs are symmetr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walk – number of edges in the wal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e.g. – walk of length 2 must go through an intermediate verte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ind number of walks of length n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ind 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look at the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l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walks of length 2 are there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graph shown be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Oval 3"/>
          <p:cNvSpPr/>
          <p:nvPr/>
        </p:nvSpPr>
        <p:spPr>
          <a:xfrm>
            <a:off x="76212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723888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4038480" y="3581280"/>
            <a:ext cx="228600" cy="304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7"/>
          <p:cNvSpPr/>
          <p:nvPr/>
        </p:nvSpPr>
        <p:spPr>
          <a:xfrm flipV="1">
            <a:off x="4267080" y="3657600"/>
            <a:ext cx="3200400" cy="76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Curved Connector 9"/>
          <p:cNvCxnSpPr>
            <a:stCxn id="452" idx="3"/>
            <a:endCxn id="453" idx="4"/>
          </p:cNvCxnSpPr>
          <p:nvPr/>
        </p:nvCxnSpPr>
        <p:spPr>
          <a:xfrm flipH="1" rot="16200000">
            <a:off x="4051080" y="508320"/>
            <a:ext cx="45000" cy="6558840"/>
          </a:xfrm>
          <a:prstGeom prst="curvedConnector5">
            <a:avLst>
              <a:gd name="adj1" fmla="val 5566129"/>
              <a:gd name="adj2" fmla="val 50000"/>
              <a:gd name="adj3" fmla="val 5566129"/>
            </a:avLst>
          </a:prstGeom>
          <a:ln w="9360">
            <a:solidFill>
              <a:srgbClr val="2da2bf"/>
            </a:solidFill>
            <a:miter/>
          </a:ln>
        </p:spPr>
      </p:cxnSp>
      <p:sp>
        <p:nvSpPr>
          <p:cNvPr id="457" name="Freeform 24"/>
          <p:cNvSpPr/>
          <p:nvPr/>
        </p:nvSpPr>
        <p:spPr>
          <a:xfrm>
            <a:off x="893880" y="2697120"/>
            <a:ext cx="3232080" cy="98100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6"/>
          <p:cNvSpPr/>
          <p:nvPr/>
        </p:nvSpPr>
        <p:spPr>
          <a:xfrm>
            <a:off x="3830760" y="2544840"/>
            <a:ext cx="606240" cy="117612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7"/>
          <p:cNvSpPr/>
          <p:nvPr/>
        </p:nvSpPr>
        <p:spPr>
          <a:xfrm rot="11416200">
            <a:off x="3832920" y="3701520"/>
            <a:ext cx="606600" cy="11764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189320" y="2867040"/>
            <a:ext cx="3125880" cy="811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4210200" y="3763800"/>
            <a:ext cx="3105000" cy="667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1"/>
          <p:cNvSpPr/>
          <p:nvPr/>
        </p:nvSpPr>
        <p:spPr>
          <a:xfrm>
            <a:off x="548280" y="28195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2"/>
          <p:cNvSpPr/>
          <p:nvPr/>
        </p:nvSpPr>
        <p:spPr>
          <a:xfrm>
            <a:off x="3215160" y="35053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3"/>
          <p:cNvSpPr/>
          <p:nvPr/>
        </p:nvSpPr>
        <p:spPr>
          <a:xfrm>
            <a:off x="7177680" y="274320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Content Placeholder 3"/>
              <p:cNvSpPr txBox="1"/>
              <p:nvPr/>
            </p:nvSpPr>
            <p:spPr>
              <a:xfrm>
                <a:off x="6553080" y="4267080"/>
                <a:ext cx="2590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Content Placeholder 3"/>
              <p:cNvSpPr txBox="1"/>
              <p:nvPr/>
            </p:nvSpPr>
            <p:spPr>
              <a:xfrm>
                <a:off x="0" y="1447920"/>
                <a:ext cx="25909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Content Placeholder 3"/>
              <p:cNvSpPr txBox="1"/>
              <p:nvPr/>
            </p:nvSpPr>
            <p:spPr>
              <a:xfrm>
                <a:off x="2819520" y="1447920"/>
                <a:ext cx="25905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Rectangle 6"/>
          <p:cNvSpPr/>
          <p:nvPr/>
        </p:nvSpPr>
        <p:spPr>
          <a:xfrm>
            <a:off x="304920" y="2438280"/>
            <a:ext cx="1981080" cy="6098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572000" y="1523880"/>
            <a:ext cx="685800" cy="24386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3671280" y="43434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6 +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5756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edges that have v as an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T: a loop is counted TWIC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tal degree of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wice the number of edges in the grap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o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tal degree must be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ertices with odd vertices is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s are used with matrices and probability to figure out many conditions, specifically in the scie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rcRect l="7503" t="0" r="11251" b="0"/>
          <a:stretch/>
        </p:blipFill>
        <p:spPr>
          <a:xfrm>
            <a:off x="3505320" y="1219320"/>
            <a:ext cx="54482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bability of the current state depends on the previous sta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chastic matrix: Each row of the matrix adds up to 1 with no negative ent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4" descr="markov.gif"/>
          <p:cNvPicPr/>
          <p:nvPr/>
        </p:nvPicPr>
        <p:blipFill>
          <a:blip r:embed="rId1"/>
          <a:stretch/>
        </p:blipFill>
        <p:spPr>
          <a:xfrm>
            <a:off x="914400" y="1447920"/>
            <a:ext cx="6680160" cy="2160360"/>
          </a:xfrm>
          <a:prstGeom prst="rect">
            <a:avLst/>
          </a:prstGeom>
          <a:ln w="0">
            <a:noFill/>
          </a:ln>
        </p:spPr>
      </p:pic>
      <p:pic>
        <p:nvPicPr>
          <p:cNvPr id="481" name="Title 2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tices (nodes):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ges: 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acent vertices: share an 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allel: when two vertices are connected by more than one ed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p: an edge which starts and ends with the same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edg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function that maps each edge to a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se in a certain nation, 90% of those born in cities stay in cities and the other 10% move to rural regions.  Of those born in rural regions, 70% stay there and 30% move to the cities.  In the long run, what percentage of people will live in rural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1676520" y="4419720"/>
                <a:ext cx="190476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TextBox 4"/>
          <p:cNvSpPr/>
          <p:nvPr/>
        </p:nvSpPr>
        <p:spPr>
          <a:xfrm>
            <a:off x="4431960" y="4114800"/>
            <a:ext cx="24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9a + .3b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4960800" y="5486400"/>
            <a:ext cx="13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6789960" y="54864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¼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33520" y="838080"/>
          <a:ext cx="8229600" cy="6705720"/>
        </p:xfrm>
        <a:graphic>
          <a:graphicData uri="http://schemas.openxmlformats.org/drawingml/2006/table">
            <a:tbl>
              <a:tblPr/>
              <a:tblGrid>
                <a:gridCol w="761760"/>
                <a:gridCol w="2819520"/>
                <a:gridCol w="259092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me required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-requisite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oose mus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gotiate royalty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st Try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chestra Au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ign Set and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o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orchestra w/o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truct set, sew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 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chnical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ress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rform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15920" y="-85680"/>
            <a:ext cx="8504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228600" y="29718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5"/>
          <p:cNvCxnSpPr>
            <a:stCxn id="377" idx="6"/>
            <a:endCxn id="379" idx="2"/>
          </p:cNvCxnSpPr>
          <p:nvPr/>
        </p:nvCxnSpPr>
        <p:spPr>
          <a:xfrm flipV="1">
            <a:off x="1143000" y="1751760"/>
            <a:ext cx="534240" cy="1677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0" name="Straight Arrow Connector 6"/>
          <p:cNvCxnSpPr>
            <a:stCxn id="377" idx="6"/>
            <a:endCxn id="381" idx="2"/>
          </p:cNvCxnSpPr>
          <p:nvPr/>
        </p:nvCxnSpPr>
        <p:spPr>
          <a:xfrm flipV="1">
            <a:off x="1143000" y="2971440"/>
            <a:ext cx="8388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2" name="Straight Arrow Connector 9"/>
          <p:cNvCxnSpPr>
            <a:stCxn id="377" idx="6"/>
            <a:endCxn id="383" idx="2"/>
          </p:cNvCxnSpPr>
          <p:nvPr/>
        </p:nvCxnSpPr>
        <p:spPr>
          <a:xfrm>
            <a:off x="1142640" y="3428640"/>
            <a:ext cx="762840" cy="610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Straight Arrow Connector 12"/>
          <p:cNvCxnSpPr>
            <a:stCxn id="377" idx="6"/>
            <a:endCxn id="385" idx="1"/>
          </p:cNvCxnSpPr>
          <p:nvPr/>
        </p:nvCxnSpPr>
        <p:spPr>
          <a:xfrm>
            <a:off x="1142640" y="3429000"/>
            <a:ext cx="819720" cy="1581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79" name="Oval 15"/>
          <p:cNvSpPr/>
          <p:nvPr/>
        </p:nvSpPr>
        <p:spPr>
          <a:xfrm>
            <a:off x="1676520" y="1295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19810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7"/>
          <p:cNvSpPr/>
          <p:nvPr/>
        </p:nvSpPr>
        <p:spPr>
          <a:xfrm>
            <a:off x="1905120" y="3581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1828800" y="4876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7620120" y="20574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5"/>
          <p:cNvSpPr/>
          <p:nvPr/>
        </p:nvSpPr>
        <p:spPr>
          <a:xfrm>
            <a:off x="40384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4038480" y="3733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7"/>
          <p:cNvSpPr/>
          <p:nvPr/>
        </p:nvSpPr>
        <p:spPr>
          <a:xfrm>
            <a:off x="5486400" y="30481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3962520" y="51814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29"/>
          <p:cNvCxnSpPr>
            <a:stCxn id="381" idx="6"/>
            <a:endCxn id="388" idx="2"/>
          </p:cNvCxnSpPr>
          <p:nvPr/>
        </p:nvCxnSpPr>
        <p:spPr>
          <a:xfrm>
            <a:off x="2895120" y="2971800"/>
            <a:ext cx="114372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3" name="Straight Arrow Connector 33"/>
          <p:cNvCxnSpPr>
            <a:stCxn id="383" idx="6"/>
            <a:endCxn id="389" idx="2"/>
          </p:cNvCxnSpPr>
          <p:nvPr/>
        </p:nvCxnSpPr>
        <p:spPr>
          <a:xfrm>
            <a:off x="2819520" y="4038480"/>
            <a:ext cx="121968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4" name="Straight Arrow Connector 37"/>
          <p:cNvCxnSpPr>
            <a:stCxn id="385" idx="6"/>
            <a:endCxn id="391" idx="2"/>
          </p:cNvCxnSpPr>
          <p:nvPr/>
        </p:nvCxnSpPr>
        <p:spPr>
          <a:xfrm>
            <a:off x="2742840" y="5334120"/>
            <a:ext cx="1220040" cy="305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5" name="Straight Arrow Connector 40"/>
          <p:cNvCxnSpPr>
            <a:stCxn id="391" idx="6"/>
            <a:endCxn id="396" idx="3"/>
          </p:cNvCxnSpPr>
          <p:nvPr/>
        </p:nvCxnSpPr>
        <p:spPr>
          <a:xfrm flipV="1">
            <a:off x="4876560" y="4285440"/>
            <a:ext cx="2724840" cy="1353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7" name="Straight Arrow Connector 44"/>
          <p:cNvCxnSpPr>
            <a:stCxn id="389" idx="6"/>
            <a:endCxn id="390" idx="2"/>
          </p:cNvCxnSpPr>
          <p:nvPr/>
        </p:nvCxnSpPr>
        <p:spPr>
          <a:xfrm flipV="1">
            <a:off x="4952880" y="3504600"/>
            <a:ext cx="5342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8" name="Straight Arrow Connector 47"/>
          <p:cNvCxnSpPr>
            <a:stCxn id="388" idx="6"/>
            <a:endCxn id="390" idx="1"/>
          </p:cNvCxnSpPr>
          <p:nvPr/>
        </p:nvCxnSpPr>
        <p:spPr>
          <a:xfrm>
            <a:off x="4952880" y="2971800"/>
            <a:ext cx="667440" cy="210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Straight Arrow Connector 50"/>
          <p:cNvCxnSpPr>
            <a:stCxn id="390" idx="6"/>
            <a:endCxn id="396" idx="2"/>
          </p:cNvCxnSpPr>
          <p:nvPr/>
        </p:nvCxnSpPr>
        <p:spPr>
          <a:xfrm>
            <a:off x="6400440" y="3505320"/>
            <a:ext cx="10674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Straight Arrow Connector 53"/>
          <p:cNvCxnSpPr>
            <a:stCxn id="387" idx="0"/>
            <a:endCxn id="386" idx="4"/>
          </p:cNvCxnSpPr>
          <p:nvPr/>
        </p:nvCxnSpPr>
        <p:spPr>
          <a:xfrm flipV="1">
            <a:off x="8074440" y="1372320"/>
            <a:ext cx="396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1" name="Straight Arrow Connector 56"/>
          <p:cNvCxnSpPr>
            <a:stCxn id="379" idx="7"/>
            <a:endCxn id="386" idx="2"/>
          </p:cNvCxnSpPr>
          <p:nvPr/>
        </p:nvCxnSpPr>
        <p:spPr>
          <a:xfrm flipV="1">
            <a:off x="2456280" y="913680"/>
            <a:ext cx="5163480" cy="515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96" name="Oval 63"/>
          <p:cNvSpPr/>
          <p:nvPr/>
        </p:nvSpPr>
        <p:spPr>
          <a:xfrm>
            <a:off x="7467480" y="35053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68"/>
          <p:cNvCxnSpPr>
            <a:stCxn id="396" idx="0"/>
            <a:endCxn id="387" idx="4"/>
          </p:cNvCxnSpPr>
          <p:nvPr/>
        </p:nvCxnSpPr>
        <p:spPr>
          <a:xfrm flipV="1">
            <a:off x="7924680" y="2971440"/>
            <a:ext cx="153360" cy="534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72"/>
          <p:cNvSpPr/>
          <p:nvPr/>
        </p:nvSpPr>
        <p:spPr>
          <a:xfrm>
            <a:off x="460800" y="2514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3"/>
          <p:cNvSpPr/>
          <p:nvPr/>
        </p:nvSpPr>
        <p:spPr>
          <a:xfrm>
            <a:off x="1298520" y="1066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4"/>
          <p:cNvSpPr/>
          <p:nvPr/>
        </p:nvSpPr>
        <p:spPr>
          <a:xfrm>
            <a:off x="1679400" y="23623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7"/>
          <p:cNvSpPr/>
          <p:nvPr/>
        </p:nvSpPr>
        <p:spPr>
          <a:xfrm>
            <a:off x="15260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8"/>
          <p:cNvSpPr/>
          <p:nvPr/>
        </p:nvSpPr>
        <p:spPr>
          <a:xfrm>
            <a:off x="1679760" y="3352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9"/>
          <p:cNvSpPr/>
          <p:nvPr/>
        </p:nvSpPr>
        <p:spPr>
          <a:xfrm>
            <a:off x="3812400" y="2209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80"/>
          <p:cNvSpPr/>
          <p:nvPr/>
        </p:nvSpPr>
        <p:spPr>
          <a:xfrm>
            <a:off x="3813840" y="3505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81"/>
          <p:cNvSpPr/>
          <p:nvPr/>
        </p:nvSpPr>
        <p:spPr>
          <a:xfrm>
            <a:off x="3737160" y="48769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2"/>
          <p:cNvSpPr/>
          <p:nvPr/>
        </p:nvSpPr>
        <p:spPr>
          <a:xfrm>
            <a:off x="5565600" y="259092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3"/>
          <p:cNvSpPr/>
          <p:nvPr/>
        </p:nvSpPr>
        <p:spPr>
          <a:xfrm>
            <a:off x="7317720" y="3124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4"/>
          <p:cNvSpPr/>
          <p:nvPr/>
        </p:nvSpPr>
        <p:spPr>
          <a:xfrm>
            <a:off x="7395480" y="1752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5"/>
          <p:cNvSpPr/>
          <p:nvPr/>
        </p:nvSpPr>
        <p:spPr>
          <a:xfrm>
            <a:off x="7241400" y="30492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minimum number of days required to produce the musical through the last performa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nt the longest spanning tree (remember this graph is read from left to right: directed graph- digraph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jewelry store has found that 85% of its customers are women.  Of the female customers who purchase jewelry, 36% spend over $100.  Of the male customers who purchase jewelry 52% spend over $10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. What percent of the customers who purchase jewelry spend over $100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s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85042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228600" y="2971800"/>
            <a:ext cx="25909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4"/>
          <p:cNvCxnSpPr>
            <a:stCxn id="421" idx="6"/>
            <a:endCxn id="423" idx="2"/>
          </p:cNvCxnSpPr>
          <p:nvPr/>
        </p:nvCxnSpPr>
        <p:spPr>
          <a:xfrm flipV="1">
            <a:off x="2819520" y="2666160"/>
            <a:ext cx="381600" cy="762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4" name="Straight Arrow Connector 5"/>
          <p:cNvCxnSpPr>
            <a:stCxn id="421" idx="6"/>
            <a:endCxn id="425" idx="2"/>
          </p:cNvCxnSpPr>
          <p:nvPr/>
        </p:nvCxnSpPr>
        <p:spPr>
          <a:xfrm>
            <a:off x="2819520" y="3429000"/>
            <a:ext cx="457920" cy="838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Oval 6"/>
          <p:cNvSpPr/>
          <p:nvPr/>
        </p:nvSpPr>
        <p:spPr>
          <a:xfrm>
            <a:off x="3200400" y="2362320"/>
            <a:ext cx="2743200" cy="6094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"/>
          <p:cNvSpPr/>
          <p:nvPr/>
        </p:nvSpPr>
        <p:spPr>
          <a:xfrm>
            <a:off x="3276720" y="3886200"/>
            <a:ext cx="2666880" cy="762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0"/>
          <p:cNvCxnSpPr>
            <a:stCxn id="423" idx="6"/>
          </p:cNvCxnSpPr>
          <p:nvPr/>
        </p:nvCxnSpPr>
        <p:spPr>
          <a:xfrm flipV="1">
            <a:off x="5943600" y="2133000"/>
            <a:ext cx="381600" cy="533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Oval 25"/>
          <p:cNvSpPr/>
          <p:nvPr/>
        </p:nvSpPr>
        <p:spPr>
          <a:xfrm>
            <a:off x="6172200" y="1752480"/>
            <a:ext cx="2743200" cy="609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3"/>
          <p:cNvSpPr/>
          <p:nvPr/>
        </p:nvSpPr>
        <p:spPr>
          <a:xfrm>
            <a:off x="7010280" y="3581280"/>
            <a:ext cx="21337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4"/>
          <p:cNvCxnSpPr>
            <a:stCxn id="425" idx="6"/>
            <a:endCxn id="428" idx="2"/>
          </p:cNvCxnSpPr>
          <p:nvPr/>
        </p:nvCxnSpPr>
        <p:spPr>
          <a:xfrm flipV="1">
            <a:off x="5943240" y="4037760"/>
            <a:ext cx="1067400" cy="229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8 / 38.4  ≈ 20.3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ble for an edge endpoint function with the graph shown 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0" y="2590920"/>
            <a:ext cx="48499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4876920" y="2514600"/>
          <a:ext cx="4267080" cy="23320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2:09:41Z</dcterms:created>
  <dc:creator>Laura Helbing</dc:creator>
  <dc:description/>
  <dc:language>en-US</dc:language>
  <cp:lastModifiedBy>Laura Helbing</cp:lastModifiedBy>
  <dcterms:modified xsi:type="dcterms:W3CDTF">2011-05-27T18:19:15Z</dcterms:modified>
  <cp:revision>3</cp:revision>
  <dc:subject/>
  <dc:title>Modeling with Graphs</dc:title>
</cp:coreProperties>
</file>