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2029-30AF-4D84-9452-DEFFF7A56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5261-8128-41FB-9074-AC737BA26F27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F66-33AB-48DE-88D5-EB623A90B521}" type="slidenum">
              <a:rPr b="0" lang="en-US" sz="1200" spc="-1" strike="noStrike">
                <a:solidFill>
                  <a:srgbClr val="7030a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44D-DFB4-4F6D-9DC4-126F21D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1EA-4E34-42B0-A2AC-C3F2A8DB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239-4A0C-416E-B630-A61F3423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323-DB29-4A2B-A73B-9A5A315DB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520A-3534-45A2-BBDD-E3A6B454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C499-9122-4839-A05E-2FC5E74B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040-9906-40D6-AF30-03BB2A3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C272-5F0D-4AB9-A243-85AEA1FD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7FAA-9B0C-4710-B25B-A1A3D8BA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93C4-037D-4EC5-B593-C467F0C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204F-7C1B-4EC6-ADED-05B54EC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B1F-3124-4B01-BE70-92D2252C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6EA-664B-4237-B2EB-1FCF9E38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9F7-8387-44B6-80AD-BD635EF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FCD8-E70C-4086-8E8E-83165B1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CCD5-619E-4922-84C9-5BD8780C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1795-8E2F-4109-A569-F5E8C7FC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1D801-E828-4F8D-BB07-C73948B5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6FE57-4516-4490-AE2A-AD11C1D9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E4E61-B4D3-42C5-AD6B-A660CBA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3599B-EFBC-4A36-95B6-A24E9057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63025-1CE8-425D-9591-885C51FE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407-C04D-46A1-ADFB-C9A6F8E4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ED4C5-E4CD-4A14-A660-C0546C47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414BA-273F-40D2-B2E4-2EE2BC54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AC7DD-566B-4081-AD99-D0CE3E9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8148A-619B-43BF-8771-72FE7793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CC14B-F11B-4752-BF5D-DC36E27F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E7E70-C889-4A64-935C-81948BFE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DC4C2-9530-42CD-BD9E-D8E49FBC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B6E23-ACC5-41C2-85D3-6E1220C9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FA2CD-C48A-491E-B04F-076C82F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B8E0D-8CC4-4D9C-81A5-1F2E975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BB1-5020-4418-BB96-CAF3AD63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BFDF9-20EF-4EB0-9492-9C84CD39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9E694E-CE6A-4EA9-8C2F-EE39F13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D4A77F-2672-450A-B9D9-1E103C0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8C866-5725-4051-A4BE-58E8E86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5A9EF-4C44-4119-8DD8-8903548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C8F72A-C3C9-40FA-B657-B838AE2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84DBA-692C-4D8A-9CE0-F0BB9831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C1B311-9183-466E-85C6-68E7667C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DBD00-811D-4CB9-858B-ECCB0F0D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F511B-0DFC-40CB-A7BF-B718B03D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F3AB-5AD3-4A73-AB43-EF106F4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5BF4B-1172-4EEB-9854-190FBD9B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7180E-AE2B-4C6D-BF54-3DFFA2EB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68C01-EF3D-4FB3-B37C-6030BEE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94F05-F2EB-44D1-A466-07F89DAB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4DD148-D7B5-4A89-ADD5-39A5A313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4CD2B-99FC-45B0-A681-1DD5F5D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05CC9-D122-46B5-B17F-58BA5912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8501B-359B-4968-BA2B-CED6480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C4D49-9F1F-4F70-A14D-1B17EE8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B9229-321B-4EF9-BF96-4346C05C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6CE-3B38-45B8-AD8E-B5FE99AD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229D23-D594-4AC1-8634-169E36F8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8A38-1B4A-4ADD-BC33-BA5B1B36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450BA-08DF-4D3D-BBA1-13AECBCD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45F4-204F-42E5-AB11-5BFE2C9D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C877F-9B3F-4175-BAEC-C54C7055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55D8-E59F-4EC0-AC43-B3083140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CA1A-65D1-45EF-8A9A-21552129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5CE55-2650-4E58-9328-384C0522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99BFD-6E43-4D26-A0E0-7A7924D8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52372-EA20-4FAC-93E4-38C18837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4C3-10EC-456F-A17D-1454D30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18BD-38B4-470E-931D-6274EBE0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0B1A-6BBE-4DBF-A71C-6F19DEE5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B1C7-0EFC-4ABA-A8D0-8508EE4C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898A0-7832-4F02-91F2-7C9E370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0E3A4-EE77-4DE1-BEE6-50548C51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FF05B6-CE54-4354-88D5-7384D322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483DA-1296-44A5-90C3-6227E86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F23A02-A428-4817-A11F-61302032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DAD6EB-6E39-4F9E-B60A-71BC526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32FA2-51CD-46B8-9B55-BE9C90B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714-F241-4A6E-A0AD-86E0B79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39C18-6807-480C-86FD-98E9971A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FEF86-F776-475F-BA45-5D4E2A68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73865-FFFD-47A3-B70B-F645BD8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11B14B-B753-4D50-A6CD-0E458C7F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0012C-27AD-4E74-BDBC-52479661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2A96A-C810-485B-BBE4-AC169D7D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DFCB-D33A-4078-A145-F874D4C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1FF6-7D32-4F3B-BCF0-4A1AC636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2330-904E-4BD4-AA88-808167E2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55C8C-0FE2-403D-B606-AD789EC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34A-26B1-440B-9DBB-13BE6E4C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DE880-44C1-46FA-8D10-0AC8FAE8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354E2-C04F-440B-AA59-21D88CFF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CFD5-F3AB-4401-B750-E92725E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A662-B56F-4687-AED3-7040797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06300-8148-48F8-8FC0-659BEFCB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F3134-BE29-45EE-B28C-525E7523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14A35-97C7-4FFE-9F2C-EB4AF9F5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8A5-FE8A-4313-A059-056D18DF7CE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c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cc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FEA7-0125-42FC-9812-DC562AF7A725}" type="slidenum">
              <a:rPr b="1" lang="en-US" sz="1400" spc="-1" strike="noStrike">
                <a:solidFill>
                  <a:srgbClr val="ffcc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3FB-2587-4D2A-AA42-E675B8D1E78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28F9-389F-4FA3-A96A-4DAED53F451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DF4C-BD9A-4FFD-AA85-D9A63EBFB4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3390-41E5-4D08-8898-DE9F634863B3}" type="slidenum">
              <a:rPr b="1" lang="en-US" sz="1400" spc="-1" strike="noStrike">
                <a:solidFill>
                  <a:srgbClr val="7030a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F2E-C5A0-4AA0-92FD-2BFBB90D9FF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b0f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7030a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030a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EA85-FC4B-459A-8291-5C980D0AC48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w Cen MT"/>
              </a:rPr>
              <a:t>MAXIMA AND MINIMA OF FUNCTIONS</a:t>
            </a:r>
            <a:endParaRPr b="0" lang="en-US" sz="4400" spc="-1" strike="noStrike">
              <a:solidFill>
                <a:srgbClr val="ffccff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esson 2.2</a:t>
            </a:r>
            <a:endParaRPr b="0" lang="en-US" sz="2600" spc="-1" strike="noStrike">
              <a:solidFill>
                <a:srgbClr val="ffcc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Objectives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Identify the domain and range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Determine global and local minimum and maximum values of function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Solve min – max problems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Tw Cen MT"/>
              </a:rPr>
              <a:t>Analyze a function from its graph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Definitions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Global extrema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: If f(c) ≥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for all x in the domain of f, f(c) is the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glob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Local extrema: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If f(c) ≥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aximum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value of f.  If f(c)≤ f(x)  for all x in some open interval containing c, f(c) is a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local minimum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value of f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Example 1: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Approximate the global and local maximum and minimum on each given domain for the function k defined by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[-1, 1]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Tw Cen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(- inf, -2)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18706" t="20338" r="64346" b="10167"/>
          <a:stretch/>
        </p:blipFill>
        <p:spPr>
          <a:xfrm>
            <a:off x="6019920" y="219240"/>
            <a:ext cx="2590560" cy="6638760"/>
          </a:xfrm>
          <a:prstGeom prst="rect">
            <a:avLst/>
          </a:prstGeom>
          <a:ln w="0">
            <a:noFill/>
          </a:ln>
        </p:spPr>
      </p:pic>
      <p:sp>
        <p:nvSpPr>
          <p:cNvPr id="366" name="Rectangular Callout 7"/>
          <p:cNvSpPr/>
          <p:nvPr/>
        </p:nvSpPr>
        <p:spPr>
          <a:xfrm>
            <a:off x="5943600" y="1219320"/>
            <a:ext cx="1371600" cy="10699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ff"/>
                </a:solidFill>
                <a:latin typeface="Tw Cen MT"/>
              </a:rPr>
              <a:t>Y = button</a:t>
            </a: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2"/>
          <a:srcRect l="18124" t="19001" r="64378" b="10001"/>
          <a:stretch/>
        </p:blipFill>
        <p:spPr>
          <a:xfrm>
            <a:off x="6019920" y="289080"/>
            <a:ext cx="2590560" cy="6568920"/>
          </a:xfrm>
          <a:prstGeom prst="rect">
            <a:avLst/>
          </a:prstGeom>
          <a:ln w="0">
            <a:noFill/>
          </a:ln>
        </p:spPr>
      </p:pic>
      <p:sp>
        <p:nvSpPr>
          <p:cNvPr id="368" name="Right Arrow 8"/>
          <p:cNvSpPr/>
          <p:nvPr/>
        </p:nvSpPr>
        <p:spPr>
          <a:xfrm rot="19951200">
            <a:off x="7139160" y="2885760"/>
            <a:ext cx="1066680" cy="4842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3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Up Arrow 10"/>
          <p:cNvSpPr/>
          <p:nvPr/>
        </p:nvSpPr>
        <p:spPr>
          <a:xfrm flipV="1" rot="13443600">
            <a:off x="6927480" y="2741040"/>
            <a:ext cx="685800" cy="116208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0b0f0"/>
          </a:solidFill>
          <a:ln w="19080">
            <a:solidFill>
              <a:srgbClr val="008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15998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Set of all real numbers: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no global min, local min. at x≈ .477, k(x) ≈3.747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/global max. at x ≈-.865, k(x) ≈9.257, 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13cc04"/>
                </a:solidFill>
                <a:latin typeface="Tw Cen MT"/>
              </a:rPr>
              <a:t>- local max. at x ≈ 1.513, k(x) ≈ 6.50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019920" y="228600"/>
            <a:ext cx="259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4950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5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1 ≤ x ≤ 1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-local/global min 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at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 x≈ .477, k(x) ≈3.747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 min at endpoin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=-1, k(x) = 9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local/global max. at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≈-.865, k(x) ≈9.257, 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542478"/>
                </a:solidFill>
                <a:latin typeface="Tw Cen MT"/>
              </a:rPr>
              <a:t>- local max at endpoint, </a:t>
            </a:r>
            <a:r>
              <a:rPr b="0" lang="en-US" sz="2500" spc="-1" strike="noStrike">
                <a:solidFill>
                  <a:srgbClr val="13cc04"/>
                </a:solidFill>
                <a:latin typeface="Tw Cen MT"/>
              </a:rPr>
              <a:t>x = 1, k(x) = 5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500" spc="-1" strike="noStrike">
                <a:solidFill>
                  <a:srgbClr val="7030a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rcRect l="18706" t="20338" r="64346" b="50801"/>
          <a:stretch/>
        </p:blipFill>
        <p:spPr>
          <a:xfrm>
            <a:off x="5638680" y="1752480"/>
            <a:ext cx="3391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28240" y="159984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k(x) = -2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3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+ 4x</a:t>
            </a:r>
            <a:r>
              <a:rPr b="0" lang="en-US" sz="2900" spc="-1" strike="noStrike" baseline="30000">
                <a:solidFill>
                  <a:srgbClr val="7030a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– 5x + 5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x &lt; -2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 there is no minimum since the function decreases without bound on the interval (-∞, -2)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7030a0"/>
                </a:solidFill>
                <a:latin typeface="Tw Cen MT"/>
              </a:rPr>
              <a:t>-There is no maximum because k(x) increases as x increases and there is no greatest value of x on this interval.</a:t>
            </a: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rcRect l="18124" t="19001" r="64378" b="10998"/>
          <a:stretch/>
        </p:blipFill>
        <p:spPr>
          <a:xfrm>
            <a:off x="6172200" y="190440"/>
            <a:ext cx="2666880" cy="6667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rcRect l="59376" t="14003" r="23126" b="14003"/>
          <a:stretch/>
        </p:blipFill>
        <p:spPr>
          <a:xfrm>
            <a:off x="6172200" y="22860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Find the extrema of f(t)=2t</a:t>
            </a:r>
            <a:r>
              <a:rPr b="0" lang="en-US" sz="4000" spc="-1" strike="noStrike" baseline="30000">
                <a:solidFill>
                  <a:srgbClr val="7030a0"/>
                </a:solidFill>
                <a:latin typeface="Tw Cen MT"/>
              </a:rPr>
              <a:t>4</a:t>
            </a:r>
            <a:r>
              <a:rPr b="0" lang="en-US" sz="4000" spc="-1" strike="noStrike">
                <a:solidFill>
                  <a:srgbClr val="7030a0"/>
                </a:solidFill>
                <a:latin typeface="Tw Cen MT"/>
              </a:rPr>
              <a:t> +4t + 1</a:t>
            </a:r>
            <a:endParaRPr b="0" lang="en-US" sz="4000" spc="-1" strike="noStrike">
              <a:solidFill>
                <a:srgbClr val="7030a0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18706" t="18647" r="64346" b="50848"/>
          <a:stretch/>
        </p:blipFill>
        <p:spPr>
          <a:xfrm>
            <a:off x="5181480" y="1981080"/>
            <a:ext cx="3733920" cy="420048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0" y="1905120"/>
            <a:ext cx="5105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[0,∞)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local/global min: t=0, f(t) = 1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 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Over (-3,1):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local/global min: t≈-.787, 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f(t) ≈ -1.381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w Cen MT"/>
              </a:rPr>
              <a:t>-No local/global max.</a:t>
            </a:r>
            <a:endParaRPr b="0" lang="en-US" sz="2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Tw Cen MT"/>
              </a:rPr>
              <a:t>Homework </a:t>
            </a:r>
            <a:endParaRPr b="0" lang="en-US" sz="4400" spc="-1" strike="noStrike">
              <a:solidFill>
                <a:srgbClr val="7030a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Pages 91 - 92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3, 5 – 8,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Tw Cen MT"/>
              </a:rPr>
              <a:t>11 – 13</a:t>
            </a:r>
            <a:endParaRPr b="0" lang="en-US" sz="8000" spc="-1" strike="noStrike">
              <a:solidFill>
                <a:srgbClr val="7030a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12:36:26Z</dcterms:created>
  <dc:creator>teacher</dc:creator>
  <dc:description/>
  <dc:language>en-US</dc:language>
  <cp:lastModifiedBy>Laura Helbing</cp:lastModifiedBy>
  <dcterms:modified xsi:type="dcterms:W3CDTF">2012-09-18T17:33:58Z</dcterms:modified>
  <cp:revision>9</cp:revision>
  <dc:subject/>
  <dc:title>Maxima and minima of functions</dc:title>
</cp:coreProperties>
</file>