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75A1-06DB-47A8-B87B-D89BA002C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EA86-26BE-4368-B5A3-5429DD1CA001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0985-96C6-472B-A566-97E946392873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693-28CC-4D28-B8C2-B06094A1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30B-A870-44C6-984A-8E412A3B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764-03CD-4757-BE0B-C78E2580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B4E-48DA-457B-A737-86BA2A04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8ADE-616B-41C6-89F8-E99F36E1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409F-855F-4A6F-9C1E-C7E3666D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C696-68D4-447C-BB7F-AE806AE9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30FD-FD7C-494B-B840-DE87360B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5EF7-12E6-4B65-BAC4-F71B8B0A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0150-F9F2-4FF6-9D46-CF178923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3840-74C5-4E6F-BAE8-7C8FBB5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EA3-9403-47FB-BD28-A565B3A2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CB95-3841-407A-A3A1-31060FBD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1636-7EA9-444F-812A-9F29195F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FE6C-95CE-44B5-BBE9-9AEAAEA5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85AC-22C8-485A-9BFA-129E93C2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C7A9-B1D5-423C-AFCB-8CEA1DE2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65C59-CBCF-4C92-93A9-CCB26F5E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55B01-674C-4D2A-8A6A-261C06CA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9A693-7005-4EB7-AC86-10CB01A8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7D7EA-FD49-43FD-A8A7-8E1A90CC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BC47F-9450-44A0-B2F3-CEB63139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BB2-EA37-41D0-8EF2-781ADFC3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78C37-95C7-47C2-9BE2-8225627B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40BB3-A7CF-454F-8C7F-78E36C18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F6F1F-24B8-426E-9042-194B403C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DA6A1-363E-4A0A-945C-0B49D5C3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BC070-C39D-4706-A2F9-25D76A5D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E9C17-642A-4788-9E15-3947F87C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DD66E-7AB3-4131-8B86-B4D7058B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B3904-2A1B-4608-ACD8-DE78B9BC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29CA5-62CA-4D9E-BB81-43B54F02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4A241-A54C-4279-BDA4-215F36AE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16C-81CC-4AE5-8F36-FCF88273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7E899-EC2F-4874-BEF8-002AB187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4740D-60E0-4201-B4D4-8A1DA56F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D463D-4267-43DC-ADAE-502BCF9B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47B99-57FD-48A0-ACDD-2089D70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CDBAA-BEC4-4DC4-9A79-B5F58F35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FE9AF-F742-4FB3-B931-235F6157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C5060-E4B4-4990-8475-802FC0F4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075E4-525B-44A0-8D1F-58C0F60D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26CC9E-A8CB-47A0-961E-273B293B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3E643-AF7E-46DB-B079-85644C27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17B-6486-465E-86A6-F7A5E46B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F69D9-50E4-4FCB-BFF5-9F54F57A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1E831-9695-4DA2-91A0-09C1021E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0D44F-37AD-409B-8F6A-19C0F472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C475C-FA72-434D-9A66-0AE03361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AAEAE-C4AD-4544-BC39-266EA05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7FC8F-E8A1-4EFF-8E2F-DBD8AC5F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F6050-5D66-437A-B25C-E1E0AC53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EE0A3-2352-42A8-925E-EB029976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9714C-A191-4258-A377-2EF79D97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4478E-024C-415A-81E5-0402705D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C8A-E9DE-46C9-A006-D449B270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78DD9-AF87-42CC-95F5-1984512E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19EED-395B-4D81-857E-3152A353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0160C-12D1-4F2F-9385-24E306FE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6813C-66DD-4A98-A9CA-C65784EA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E721D-C1F8-4AF2-9DE6-A92765FE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668B4-06F9-451C-ABCE-A0C6C133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6590E-C9BD-4AE3-8862-CA01CF51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4BB6E-6C3A-4DFF-A079-89FB38C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029FF-12CC-49A7-B26F-96A426AC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937A8-D6D7-4C46-AB4E-7374FB5D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7A0-9D4E-4CD1-92B2-7F4E9FE1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CCF6A-900E-46D4-B059-1CD9EF05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02DE3-3EE4-4065-9A98-5D16F074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F79E0-6B5A-4E59-8D75-4C3EAEC6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2B10D-E957-4F2D-9D73-6118534E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99E86-2AFD-4D9F-8E34-CE433A7D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99E5D-2127-4967-8523-532D6A67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F275A-C9E9-4431-818C-9FE997E6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9F21E-E0F9-4572-AEC3-00B4AF01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8E47C-E9A7-4D3C-9D7B-046E6485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13141-075D-4DD5-A987-794BF312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88B-5513-46FB-B01C-F599A112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726E9-E348-4014-8C1C-2DF75014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BFA07-C93D-4B28-B0FB-E07539CF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4211E-E19F-4492-BDEC-A6B45A85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0ED3F-CE1A-4BB8-87F2-0553917A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19AAAA-69E3-4486-8BE5-E2F90B0B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4B511-F6A8-4F26-BB07-F41042CE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9F93A-1C59-43AE-8AB6-01A3FDC8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2FB7E-BDAE-4FAA-9261-480B2844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E4322-B99F-4CCD-8CFB-B3E6CDC3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54E81-28CF-4EB8-B60C-65B1CB85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180-5271-43BC-97C9-CD4E9499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CC599-2F9D-4C5E-BBF8-CE402368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D7EE1-64A4-45D2-AC4D-52EBB9A0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53115-285C-44E3-80FF-7B972E57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8270B-664D-4ADD-8E87-21A032CD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BDD11-1546-4672-B77A-B9F5F751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51787-C7F8-4301-9931-2196147F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E9CF7-D98B-46C5-BBEE-2D0A0732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E697-E3FA-4949-833B-497E22FA71B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c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483D-552C-4CF5-BDE3-C42220C329A1}" type="slidenum">
              <a:rPr b="1" lang="en-US" sz="1400" spc="-1" strike="noStrike">
                <a:solidFill>
                  <a:srgbClr val="ffc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EB75-A43C-433A-B8D3-1DB3B5C01A0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A30E-15A1-4DF5-A6A2-3C3585BAB54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1877-070F-47BD-9D6E-181CCB7933E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627E-AFDD-4136-A087-48AF0D6D0858}" type="slidenum">
              <a:rPr b="1" lang="en-US" sz="1400" spc="-1" strike="noStrike">
                <a:solidFill>
                  <a:srgbClr val="7030a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76E5-7B89-422D-8456-35811142385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FDB3-9FC1-485E-9D49-BED06492E2F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MAXIMA AND MINIMA OF FUNCTIONS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Lesson 2.2</a:t>
            </a:r>
            <a:endParaRPr b="0" lang="en-US" sz="2600" spc="-1" strike="noStrike">
              <a:solidFill>
                <a:srgbClr val="ffcc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Objectives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Identify the domain and range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Determine global and local minimum and maximum values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Solve min – max problem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Analyze a function from its graph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Global extrema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: If f(c) ≥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Local extrema: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If f(c) ≥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Example 1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Approximate the global and local maximum and minimum on each given domain for the function k defined by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[-1, 1]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(- inf, -2)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18706" t="20338" r="64346" b="10167"/>
          <a:stretch/>
        </p:blipFill>
        <p:spPr>
          <a:xfrm>
            <a:off x="6019920" y="219240"/>
            <a:ext cx="2590560" cy="6638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ular Callout 7"/>
          <p:cNvSpPr/>
          <p:nvPr/>
        </p:nvSpPr>
        <p:spPr>
          <a:xfrm>
            <a:off x="5943600" y="1219320"/>
            <a:ext cx="1371600" cy="10699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Tw Cen MT"/>
              </a:rPr>
              <a:t>Y = button</a:t>
            </a: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2"/>
          <a:srcRect l="18124" t="19001" r="64378" b="10001"/>
          <a:stretch/>
        </p:blipFill>
        <p:spPr>
          <a:xfrm>
            <a:off x="6019920" y="289080"/>
            <a:ext cx="2590560" cy="6568920"/>
          </a:xfrm>
          <a:prstGeom prst="rect">
            <a:avLst/>
          </a:prstGeom>
          <a:ln w="0">
            <a:noFill/>
          </a:ln>
        </p:spPr>
      </p:pic>
      <p:sp>
        <p:nvSpPr>
          <p:cNvPr id="368" name="Right Arrow 8"/>
          <p:cNvSpPr/>
          <p:nvPr/>
        </p:nvSpPr>
        <p:spPr>
          <a:xfrm rot="19951200">
            <a:off x="7139160" y="2885760"/>
            <a:ext cx="106668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3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  <p:sp>
        <p:nvSpPr>
          <p:cNvPr id="370" name="Up Arrow 10"/>
          <p:cNvSpPr/>
          <p:nvPr/>
        </p:nvSpPr>
        <p:spPr>
          <a:xfrm flipV="1" rot="13443600">
            <a:off x="6927480" y="2741040"/>
            <a:ext cx="685800" cy="116208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no global min, local min. at x≈ .477, k(x) ≈3.747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/global max. at x ≈-.865, k(x) ≈9.257,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 max. at x ≈ 1.513, k(x) ≈ 6.50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495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1 ≤ x ≤ 1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local/global min 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at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 x≈ .477, k(x) ≈3.747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 min at endpoin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=-1, k(x) = 9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/global max. a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≈-.865, k(x) ≈9.257,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 local max at endpoint,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= 1, k(x) = 5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18706" t="20338" r="64346" b="50801"/>
          <a:stretch/>
        </p:blipFill>
        <p:spPr>
          <a:xfrm>
            <a:off x="5638680" y="1752480"/>
            <a:ext cx="3391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2824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x &lt; -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 there is no minimum since the function decreases without bound on the interval (-∞, -2)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There is no maximum because k(x) increases as x increases and there is no greatest value of x on this interval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172200" y="190440"/>
            <a:ext cx="2666880" cy="6667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rcRect l="59376" t="14003" r="23126" b="14003"/>
          <a:stretch/>
        </p:blipFill>
        <p:spPr>
          <a:xfrm>
            <a:off x="6172200" y="22860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Find the extrema of f(t)=2t</a:t>
            </a:r>
            <a:r>
              <a:rPr b="0" lang="en-US" sz="40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 +4t + 1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rcRect l="18706" t="18647" r="64346" b="50848"/>
          <a:stretch/>
        </p:blipFill>
        <p:spPr>
          <a:xfrm>
            <a:off x="5181480" y="1981080"/>
            <a:ext cx="3733920" cy="42004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0" y="1905120"/>
            <a:ext cx="510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[0,∞)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local/global min: t=0, f(t) = 1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(-3,1):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local/global min: t≈-.787,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f(t) ≈ -1.381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Homework 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Pages 91 - 92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3, 5 – 8,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11 – 13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2:36:26Z</dcterms:created>
  <dc:creator>teacher</dc:creator>
  <dc:description/>
  <dc:language>en-US</dc:language>
  <cp:lastModifiedBy>Laura Helbing</cp:lastModifiedBy>
  <dcterms:modified xsi:type="dcterms:W3CDTF">2012-09-18T17:33:58Z</dcterms:modified>
  <cp:revision>9</cp:revision>
  <dc:subject/>
  <dc:title>Maxima and minima of functions</dc:title>
</cp:coreProperties>
</file>