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8214-C2A0-480C-A753-4A1EC6708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DB6A-3CE6-4CC5-8A4A-5163F620147F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07BD-4F1A-496D-A9E6-CEAB7B303DD5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368-1C80-4884-82D5-4B1BA2F4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7D8-AD4A-4FDA-9F49-5A346086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769-325E-4B38-97D4-E4EE7D36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5F3-82CF-47F2-B5A1-97DB460D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39C0-FA32-43EE-A9FA-893A6806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83C6-AA1E-4BC2-92EF-6BDF632B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E6B1-7DF5-4ABF-9C80-3E6C56F4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272D-594F-497F-BA6A-5AAA4895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880B-3038-405D-BBD5-898EAF9D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A46-0256-48D8-83D1-C262724C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0446-75C0-4E9D-BF2F-3031224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76C-F04B-47E0-A99F-1EA876DE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FA9E-1E07-45BD-9C63-82FECEE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6A7E-8C59-466C-A3C2-EEA1DEE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7A71-0A8A-42CE-AA89-2FB44034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F42D-DBF3-4CB1-AC16-C867314C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47E6-0313-44C1-807A-A3C47B3F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A7552-8977-4911-822B-B917AB49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42868-EA26-4952-B713-265377CD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2B0DA-2EB9-435F-A051-703E9DF9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454E7-6D02-46F4-A57F-6DF31951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49189-AF0C-42B0-92E2-9765B184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274-806C-48B2-8CBB-4ABB1AF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C3B7E-C965-496C-8890-222E896A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8CEC1-3821-4FF3-AB0E-85A60208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AA31E-0080-4CED-83DC-0396427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58463-36C2-444F-AD36-2915B82A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46C8C-6866-444B-8DE7-CC7D0F8C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57969-0B6E-4E94-92AA-71E65321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1F1DF-5EDB-4F40-B87F-A3CB9FCC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435E4-99EA-4E51-A076-E605BE59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46BC1-A082-4336-B54A-E34A36A1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00239-3157-46F9-9BF7-6926021F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822-8408-44F5-8C26-8A28E385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A3FA8-E42A-47E9-8879-2F2EBEC3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2D332-0DEC-4A7C-824A-611EF8E4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36179-9B5F-416C-AF43-FB8BCF11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FEE68-F2B0-4835-86E2-EBFA5CA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17AF9-A283-48AD-8E3B-424443D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A6D00-1EB9-4817-BC78-9B2764A7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947DA-0F0D-4A3C-89DA-F32092E0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BED46-9412-467B-BF57-9AE65C51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A5365-1D5B-48C2-BC1F-870E5289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144EE-AB1A-455A-9A4F-376A7C73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7AC-210E-410F-BD4B-A6F839F7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DA892-A668-450E-A43D-1EBC811B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C1986-A29B-460C-9A1B-D7819661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9603C-5197-4F0F-BBCF-BFFB4A06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7E5A5-99EB-43CB-A64B-8BE70686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4A15B-260C-460C-9EE3-AF30840A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38CE4-A75F-4C5E-A023-54202338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36026-0315-4F00-B8F2-D1808805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5D414-63A6-4C51-AB7D-10F80E0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05199-668D-46F5-8061-0BFA68F4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48FE4-965B-4707-8B17-1123F41D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507-333A-4336-9526-0DA120F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E9759-F2CE-420E-945C-A24CDB76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4FD86-07F4-4CC3-BA93-30477FD9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11813-2317-41B5-9F20-28161787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6D9B3-C95C-46CB-AA4F-97BB527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977A-BA45-45D7-9DEE-E2BA9353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08495-6F92-4A8B-BA65-1748D780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4A29-AC5E-4457-830A-976AA6A0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941A7-5467-415C-A152-EF929341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F82F7-E2C5-46E5-BE17-B493F665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1657B-F567-4D95-BE97-0FC5874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10D-886C-4ECA-89D8-DB5BF1F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085FA-03FA-48EE-9E24-256A819B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E35FE-D03C-4130-8F23-29AD4A8A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6B315-A88E-42B4-89EB-7D006A92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B405C-66C3-4529-868F-534AD77A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7EC11-9AE2-4C34-8476-33D71426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FF3C7-365C-48B6-B8EC-3C3F2FE5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8FF72-57F1-48D0-8A06-E682C3D0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9D4F2-412F-49F4-A4DD-72351A2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85501-03D8-4EBC-8FDB-5038C1D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BCE36-9F5A-4556-A90A-0DB975E8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66B-A562-4A77-B482-7AED2C02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151DC-44B0-4884-B591-E0066604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72FAA-2E42-429A-B548-55CFEFCB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02EAD-87E2-47D8-AD55-5B43BEE3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6B237-1AB9-46EA-BD17-3B3BC8DA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83A63-12EC-48E0-81E4-390A4C6A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CB0D0-272D-4B36-9C75-063A550F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EDCEF-D41E-4D63-BF12-C50C1D83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161D8-0D13-47B6-BA75-B5114DDD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740F8-60D4-4921-84EF-120035EE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25A00-FFBE-4D42-9098-B0FEFBDE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804-256D-46EE-A5B6-BFA56221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DC90-63D5-42DE-9DA9-AFAF7E14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A81F5-9DE2-4130-8B83-AF12A6CC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E0A3C-B8D8-4790-AC2A-E11371D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41CAA-455F-4818-9312-870A6CE9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858A8-45A4-4483-A930-D5DFFB19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8F3FB-B46F-4CBD-BCE7-DDFC4E34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F955A-9BE7-4FAE-9910-24D518DD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7F81-4640-46D4-86A7-BECE5AECD48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c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1896-2A2D-4AD1-BFFC-11A22DC4D95D}" type="slidenum">
              <a:rPr b="1" lang="en-US" sz="1400" spc="-1" strike="noStrike">
                <a:solidFill>
                  <a:srgbClr val="ffc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623-F9E3-407C-82A3-0A75C55A4B3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0D9A-22BE-43AE-B7AD-8718FCF5D0F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915-AEDC-408C-BA84-6C29D374689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5C38-C216-4E06-BA87-926F881CAA84}" type="slidenum">
              <a:rPr b="1" lang="en-US" sz="1400" spc="-1" strike="noStrike">
                <a:solidFill>
                  <a:srgbClr val="7030a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AC3F-E0F1-4989-9BF1-1806D8F7FD5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AD6-97F0-4C4E-AF1F-7AE24470834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MAXIMA AND MINIMA OF FUNCTIONS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Lesson 2.2</a:t>
            </a:r>
            <a:endParaRPr b="0" lang="en-US" sz="2600" spc="-1" strike="noStrike">
              <a:solidFill>
                <a:srgbClr val="ffcc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Objectives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Identify the domain and range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Determine global and local minimum and maximum values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Solve min – max problem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Analyze a function from its graph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Global extrema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: If f(c) ≥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Local extrema: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If f(c) ≥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Example 1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Approximate the global and local maximum and minimum on each given domain for the function k defined by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[-1, 1]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(- inf, -2)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18706" t="20338" r="64346" b="10167"/>
          <a:stretch/>
        </p:blipFill>
        <p:spPr>
          <a:xfrm>
            <a:off x="6019920" y="219240"/>
            <a:ext cx="2590560" cy="6638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ular Callout 7"/>
          <p:cNvSpPr/>
          <p:nvPr/>
        </p:nvSpPr>
        <p:spPr>
          <a:xfrm>
            <a:off x="5943600" y="1219320"/>
            <a:ext cx="1371600" cy="1069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Tw Cen MT"/>
              </a:rPr>
              <a:t>Y = button</a:t>
            </a: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2"/>
          <a:srcRect l="18124" t="19001" r="64378" b="10001"/>
          <a:stretch/>
        </p:blipFill>
        <p:spPr>
          <a:xfrm>
            <a:off x="6019920" y="289080"/>
            <a:ext cx="2590560" cy="6568920"/>
          </a:xfrm>
          <a:prstGeom prst="rect">
            <a:avLst/>
          </a:prstGeom>
          <a:ln w="0">
            <a:noFill/>
          </a:ln>
        </p:spPr>
      </p:pic>
      <p:sp>
        <p:nvSpPr>
          <p:cNvPr id="368" name="Right Arrow 8"/>
          <p:cNvSpPr/>
          <p:nvPr/>
        </p:nvSpPr>
        <p:spPr>
          <a:xfrm rot="19951200">
            <a:off x="7139160" y="2885760"/>
            <a:ext cx="106668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3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  <p:sp>
        <p:nvSpPr>
          <p:cNvPr id="370" name="Up Arrow 10"/>
          <p:cNvSpPr/>
          <p:nvPr/>
        </p:nvSpPr>
        <p:spPr>
          <a:xfrm flipV="1" rot="13443600">
            <a:off x="6927480" y="2741040"/>
            <a:ext cx="685800" cy="116208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no global min, local min. at x≈ .477, k(x) ≈3.747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/global max. at x ≈-.865, k(x) ≈9.257,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 max. at x ≈ 1.513, k(x) ≈ 6.50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495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1 ≤ x ≤ 1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local/global min 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at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 x≈ .477, k(x) ≈3.747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 min at endpoin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=-1, k(x) = 9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/global max. a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≈-.865, k(x) ≈9.257,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 local max at endpoint,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= 1, k(x) = 5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18706" t="20338" r="64346" b="50801"/>
          <a:stretch/>
        </p:blipFill>
        <p:spPr>
          <a:xfrm>
            <a:off x="5638680" y="1752480"/>
            <a:ext cx="3391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824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x &lt; -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 there is no minimum since the function decreases without bound on the interval (-∞, -2)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There is no maximum because k(x) increases as x increases and there is no greatest value of x on this interval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172200" y="190440"/>
            <a:ext cx="2666880" cy="6667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rcRect l="59376" t="14003" r="23126" b="14003"/>
          <a:stretch/>
        </p:blipFill>
        <p:spPr>
          <a:xfrm>
            <a:off x="6172200" y="22860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Find the extrema of f(t)=2t</a:t>
            </a:r>
            <a:r>
              <a:rPr b="0" lang="en-US" sz="40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 +4t + 1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rcRect l="18706" t="18647" r="64346" b="50848"/>
          <a:stretch/>
        </p:blipFill>
        <p:spPr>
          <a:xfrm>
            <a:off x="5181480" y="1981080"/>
            <a:ext cx="3733920" cy="42004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0" y="1905120"/>
            <a:ext cx="510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[0,∞)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local/global min: t=0, f(t) = 1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(-3,1):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local/global min: t≈-.787,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f(t) ≈ -1.381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Homework 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Pages 91 - 92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3, 5 – 8,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11 – 13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2:36:26Z</dcterms:created>
  <dc:creator>teacher</dc:creator>
  <dc:description/>
  <dc:language>en-US</dc:language>
  <cp:lastModifiedBy>Laura Helbing</cp:lastModifiedBy>
  <dcterms:modified xsi:type="dcterms:W3CDTF">2012-09-18T17:33:58Z</dcterms:modified>
  <cp:revision>9</cp:revision>
  <dc:subject/>
  <dc:title>Maxima and minima of functions</dc:title>
</cp:coreProperties>
</file>