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3FFA-32E0-4E40-8DF4-DFA5A5C02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D5BD-400C-4C4C-BF5D-2A637474CB7D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57F4-D23E-4380-8527-43B09204A15E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66A-7E93-4404-BAC5-E205815B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6C4-BDA1-481B-BB59-4C02405C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E10-F763-4C52-B210-93E60F4F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26B-841D-4E16-AAB2-96EDBEF47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ED96-A9E3-42E1-93AF-57EE9D9B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47D5-BCDE-4B64-AB5B-307A2A98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8A6D-892E-46A3-A1FE-35DBB7A3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9F2D-2BBB-4EC8-8EDA-A5B76151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E3FE-6634-4196-AAED-E4B30CE9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011C-52F1-4E6E-BB14-641E46CA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0128-EA48-4B86-A28F-1372D34D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9CF-BFA5-4E98-8E23-0CC18F8C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C1E5-F172-49D3-A988-6935DF77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261C-0061-4E5B-BBC6-F9155704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CFE8-5A20-4A94-AFD6-CAFF2D3C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A55C-B5E0-4666-9039-B084D2D9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AE36-CC20-47CB-AD20-AD21BDD3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231B4-FF78-48C4-A29A-AAD4BE8B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4CF01-8020-415C-A8A9-10D28123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80BA3-57D6-4EEF-98E6-9F78FD28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59DA9-664B-4E16-B0C3-E527FB1F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0F99C-782B-476F-A2E6-A8991BEB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0BD-8CB3-4C95-9F7F-E8A9E8C6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0A1AC-0627-41B3-BA28-5B127C81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A4284-BBFA-4E35-8CA0-A9462B75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30CBA-751D-4478-87A0-4062EB56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44DEEC-3B73-47F0-9B17-362D7E26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CB263-DAE6-4956-A774-C18B3822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A3714-8584-4289-89A7-FE50972C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2C8F6-857B-4279-8D32-5BBE9F5F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08476-A417-4922-A8E9-0F7755A1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50D95-8268-4B51-AB0F-B0CD33F9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870F5-AC87-4E80-829B-D42FA502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44B-82D0-4B13-BF31-D0C8DAB1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9CD72-C5FF-42F4-8DDA-763A22EF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8EDD31-FFE8-4F9F-B487-0FC4276A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D3F68-986B-476B-A31D-CF956D3F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1A886A-28A3-4589-889B-79D8FA19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1F34A7-B725-421D-A3F1-9979CF0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14D1A-C167-4D11-954D-0B9DAB46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35A67A-0549-4897-8407-1706690A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07F7C-5B97-42CA-9003-B4F8EA12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F6C76-C69F-4215-ACD7-A9D724F7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CF319-77B8-4DC5-BB4B-2C140991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FA6-9D33-4CA3-BB19-4820A21A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D84F7-335E-48AB-8E62-96337427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A9D10-BB9A-4027-A768-EBECE024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A08AB-7C02-41F6-8E79-F6BAE917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8301F-1684-4D51-A8B5-0E7C1C44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3BCC5-8212-47AE-B100-7B6A7A6E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D0ADD-F408-4628-9802-3A03E252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51B40-99E0-4CAE-902D-40B61C54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6964C3-A238-4588-9A9A-89616BC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01E95-6DCF-4C40-950B-A29D3121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D12E0-0968-4D1C-A81E-90E2B15F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27D-3A4F-4E41-987C-70B9C84D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32773-FE4B-4434-A368-C6CEC933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F8EEE-04AB-43CF-937C-1F620455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7B08E-6FA3-4D9E-91C8-620E17A4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0663B-6BC5-4BE2-9854-F319A37B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33A59-88DC-4707-BA8C-2222E6A7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C2CAC-0316-496D-A697-EE1AF08D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D798-BF8B-407B-B6CC-64F2B2B4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D662A-56CC-468C-8FCC-14D766CC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12B6B-651A-479B-9257-9733CC56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4471A-2C7A-423E-B2D7-8B0BB899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8B7-AF6F-4562-B7A5-35DBA7F6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63B99-0434-442A-97D5-17EE5615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BF703-BAE9-4D18-ABCB-08AE91E0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D5282-8DA4-4BA0-AFD8-F3C9D78B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96E6AA-4F45-4E47-BF3A-07681592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3DEEA6-5CCA-4B0F-9E1A-F0F34071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57364-DCB3-4505-8FB0-1C5038BD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B430D-CE0A-4D88-8EB7-97CC0919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E6E07-67CE-48F1-963B-8AEA5C50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A0A879-EDC8-4F81-A0FA-3DDFBA18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6F733-7D0F-4504-BC2C-7C3E73DA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B7E-C7B8-4CAE-B830-98871559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BA5A6-788C-4466-94DB-B1FDF669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937938-DF33-4B03-8750-3EC2410D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5D4DD0-F1BA-451D-B32D-712052C5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DA68A-AD75-42F0-B688-E45DB6C8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B7474A-4F59-4776-87AD-0AF216E0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CBE9A-3890-47EE-8285-141DE99F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37730-D952-491C-852F-6B1F3A80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31E22-0DC5-4240-8A78-B022DAA2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3D4B7-B96D-4CB2-B850-0B134A57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A3E73-89A5-49D8-A8CA-09564468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75C-1ABD-48EB-8FE1-6E4F28CD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EAB75-E4B1-4363-8D32-0F5C38BC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430C3-51B7-4C84-9880-8FE97925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CAF37-3845-44E6-B947-C33FED80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16B83-6CB7-4098-B800-A18C57AA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65799-B9C1-49BC-A246-27BCA747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66024-6200-4BEE-AE51-3414A79C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AFEA3-2B9B-45A0-A027-6CFA643C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63FD-3325-4455-B906-AAF5191F7DF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c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6AF0-BA7E-40BD-9893-F2A4EDBB47A1}" type="slidenum">
              <a:rPr b="1" lang="en-US" sz="1400" spc="-1" strike="noStrike">
                <a:solidFill>
                  <a:srgbClr val="ffc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344F-3455-439A-AF4B-FDDBE0D8BA4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D624-CD0B-4BED-8FB0-E7F412E1B73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4A35-5392-433E-B815-445AC11DB99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A622-6278-4BEC-B2C9-1EEA6B79BC83}" type="slidenum">
              <a:rPr b="1" lang="en-US" sz="1400" spc="-1" strike="noStrike">
                <a:solidFill>
                  <a:srgbClr val="7030a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0F43-3EB5-49B6-B662-A405C1E418B6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89B8-CBA4-4CC6-A15E-4431F95D2FF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MAXIMA AND MINIMA OF FUNCTIONS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Lesson 2.2</a:t>
            </a:r>
            <a:endParaRPr b="0" lang="en-US" sz="2600" spc="-1" strike="noStrike">
              <a:solidFill>
                <a:srgbClr val="ffcc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Objectives: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Identify the domain and range of function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Determine global and local minimum and maximum values of function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Solve min – max problem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Analyze a function from its graph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Definitions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Global extrema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: If f(c) ≥ f(x) for all x in the domain of f, f(c) is the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global maximum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value of f.  If f(c)≤ f(x) for all x in the domain of f, f(c) is the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global minimum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value of f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Local extrema: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If f(c) ≥ f(x)  for all x in some open interval containing c, f(c) is a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local maximum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value of f.  If f(c)≤ f(x)  for all x in some open interval containing c, f(c) is a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local minimum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value of f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Example 1: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1599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Approximate the global and local maximum and minimum on each given domain for the function k defined by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t of all real numbers: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[-1, 1]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(- inf, -2)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18706" t="20338" r="64346" b="10167"/>
          <a:stretch/>
        </p:blipFill>
        <p:spPr>
          <a:xfrm>
            <a:off x="6019920" y="219240"/>
            <a:ext cx="2590560" cy="6638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ular Callout 7"/>
          <p:cNvSpPr/>
          <p:nvPr/>
        </p:nvSpPr>
        <p:spPr>
          <a:xfrm>
            <a:off x="5943600" y="1219320"/>
            <a:ext cx="1371600" cy="10699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Tw Cen MT"/>
              </a:rPr>
              <a:t>Y = button</a:t>
            </a: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2"/>
          <a:srcRect l="18124" t="19001" r="64378" b="10001"/>
          <a:stretch/>
        </p:blipFill>
        <p:spPr>
          <a:xfrm>
            <a:off x="6019920" y="289080"/>
            <a:ext cx="2590560" cy="6568920"/>
          </a:xfrm>
          <a:prstGeom prst="rect">
            <a:avLst/>
          </a:prstGeom>
          <a:ln w="0">
            <a:noFill/>
          </a:ln>
        </p:spPr>
      </p:pic>
      <p:sp>
        <p:nvSpPr>
          <p:cNvPr id="368" name="Right Arrow 8"/>
          <p:cNvSpPr/>
          <p:nvPr/>
        </p:nvSpPr>
        <p:spPr>
          <a:xfrm rot="19951200">
            <a:off x="7139160" y="2885760"/>
            <a:ext cx="1066680" cy="484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3"/>
          <a:srcRect l="18124" t="19001" r="64378" b="10998"/>
          <a:stretch/>
        </p:blipFill>
        <p:spPr>
          <a:xfrm>
            <a:off x="6019920" y="228600"/>
            <a:ext cx="2590560" cy="6477120"/>
          </a:xfrm>
          <a:prstGeom prst="rect">
            <a:avLst/>
          </a:prstGeom>
          <a:ln w="0">
            <a:noFill/>
          </a:ln>
        </p:spPr>
      </p:pic>
      <p:sp>
        <p:nvSpPr>
          <p:cNvPr id="370" name="Up Arrow 10"/>
          <p:cNvSpPr/>
          <p:nvPr/>
        </p:nvSpPr>
        <p:spPr>
          <a:xfrm flipV="1" rot="13443600">
            <a:off x="6927480" y="2741040"/>
            <a:ext cx="685800" cy="116208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t of all real numbers: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no global min, local min. at x≈ .477, k(x) ≈3.747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 local/global max. at x ≈-.865, k(x) ≈9.257,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 local max. at x ≈ 1.513, k(x) ≈ 6.502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rcRect l="18124" t="19001" r="64378" b="10998"/>
          <a:stretch/>
        </p:blipFill>
        <p:spPr>
          <a:xfrm>
            <a:off x="6019920" y="228600"/>
            <a:ext cx="2590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495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-1 ≤ x ≤ 1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-local/global min 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at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 x≈ .477, k(x) ≈3.747 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local min at endpoint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=-1, k(x) = 9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local/global max. at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 ≈-.865, k(x) ≈9.257, 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 local max at endpoint,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 = 1, k(x) = 5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18706" t="20338" r="64346" b="50801"/>
          <a:stretch/>
        </p:blipFill>
        <p:spPr>
          <a:xfrm>
            <a:off x="5638680" y="1752480"/>
            <a:ext cx="33912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28240" y="15998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x &lt; -2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- there is no minimum since the function decreases without bound on the interval (-∞, -2)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-There is no maximum because k(x) increases as x increases and there is no greatest value of x on this interval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rcRect l="18124" t="19001" r="64378" b="10998"/>
          <a:stretch/>
        </p:blipFill>
        <p:spPr>
          <a:xfrm>
            <a:off x="6172200" y="190440"/>
            <a:ext cx="2666880" cy="6667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rcRect l="59376" t="14003" r="23126" b="14003"/>
          <a:stretch/>
        </p:blipFill>
        <p:spPr>
          <a:xfrm>
            <a:off x="6172200" y="228600"/>
            <a:ext cx="266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Find the extrema of f(t)=2t</a:t>
            </a:r>
            <a:r>
              <a:rPr b="0" lang="en-US" sz="40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 +4t + 1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rcRect l="18706" t="18647" r="64346" b="50848"/>
          <a:stretch/>
        </p:blipFill>
        <p:spPr>
          <a:xfrm>
            <a:off x="5181480" y="1981080"/>
            <a:ext cx="3733920" cy="42004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0" y="1905120"/>
            <a:ext cx="510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Over [0,∞)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 local/global min: t=0, f(t) = 1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 No local/global max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Over (-3,1):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local/global min: t≈-.787,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f(t) ≈ -1.381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No local/global max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Homework 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Pages 91 - 92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3, 5 – 8,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11 – 13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2:36:26Z</dcterms:created>
  <dc:creator>teacher</dc:creator>
  <dc:description/>
  <dc:language>en-US</dc:language>
  <cp:lastModifiedBy>Laura Helbing</cp:lastModifiedBy>
  <dcterms:modified xsi:type="dcterms:W3CDTF">2012-09-18T17:33:58Z</dcterms:modified>
  <cp:revision>9</cp:revision>
  <dc:subject/>
  <dc:title>Maxima and minima of functions</dc:title>
</cp:coreProperties>
</file>