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423C-E59B-4FFD-9622-E72C694D6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7F90-60C0-4715-9B9B-16E6CFB933B2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CCA3-A843-410B-BA8D-F0173D7D66F9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53A-518B-41CB-8882-ED9D126B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EBC-E2F3-4CEB-9E0F-9843E154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386-92C7-47A4-9032-5ABA3958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027-2310-4D53-9BB8-A6B92035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7995-CC2A-489A-8A87-4DAA06A9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1B9A-45AA-41D1-81A4-F379DCDF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9BC0-8A7A-4DBB-9EB1-6630FB34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FCBB-1788-4E23-9386-7FC81171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49AB-D84A-41D9-BC8E-218007FB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660E-132D-469D-989D-6C359C47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6D1F-7CDB-43EF-B14B-CAFA1AA0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E82-E543-4085-8AE5-857A7A4C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A4FA-AD76-4AC8-89FB-9AF4AC9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3B38-9CAC-459F-B9B2-7AC43154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A5DD-288C-4412-973A-1FF1FC2B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5F2D-991E-4A45-8CC0-96833BD2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64F5-A428-4A56-8900-F50C0288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B3BB4-8579-44B1-AFD5-DFC362E6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7DEB5-A0E2-415B-B275-AE8C03E9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1206F-8B05-4EF5-A0CC-2C30B0D4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CD730-EFB9-4F95-9E10-9A4A64C2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E3A9C-2912-4E24-852D-9D1036E4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3CF-E220-4F11-9C86-54B5E7E7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39503-9C08-4C49-A3FB-E9C4669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83F01-E34C-4BCE-8447-EC8DD6F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25033-5217-4708-BC51-CFEF8A36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75B99-70D1-4928-9271-83374FB1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6AC95-A2A4-445E-8B37-8DD7998E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16F71-F2FC-415A-ACB7-595BAA12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52F35-2FAF-4D91-95EE-AB684A80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0718C-9310-4D9E-85A5-EF23F192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22183-B5CE-4A24-984B-4EA43279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12577E-5476-45ED-87E7-44202C74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FB6-DA22-405E-A372-25BE84C2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980CF-A9E8-4D82-83F6-9573DCF3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4F019-069D-44D2-B7B3-C0E17833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26F60-D61F-4C27-BC73-21021D35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ED162-2539-4A0B-B6D8-35CCD357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9A17D3-9EAE-4779-8E57-E0F180B9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067E4-27B2-4A40-B52D-4A516AB2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74C21-388D-463A-861F-B301A578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480D3-D793-465F-9C6B-7E7B9016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BC37A1-9BBE-47B3-A9CE-219EAD49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1241D-701C-43F4-931B-60CD8F8C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461-431E-4832-BD0D-761F4ABD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8E286-BEC2-4C39-965D-E58EBA9B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2101D-CDEB-4676-BBD2-A7A0B07B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EFD09-4C6D-4910-9041-B457F445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A606D-2EFE-447B-9790-FB0D3EF8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9CE3C-FE9F-4502-977D-507C2355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F5D96-DBAE-4142-89DA-3B0F9BD3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7A363-2502-4E58-AECA-1651DB8F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DFA0A-8FD8-48D9-B6E3-483D67CD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1698A-9E23-4EC8-927B-96A6EC29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DC4AE-E535-481E-B48F-DA3D8941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ACD-BF19-4E3F-AEC8-3594B6C6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E619F-9162-4B62-AE26-6AFCCA75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3F8BF-5CD5-4B15-9773-68DB1A91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15F4B-154E-437D-887B-F9F4E77F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A9B1F-7887-429E-819D-8B78CB7C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4152A-67C9-4C54-918D-49856154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146EE-C59C-4099-BC8E-E03622A4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B4A11-59C5-4278-AC94-2678E94A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970C0-3B5B-4C3C-B3A1-D80A68DA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E2157-C73F-4070-B870-9A22FF29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43570-C523-47A6-9A8F-97B86BB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C99-FDAF-4861-BBF5-1794D13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F0F4-3F13-45BF-95E9-C4A09470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A806F-E0D5-4718-BE54-E6931575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7D72-B2D3-4DE7-B6AA-DA88205F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6A01F-7816-446E-83D8-821AF7AA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FEE027-67A2-4609-BE8F-4DFC1F4B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203101-526D-449C-98D2-E0636CE6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345E1-0656-4CC4-8AD4-E0D1A936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77B4D-12F1-42B6-AE16-B4C56251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147C2-8EE5-4982-8A46-6360AD83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59CE7-E173-4038-99C6-4F38F087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8D8-7BB5-4F46-AE54-8482F751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ABE76-2559-404D-AF06-D3FBE89D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8FC29-75F7-45C2-A482-9B36E96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1CB00-8115-4346-B8D6-15F642BB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0A21B-BC58-4402-8C08-C0ECFB15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ECE90-B86D-4D43-A4D6-713FC1FC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EC52A-8824-4942-BBF3-6704E590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4DB7A-2C05-437C-BD44-A456D06E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B774E-0933-4319-A997-9B45BC48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30EA5-5A94-4322-A214-B828F049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A2EA5-C08F-454B-AC9F-AF743D99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62E-1B4C-4DAA-A240-F100D555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2ED6A-35BE-4E3D-992A-D6FB9751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B18C5-63A2-46C6-A602-B311608A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8E831-8283-4645-9755-CCC6973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DBAE4-65E6-4BD5-81E1-68C5E213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B4E40-7A66-4225-91E2-BDB93A5F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97469-5C26-4349-9800-99EC440F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A7BF8-98D7-4CCE-876F-2AA0CA70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2C42-28E1-42D0-A05A-66781ADDD4D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c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BCCC-A76C-4193-907E-601379DC8DED}" type="slidenum">
              <a:rPr b="1" lang="en-US" sz="1400" spc="-1" strike="noStrike">
                <a:solidFill>
                  <a:srgbClr val="ffc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20DA-F24C-4455-B17B-C202A9865C6B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1D36-8ACC-44AB-87E9-3EA130656DF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540B-0412-4389-BB41-58EAC2975A4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36FB-9BE1-4128-8412-9C4D432C2D09}" type="slidenum">
              <a:rPr b="1" lang="en-US" sz="1400" spc="-1" strike="noStrike">
                <a:solidFill>
                  <a:srgbClr val="7030a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8702-ED7D-4271-A93C-D908FB198117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B9A7-7FC5-4F2A-9900-F4C9FFEEBC9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MAXIMA AND MINIMA OF FUNCTIONS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Lesson 2.2</a:t>
            </a:r>
            <a:endParaRPr b="0" lang="en-US" sz="2600" spc="-1" strike="noStrike">
              <a:solidFill>
                <a:srgbClr val="ffcc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Objectives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Identify the domain and range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Determine global and local minimum and maximum values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Solve min – max problem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Analyze a function from its graph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Global extrema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: If f(c) ≥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Local extrema: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If f(c) ≥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Example 1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Approximate the global and local maximum and minimum on each given domain for the function k defined by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[-1, 1]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(- inf, -2)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18706" t="20338" r="64346" b="10167"/>
          <a:stretch/>
        </p:blipFill>
        <p:spPr>
          <a:xfrm>
            <a:off x="6019920" y="219240"/>
            <a:ext cx="2590560" cy="6638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ular Callout 7"/>
          <p:cNvSpPr/>
          <p:nvPr/>
        </p:nvSpPr>
        <p:spPr>
          <a:xfrm>
            <a:off x="5943600" y="1219320"/>
            <a:ext cx="1371600" cy="10699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Tw Cen MT"/>
              </a:rPr>
              <a:t>Y = button</a:t>
            </a: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2"/>
          <a:srcRect l="18124" t="19001" r="64378" b="10001"/>
          <a:stretch/>
        </p:blipFill>
        <p:spPr>
          <a:xfrm>
            <a:off x="6019920" y="289080"/>
            <a:ext cx="2590560" cy="6568920"/>
          </a:xfrm>
          <a:prstGeom prst="rect">
            <a:avLst/>
          </a:prstGeom>
          <a:ln w="0">
            <a:noFill/>
          </a:ln>
        </p:spPr>
      </p:pic>
      <p:sp>
        <p:nvSpPr>
          <p:cNvPr id="368" name="Right Arrow 8"/>
          <p:cNvSpPr/>
          <p:nvPr/>
        </p:nvSpPr>
        <p:spPr>
          <a:xfrm rot="19951200">
            <a:off x="7139160" y="2885760"/>
            <a:ext cx="106668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3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  <p:sp>
        <p:nvSpPr>
          <p:cNvPr id="370" name="Up Arrow 10"/>
          <p:cNvSpPr/>
          <p:nvPr/>
        </p:nvSpPr>
        <p:spPr>
          <a:xfrm flipV="1" rot="13443600">
            <a:off x="6927480" y="2741040"/>
            <a:ext cx="685800" cy="116208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no global min, local min. at x≈ .477, k(x) ≈3.747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/global max. at x ≈-.865, k(x) ≈9.257,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 max. at x ≈ 1.513, k(x) ≈ 6.50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495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1 ≤ x ≤ 1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local/global min 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at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 x≈ .477, k(x) ≈3.747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 min at endpoin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=-1, k(x) = 9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/global max. a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≈-.865, k(x) ≈9.257,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 local max at endpoint,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= 1, k(x) = 5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18706" t="20338" r="64346" b="50801"/>
          <a:stretch/>
        </p:blipFill>
        <p:spPr>
          <a:xfrm>
            <a:off x="5638680" y="1752480"/>
            <a:ext cx="3391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2824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x &lt; -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 there is no minimum since the function decreases without bound on the interval (-∞, -2)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There is no maximum because k(x) increases as x increases and there is no greatest value of x on this interval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172200" y="190440"/>
            <a:ext cx="2666880" cy="6667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rcRect l="59376" t="14003" r="23126" b="14003"/>
          <a:stretch/>
        </p:blipFill>
        <p:spPr>
          <a:xfrm>
            <a:off x="6172200" y="22860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Find the extrema of f(t)=2t</a:t>
            </a:r>
            <a:r>
              <a:rPr b="0" lang="en-US" sz="40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 +4t + 1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rcRect l="18706" t="18647" r="64346" b="50848"/>
          <a:stretch/>
        </p:blipFill>
        <p:spPr>
          <a:xfrm>
            <a:off x="5181480" y="1981080"/>
            <a:ext cx="3733920" cy="42004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0" y="1905120"/>
            <a:ext cx="510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[0,∞)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local/global min: t=0, f(t) = 1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(-3,1):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local/global min: t≈-.787,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f(t) ≈ -1.381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Homework 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Pages 91 - 92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3, 5 – 8,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11 – 13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2:36:26Z</dcterms:created>
  <dc:creator>teacher</dc:creator>
  <dc:description/>
  <dc:language>en-US</dc:language>
  <cp:lastModifiedBy>Laura Helbing</cp:lastModifiedBy>
  <dcterms:modified xsi:type="dcterms:W3CDTF">2012-09-18T17:33:58Z</dcterms:modified>
  <cp:revision>9</cp:revision>
  <dc:subject/>
  <dc:title>Maxima and minima of functions</dc:title>
</cp:coreProperties>
</file>