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82D0-76FE-401B-BF82-E7A29E8D6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8E18-14C6-4BC3-B785-45E64F567573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C41C-35E9-42A1-B973-2AFB95503503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8BC-EC17-4790-8CE3-08C85D4B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192-C1F3-4E41-A4C4-C022291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E79-E6D5-4C40-8C29-8F4451F7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717-2CD8-4CA1-89E6-520DF777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00BC-669D-4B3A-91DA-91D7F7B4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BDB7-982E-487B-B838-4A84A5F1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7BA6-86B2-4B3F-BDBE-A0A2A79E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2689-B7EF-4BBC-9007-D00706E8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F6C3-0D25-4877-A01E-9B9635EC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F781-48CB-45BF-86AD-ADE79AD5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B019-9D9A-4346-82CF-C2DE78C9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048-8D92-458A-AFA2-2D0FBEFF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0736-9C3B-4B5A-A873-5F8072D2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3741-0C9D-4F72-8B2F-4ED100F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35E1-CCE4-4E3A-98A7-3E4A671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F684-AEF7-482A-A51F-F7409ED4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B8CA-7462-4289-8387-B135C527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3C69A-BEDC-4643-A6D7-05BF45F2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F5745-EF4A-4068-B31D-00253C46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D22720-EAE4-4160-B1E7-BAFCFD38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D8594-4702-4504-9A25-3C1DA50D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DE7CF-87DA-479C-A9CC-C6254437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118-387B-46DC-951E-109EEA4A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76B57-9343-43CA-AFFA-7FD102E4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B42ABA-38C1-4C46-B5F8-6421D2F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C7262-97B9-425D-87CA-86DBD5CD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79E06-6CAD-4EAA-8C56-9372226B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C0F74-0C9D-4080-825B-1372856A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0EB50-E3F8-41B8-A3CB-CD2F5171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C4D6A-BC96-4590-8767-883C2233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53E3C-12FF-4892-985C-8650DF28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E8B42-62DE-46CC-ACD4-47EEC16C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87233F-4C79-4860-A599-F2B864E0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020-383C-4FE7-B177-AB57CD0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785A7-E846-4022-8AAE-2139A8A1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77569-B65C-42EE-B0FE-4BED5385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E292B-1070-4AC4-8B46-3AEB8176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FF6AD-3046-4AB0-A63D-56B9D08F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6CDDA-0FB1-4C3D-BC10-4C22B716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AF7F8-69B2-4128-A091-B5772687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F4CA1-5021-4AAA-B82E-5EFB4AD5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22643-96F6-41D0-9CD1-C9487C31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26DD7-C62D-4CC1-91D3-98691829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0A470-3F0C-4A17-AD19-448ABE45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5EC-540B-4DB4-A0A8-B13B6D5A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208A6-87EB-4F45-9ED4-A731A9D6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9A24D-D60A-4DCD-9D55-9C0B597A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18706-B41A-41A8-ACAB-6168C4EE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AB8003-E92B-4918-95C2-EF91C1E9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BEB27-3312-46BF-98D9-74AAD04E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DF558-56EE-4239-8CFA-8619C5C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A83AD-E922-4F6A-8C4F-99FEAC5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334F49-54B5-4856-AA8A-52368ABF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2CABE-7914-482F-A3AD-3F11B250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E41E9-ED2B-4784-8771-73F3E75D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26B-4D89-4836-BC7A-45E33E13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470DF-08AA-4A13-8066-F3F080C0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106E3-587D-4834-B241-1BA2A95E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CAF56-3B8C-41FE-BE4F-8FA5624D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B6AC2-8D57-440B-85AD-E4B70E08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AECE0-A4B7-48F5-9055-5D5DA918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E04F-14C2-48B9-876A-8B238696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62D79-1633-4941-925C-3D737727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EF996-530F-479D-AAF6-0A11C47F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0A33A-6759-49ED-983D-F1613848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B4D4-450A-4131-B1C1-C01C42BA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C3B-D229-4EAE-900B-BD7A935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E495D-494D-4F80-B563-5E0C1863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67D5B-2D66-41A7-A127-14672BBF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7953F-6F2E-46D2-B47C-483201E8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8894C3-F651-41D0-9631-A8F1B7D6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87F14C-66FD-4933-B10B-B9D19F64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C5371-0414-444E-9721-E8D6BE38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EF9F2-4685-4CB5-A4FA-4B20BFC5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F7B3B-3CA5-4A9C-A718-A4E57388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BDAE15-D5D0-40E4-9C4B-F3142D79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082AF-5AC9-4295-83D1-0F628C8F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473F-8BCB-45E3-B944-9DA9FDF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E18FE-87B1-4C9C-82AA-74B86A1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F2637-1885-4CE3-B886-47A9F2A6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BB6EE-0664-48CF-B126-73FA795E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A0AB2-CBF7-4DDE-BDCA-057BB955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5E31E-9D50-450E-8D40-8C448A2A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E8F55-AE05-414C-B655-F51D275D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C85E6-4291-4569-94D0-55FEE7BB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8CFB7-3ADB-48E1-93A7-3D0B572A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BEF49-1694-4E9F-B7BA-61DED62E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E60A3-F2C7-40BF-B9D5-5433EA10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B0E-E9E6-4194-A43F-77C344D5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A99B5-1F83-475C-9F16-82E8E7D2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BCEA-B0EB-41A0-B292-983A601F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716BD-02FB-435B-B560-78187663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6965-911F-45A0-91BE-8C206307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EB27E-7FAA-4C8F-9E11-98EA3674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09EC4-4D86-4B5C-A850-64606906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8147A-2ECD-4BE6-8C3A-91B623AA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CFB1-686B-4E47-9CB4-5A2D2BE9AA8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c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6ABE-DE70-47D2-8247-B5118CF8CE5B}" type="slidenum">
              <a:rPr b="1" lang="en-US" sz="1400" spc="-1" strike="noStrike">
                <a:solidFill>
                  <a:srgbClr val="ffc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834E-A937-4949-BF1D-AB461F63DAD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F8EC-42A0-4FBA-B701-4CCD8CBFD29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070E-0EB3-4603-AA8D-3ECDC17540E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74CB-742F-4BFD-98CC-968651E60DA0}" type="slidenum">
              <a:rPr b="1" lang="en-US" sz="1400" spc="-1" strike="noStrike">
                <a:solidFill>
                  <a:srgbClr val="7030a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3A66-883A-497A-A1AC-C1E407D4B1BE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F27C-B76B-4284-B2AD-35BCFEEA1AB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MAXIMA AND MINIMA OF FUNCTIONS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Lesson 2.2</a:t>
            </a:r>
            <a:endParaRPr b="0" lang="en-US" sz="2600" spc="-1" strike="noStrike">
              <a:solidFill>
                <a:srgbClr val="ffcc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Objectives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Identify the domain and range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Determine global and local minimum and maximum values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Solve min – max problem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Analyze a function from its graph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Global extrema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: If f(c) ≥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Local extrema: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If f(c) ≥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Example 1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Approximate the global and local maximum and minimum on each given domain for the function k defined by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[-1, 1]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(- inf, -2)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18706" t="20338" r="64346" b="10167"/>
          <a:stretch/>
        </p:blipFill>
        <p:spPr>
          <a:xfrm>
            <a:off x="6019920" y="219240"/>
            <a:ext cx="2590560" cy="6638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ular Callout 7"/>
          <p:cNvSpPr/>
          <p:nvPr/>
        </p:nvSpPr>
        <p:spPr>
          <a:xfrm>
            <a:off x="5943600" y="1219320"/>
            <a:ext cx="1371600" cy="1069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Tw Cen MT"/>
              </a:rPr>
              <a:t>Y = button</a:t>
            </a: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2"/>
          <a:srcRect l="18124" t="19001" r="64378" b="10001"/>
          <a:stretch/>
        </p:blipFill>
        <p:spPr>
          <a:xfrm>
            <a:off x="6019920" y="289080"/>
            <a:ext cx="2590560" cy="6568920"/>
          </a:xfrm>
          <a:prstGeom prst="rect">
            <a:avLst/>
          </a:prstGeom>
          <a:ln w="0">
            <a:noFill/>
          </a:ln>
        </p:spPr>
      </p:pic>
      <p:sp>
        <p:nvSpPr>
          <p:cNvPr id="368" name="Right Arrow 8"/>
          <p:cNvSpPr/>
          <p:nvPr/>
        </p:nvSpPr>
        <p:spPr>
          <a:xfrm rot="19951200">
            <a:off x="7139160" y="2885760"/>
            <a:ext cx="106668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3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  <p:sp>
        <p:nvSpPr>
          <p:cNvPr id="370" name="Up Arrow 10"/>
          <p:cNvSpPr/>
          <p:nvPr/>
        </p:nvSpPr>
        <p:spPr>
          <a:xfrm flipV="1" rot="13443600">
            <a:off x="6927480" y="2741040"/>
            <a:ext cx="685800" cy="116208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no global min, local min. at x≈ .477, k(x) ≈3.747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/global max. at x ≈-.865, k(x) ≈9.257,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 max. at x ≈ 1.513, k(x) ≈ 6.50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495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1 ≤ x ≤ 1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local/global min 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at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 x≈ .477, k(x) ≈3.747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 min at endpoin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=-1, k(x) = 9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/global max. a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≈-.865, k(x) ≈9.257,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 local max at endpoint,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= 1, k(x) = 5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18706" t="20338" r="64346" b="50801"/>
          <a:stretch/>
        </p:blipFill>
        <p:spPr>
          <a:xfrm>
            <a:off x="5638680" y="1752480"/>
            <a:ext cx="3391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824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x &lt; -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 there is no minimum since the function decreases without bound on the interval (-∞, -2)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There is no maximum because k(x) increases as x increases and there is no greatest value of x on this interval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172200" y="190440"/>
            <a:ext cx="2666880" cy="6667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rcRect l="59376" t="14003" r="23126" b="14003"/>
          <a:stretch/>
        </p:blipFill>
        <p:spPr>
          <a:xfrm>
            <a:off x="6172200" y="22860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Find the extrema of f(t)=2t</a:t>
            </a:r>
            <a:r>
              <a:rPr b="0" lang="en-US" sz="40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 +4t + 1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rcRect l="18706" t="18647" r="64346" b="50848"/>
          <a:stretch/>
        </p:blipFill>
        <p:spPr>
          <a:xfrm>
            <a:off x="5181480" y="1981080"/>
            <a:ext cx="3733920" cy="42004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0" y="1905120"/>
            <a:ext cx="510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[0,∞)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local/global min: t=0, f(t) = 1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(-3,1):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local/global min: t≈-.787,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f(t) ≈ -1.381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Homework 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Pages 91 - 92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3, 5 – 8,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11 – 13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2:36:26Z</dcterms:created>
  <dc:creator>teacher</dc:creator>
  <dc:description/>
  <dc:language>en-US</dc:language>
  <cp:lastModifiedBy>Laura Helbing</cp:lastModifiedBy>
  <dcterms:modified xsi:type="dcterms:W3CDTF">2012-09-18T17:33:58Z</dcterms:modified>
  <cp:revision>9</cp:revision>
  <dc:subject/>
  <dc:title>Maxima and minima of functions</dc:title>
</cp:coreProperties>
</file>