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93C7-1E19-49EA-A1A9-146EE2F5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EA2C-413F-499A-A079-0C524255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2053-F71D-4133-9DD6-33C29964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A7F1-09F7-4EC7-B1AD-88C7D761D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290F-AE3C-4836-B76A-7E0BBD43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2AD3-6633-4920-A5FE-F898331A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8FCC-23BF-4588-B5FC-EA9230E6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C562-C66E-4663-8637-93D25CE7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4F69-0611-4A48-8071-BB5CDC24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2174-4362-4912-BB29-24BF275B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7977-3B0B-49AA-90E2-E2D529B0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72E4-48D1-46C4-9521-D41B0A0B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A482-2700-49B2-9799-BC06065C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CD09-EBC6-4AB4-B0B1-7533990B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BE64-06EA-4511-B336-34ECEB12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C4EA-7132-4A14-BDE5-284CA6C17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6BAB-EC52-450C-90F9-AA612BE32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DBA3B-9DA6-49EE-9E1B-580BB9D24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A1A88-A247-4A2E-815F-396CEBA9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86235-FB65-4ADD-B8BD-A27BDC02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8EA72-3E4B-43BD-A59A-874E8D49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25E61-B18C-4CBB-8281-1DE4B04A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D009-5C7D-4C39-BBAD-2622E6CA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28E6A-83C7-4A5B-A4B7-38E7D12C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2F84F-D99A-425B-BE57-B3A12EC0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3A889-9DA6-4E24-B5A9-D1AB4139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5F3D5-3FBD-402B-B165-01A39E93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3AFC9-4D95-49FB-929A-3703E409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EA269-8716-4C8B-92D9-7CFC725D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9FA55-B472-49BE-8CE0-955E08566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52894-9EBE-419F-9F2F-95A42FE12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55337-4DCC-4739-A8FA-7C43B430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BCC2E-FBF3-43E4-AE0D-82D1CCDF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1494-ABB4-4D7C-9FA6-624E27F9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80DAF-3ED3-40C9-ADF6-809E5FC6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35686-0A4D-4108-8013-C4DB435D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5BE6E-35A3-4A98-BB1F-5CB711D3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E2282-06A1-40DD-A9E3-EB57066C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8E594-6CAA-461F-8028-B80F08E8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E1C1B-61D6-4AB3-8079-E61CA7AC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8B3E7-757E-49EC-8D3C-C6965240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1D894-7E2E-43B8-A693-5FD2F7EDE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FC854-2BCB-4D2C-BE3D-7F186849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D65DE-2312-4619-AC9A-5423AB49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45B7-814E-43BA-99C7-4ED15727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24529-6BD4-4E84-A2FA-9C730466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ACAB6-A8A1-4107-B46F-9FAD30E8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919E4-0C13-485B-8464-B9968AD1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7EFD7-68A5-46EA-B9C3-C98ADC52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97813-A803-4B4C-A573-911DEBEE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26031-80FB-4F12-A482-419E68D4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DD9CB-62B0-4F97-9F5D-A44F83C0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DEE0D-76F3-426B-8327-0C82D424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A2755-18F7-4E46-8A9E-938E03CD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3F4ED-A299-4C31-B115-67EFCA82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6731-136D-4299-89DD-02813296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F814A-F587-4C16-9239-4E9BE8061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93180-C208-46CD-9D99-F2AADEF9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65E16-AF73-40B7-89FC-1155FEF0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573E8-451D-4AB9-BD88-48CD136F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D11C4-23DC-4CDD-9115-300D0BD4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264CE-1D99-4D40-BF9C-1C7B17CF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EC671-63BE-4F85-A9A9-5C3D2CC5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40385-3748-44AB-8C94-EA7792AE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A5DC9-E313-45B9-A9CF-9DD1F86F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C7DA8-050F-496F-8D76-C0CAB735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0B74-ED83-4CB7-BB09-DAF6D905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10EF4-AB5D-4663-8FD2-E54F253A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86A7B-BD31-4BEF-A0B5-65A310E3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89CE7-494D-4736-9DE9-4B69BFF25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1E387-6A69-4464-A7CE-495E5E9B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2D429-70A1-49CF-9732-C0CF3D33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3E0C7-EAA2-4E8B-BF25-2F2A0A7A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FC281-ECAF-4113-9E13-B1C1B022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431D9-42A5-4689-9FE3-2491927C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5BAA4-68B9-43C7-9227-92439CE2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DFBDC-1567-4C69-ADB0-B4389171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1DA0-71B8-473E-B66F-3671D1E2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53283-E231-4BEA-ADE0-0192025A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BDD70-B8FC-40F6-BB93-697490A1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5707D-1A20-410B-8398-7C6F35B9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D7661-FAD2-46EE-9E6A-FAF341FC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07451-1A24-4A7A-9910-1BBAAFC4D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7053-666A-4867-A037-E62E1579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1F3C-D20B-403F-AA74-5B630D80481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D150-8FFD-47CA-A225-B20A1892B841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0B50-7DD6-4AA2-93E5-5C7221B9DD6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A1D8-5AE9-46DE-85AD-04C37FEE6098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C133-08F7-4A00-A647-C29842CDC11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AF85-B4A0-4EEA-A292-E5CAF12FCA82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B24C-3241-4AF1-84E6-DC0AE9F4BAC4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02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nalyze logarithmic functions and discuss the geometric relations among the graphs of exponential and logarithmic function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et b ≠ 1 be a positive real number.  Then positive real numbers x, y is the logarithm of x to the base b, writt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y = log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b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x      iff  x= b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</a:rPr>
              <a:t>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* When b = 10, the log of x is called the common logarithm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TextBox 3"/>
          <p:cNvSpPr/>
          <p:nvPr/>
        </p:nvSpPr>
        <p:spPr>
          <a:xfrm rot="10800000">
            <a:off x="457200" y="2365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og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3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81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og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81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3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og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5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25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og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</a:t>
            </a:r>
            <a:r>
              <a:rPr b="0" lang="en-US" sz="3000" spc="-1" strike="noStrike" baseline="30000">
                <a:solidFill>
                  <a:srgbClr val="ffffff"/>
                </a:solidFill>
                <a:latin typeface="Century Gothic"/>
              </a:rPr>
              <a:t>4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TextBox 3"/>
          <p:cNvSpPr/>
          <p:nvPr/>
        </p:nvSpPr>
        <p:spPr>
          <a:xfrm>
            <a:off x="2819520" y="213372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entury Gothic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= 8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5105520" y="2133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X =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Box 5"/>
          <p:cNvSpPr/>
          <p:nvPr/>
        </p:nvSpPr>
        <p:spPr>
          <a:xfrm>
            <a:off x="2743200" y="3276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81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entury Gothic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=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Box 6"/>
          <p:cNvSpPr/>
          <p:nvPr/>
        </p:nvSpPr>
        <p:spPr>
          <a:xfrm>
            <a:off x="4800600" y="3276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x = 1/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Box 7"/>
          <p:cNvSpPr/>
          <p:nvPr/>
        </p:nvSpPr>
        <p:spPr>
          <a:xfrm>
            <a:off x="2666880" y="44197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5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entury Gothic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= 1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Box 8"/>
          <p:cNvSpPr/>
          <p:nvPr/>
        </p:nvSpPr>
        <p:spPr>
          <a:xfrm>
            <a:off x="4648320" y="44956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x =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Box 9"/>
          <p:cNvSpPr/>
          <p:nvPr/>
        </p:nvSpPr>
        <p:spPr>
          <a:xfrm>
            <a:off x="2514600" y="53341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entury Gothic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= 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entury Gothic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Box 10"/>
          <p:cNvSpPr/>
          <p:nvPr/>
        </p:nvSpPr>
        <p:spPr>
          <a:xfrm>
            <a:off x="4495680" y="5410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x =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5562720" y="1882800"/>
            <a:ext cx="3124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omain of one is the range of the oth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Reflection of the line y = 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5110200" cy="4992840"/>
          </a:xfrm>
          <a:prstGeom prst="rect">
            <a:avLst/>
          </a:prstGeom>
          <a:ln w="0">
            <a:noFill/>
          </a:ln>
        </p:spPr>
      </p:pic>
      <p:cxnSp>
        <p:nvCxnSpPr>
          <p:cNvPr id="321" name="Straight Arrow Connector 5"/>
          <p:cNvCxnSpPr/>
          <p:nvPr/>
        </p:nvCxnSpPr>
        <p:spPr>
          <a:xfrm flipV="1">
            <a:off x="533520" y="1675800"/>
            <a:ext cx="4877280" cy="4725000"/>
          </a:xfrm>
          <a:prstGeom prst="straightConnector1">
            <a:avLst/>
          </a:prstGeom>
          <a:ln w="57240">
            <a:solidFill>
              <a:srgbClr val="ff2489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3" name=""/>
          <p:cNvGraphicFramePr/>
          <p:nvPr/>
        </p:nvGraphicFramePr>
        <p:xfrm>
          <a:off x="457200" y="1882800"/>
          <a:ext cx="8229600" cy="1482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roperty of Pow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roperty of Logarith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* 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= 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r+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(u * v) =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u +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/ 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= 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r-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u ÷ v) =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u –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= 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(u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 = s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  <p:sp>
        <p:nvSpPr>
          <p:cNvPr id="324" name="TextBox 4"/>
          <p:cNvSpPr/>
          <p:nvPr/>
        </p:nvSpPr>
        <p:spPr>
          <a:xfrm>
            <a:off x="308160" y="4267080"/>
            <a:ext cx="89802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he number e is often used a base for logarith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When the base is e, ln is written in place of log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entury Gothic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pproximate log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entury Gothic"/>
              </a:rPr>
              <a:t>7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94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0" y="1066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4" descr=""/>
          <p:cNvPicPr/>
          <p:nvPr/>
        </p:nvPicPr>
        <p:blipFill>
          <a:blip r:embed="rId2"/>
          <a:stretch/>
        </p:blipFill>
        <p:spPr>
          <a:xfrm>
            <a:off x="2514600" y="1600200"/>
            <a:ext cx="3362400" cy="12193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6"/>
          <p:cNvSpPr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7" descr=""/>
          <p:cNvPicPr/>
          <p:nvPr/>
        </p:nvPicPr>
        <p:blipFill>
          <a:blip r:embed="rId3"/>
          <a:stretch/>
        </p:blipFill>
        <p:spPr>
          <a:xfrm>
            <a:off x="2743200" y="3886200"/>
            <a:ext cx="3200400" cy="10018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9"/>
          <p:cNvSpPr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10" descr=""/>
          <p:cNvPicPr/>
          <p:nvPr/>
        </p:nvPicPr>
        <p:blipFill>
          <a:blip r:embed="rId4"/>
          <a:stretch/>
        </p:blipFill>
        <p:spPr>
          <a:xfrm>
            <a:off x="2514600" y="5105520"/>
            <a:ext cx="1009800" cy="112392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4"/>
          <p:cNvSpPr/>
          <p:nvPr/>
        </p:nvSpPr>
        <p:spPr>
          <a:xfrm>
            <a:off x="4952880" y="54864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2.3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9" name=""/>
          <p:cNvGraphicFramePr/>
          <p:nvPr/>
        </p:nvGraphicFramePr>
        <p:xfrm>
          <a:off x="457200" y="1882800"/>
          <a:ext cx="8229600" cy="13809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xponential Graph Similarity Theor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 The Graphs of all exponential functions with the same base b are congruen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 The graphs of all exponential functions, regardless of base, are simila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609480" y="4648320"/>
          <a:ext cx="8001000" cy="152388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Logarithmic Graph Similarity Theor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5bd3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. The graphs of y = ab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entury Gothic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and y =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x are congruen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2ef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. The graphs of y =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x and y = 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x are simila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Pages 116 – 117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entury Gothic"/>
              </a:rPr>
              <a:t>3-6, 9 – 16, 18, 19, 23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22:51:14Z</dcterms:created>
  <dc:creator>teacher</dc:creator>
  <dc:description/>
  <dc:language>en-US</dc:language>
  <cp:lastModifiedBy>lockwood laura</cp:lastModifiedBy>
  <dcterms:modified xsi:type="dcterms:W3CDTF">2013-09-24T18:24:42Z</dcterms:modified>
  <cp:revision>3</cp:revision>
  <dc:subject/>
  <dc:title>Logarithmic Functions</dc:title>
</cp:coreProperties>
</file>