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ECE03-9522-4879-B279-195EFCA56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E73CA-FD9E-4040-A06C-E33F8D7B8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C953C-47CF-4C0F-8B38-5639AD9D8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BF451-1298-4346-BFE8-7CAFF2B7B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193BD-2D66-4C13-8212-4ACB38A77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61E15-A0D0-454B-9DE9-28EA7A3F9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6E660-2125-4E49-B629-C701EFCDE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CBC61-5C0B-414A-9758-268E223B4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2BD3E-6DB9-4676-AB54-0524F5D89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2EC38-52CC-4A4E-BE29-988F2D351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698F1-3363-4BD0-BA71-3E88C35CE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60697-13F9-4187-BEBD-98E673313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70CE7-5669-4D83-A2C0-34865C7BD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65EA3-9BFF-4BF5-A95E-08D508363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28C2D-050C-48FE-83B5-EAF6EC7F7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7A73F-896B-4033-8916-29B5B503C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F74FF-AA4A-4DB7-A3A2-6AD240A8C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86E34C-F95F-43C7-9957-B334DC682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314173-85E4-4A32-AF24-4A1D5C4B5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68B3D9-8AD6-4661-BBFB-44B696DD3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AE8E07-EE2A-4815-9D83-1E135F2D2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DAC26E-4990-4333-A983-50906D27B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317CF-CD92-48D9-8FAE-67371891F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37B6A8-2DDB-464B-B2A7-C60C61715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8D713A-5BFD-4A23-8C2B-846F806C9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44227E-7F05-448C-88E0-47F8C70BD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84F5DE-2AFC-412F-AF80-DE8AF5A4E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65F197-F11B-4AE2-B126-783010FCF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C3FCB2-0D70-4505-9FB9-46952C822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BF14B3-DD1A-4005-9497-B55725F16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B4AEB0-A445-4A98-B72B-9E6B6BC1C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F8C6DA-1BD4-47DD-83FE-AE6A51113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F41474-856A-4952-9464-39BD6DB04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3911C-F751-4EE0-8B10-719C7A772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E3AF2B-2D0B-49C3-AA5C-4857F0323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9E43B3-6155-43E2-998F-1D4CBB907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976817-1173-45EA-939A-32AA1C88F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B41E93-0E87-4F63-9BCA-14F0D5C18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7B7BC0-3BD7-4543-AD37-1245801E7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5F9CCD-5C6A-42AE-A26E-63A74946B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F9F286-2E2E-44C4-9D5E-349C9353F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2DEFB7-8559-4FAE-A4EB-84FB33A39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98594C-0A2F-4476-8504-5BD58B074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2A44DB-0D5F-476C-B240-801DF7056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24288-1653-4F8F-9525-632F0FB39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B19583-2041-45A4-89A8-AAC623E46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4D2FEF-A99F-4FBE-A86A-D835ACF60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4A2BE7-A393-41C5-9F3B-A42290F5E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5D2A0B-D49C-4F70-A6E8-96560BE8A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31CBF8-BFCA-480A-9533-EABD46825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B89593-C34F-44A4-B615-5EEB3301C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3C3236-E73A-43A6-B77C-C34B4410B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89AA8B-77B6-4CF9-8AB3-80D0747C3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6E0ACA-5AB2-49DB-9DC7-FEB9505CE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222664-6C86-468C-ABA7-81ACDD7C8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0B051-517C-4243-8465-02530306A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EB3855-3B8E-46F4-8BEA-A0A9E9A46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E04190-5258-4ECB-8A1F-5DBCFC9F6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A4FDBD-A587-485E-ACE0-03628D5A2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CDACF7-F292-481F-9A4C-D7664C6AA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E6275F-943D-43ED-9DDB-75FD1FA87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E93B72-9AFA-433A-87B8-77DF73D79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C470E1-7906-416B-8EB4-1D1F6451B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38CFCC-D429-4E46-A206-B40B2E3F5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0ED41E-E559-4338-AE6C-079EDC969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AC43AA-BE60-41E0-A99D-FB356B284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8D1B1-DDD6-4E5C-916C-68334D9CA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6ADD28-6458-40B8-B717-DC08A818A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28CD48-22C5-43AC-AB18-DB9EE5963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7F4AD0-E205-40E9-99FB-7A3FC6881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93B4A3-C849-46A6-A8CD-2DB7D491B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3BE942-0342-4D30-91A3-FE8B1A09C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6D6453-483C-4774-895F-87407A953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544E38-B6EA-400A-9CAB-D4DDBF7D4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595E18-7FE0-4723-A3CA-81F3666EB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BD8A0B-6A6E-40B1-8F24-BE7AC92C0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97CD4F-EF1A-444E-8E60-F995A097B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1EC97-DEEC-4D02-9E12-E8D16FE3E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2C0A00-1638-4EEB-8B82-145BF0284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F35864-B545-4FBF-9039-B11E7337F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41AE95-6226-4E3F-8974-C05C2A02B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7F18A9-241A-40B4-A14C-A0C352645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DD8E0B-7D4F-43D9-9477-8CE8CEA41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5A9A6-5667-4F59-B49F-DB7061411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6CE91-523B-4F7B-A34E-4360E264A4C4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Isosceles Triangle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568F7-83FE-4B33-A046-AC76086EA909}" type="slidenum">
              <a:rPr b="0" lang="en-US" sz="13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5B00F-FDB3-4494-A264-71D379E1BF23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ight Triangle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Isosceles Triangle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Straight Connector 12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Straight Connector 14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F17AA-1419-4F49-BF78-9D36F1A5443B}" type="slidenum">
              <a:rPr b="0" lang="en-US" sz="1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CA15F-0D71-435B-A0A8-BEE9C14D577C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499E7-4032-47DA-93C2-A644B7033DCA}" type="slidenum">
              <a:rPr b="0" lang="en-US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3C7BE-5576-40B3-AA32-CFAE0AA9CBB4}" type="slidenum">
              <a:rPr b="0" lang="en-US" sz="9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Title 1" descr=""/>
          <p:cNvPicPr/>
          <p:nvPr/>
        </p:nvPicPr>
        <p:blipFill>
          <a:blip r:embed="rId1"/>
          <a:stretch/>
        </p:blipFill>
        <p:spPr>
          <a:xfrm>
            <a:off x="536400" y="768240"/>
            <a:ext cx="8326440" cy="1481400"/>
          </a:xfrm>
          <a:prstGeom prst="rect">
            <a:avLst/>
          </a:prstGeom>
          <a:ln w="0">
            <a:noFill/>
          </a:ln>
        </p:spPr>
      </p:pic>
      <p:pic>
        <p:nvPicPr>
          <p:cNvPr id="302" name="Subtitle 2" descr=""/>
          <p:cNvPicPr/>
          <p:nvPr/>
        </p:nvPicPr>
        <p:blipFill>
          <a:blip r:embed="rId2"/>
          <a:stretch/>
        </p:blipFill>
        <p:spPr>
          <a:xfrm>
            <a:off x="536400" y="2170080"/>
            <a:ext cx="8174160" cy="184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Title 1" descr=""/>
          <p:cNvPicPr/>
          <p:nvPr/>
        </p:nvPicPr>
        <p:blipFill>
          <a:blip r:embed="rId1"/>
          <a:stretch/>
        </p:blipFill>
        <p:spPr>
          <a:xfrm>
            <a:off x="195120" y="262080"/>
            <a:ext cx="8498160" cy="140796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nalyze logarithmic functions and discuss the geometric relations among the graphs of exponential and logarithmic functions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06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Let b ≠ 1 be a positive real number.  Then positive real numbers x, y is the logarithm of x to the base b, writte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y = log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Century Gothic"/>
              </a:rPr>
              <a:t>b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x      iff  x= b</a:t>
            </a:r>
            <a:r>
              <a:rPr b="0" lang="en-US" sz="3000" spc="-1" strike="noStrike" baseline="30000">
                <a:solidFill>
                  <a:srgbClr val="ffffff"/>
                </a:solidFill>
                <a:latin typeface="Century Gothic"/>
              </a:rPr>
              <a:t>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* When b = 10, the log of x is called the common logarithm 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7" name="TextBox 3"/>
          <p:cNvSpPr/>
          <p:nvPr/>
        </p:nvSpPr>
        <p:spPr>
          <a:xfrm rot="10800000">
            <a:off x="457200" y="236520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Title 1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242560" cy="1547640"/>
          </a:xfrm>
          <a:prstGeom prst="rect">
            <a:avLst/>
          </a:prstGeom>
          <a:ln w="0">
            <a:noFill/>
          </a:ln>
        </p:spPr>
      </p:pic>
      <p:sp>
        <p:nvSpPr>
          <p:cNvPr id="309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Log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Century Gothic"/>
              </a:rPr>
              <a:t>3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81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Log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Century Gothic"/>
              </a:rPr>
              <a:t>81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3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Log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Century Gothic"/>
              </a:rPr>
              <a:t>5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125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log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Century Gothic"/>
              </a:rPr>
              <a:t>a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</a:t>
            </a:r>
            <a:r>
              <a:rPr b="0" lang="en-US" sz="3000" spc="-1" strike="noStrike" baseline="30000">
                <a:solidFill>
                  <a:srgbClr val="ffffff"/>
                </a:solidFill>
                <a:latin typeface="Century Gothic"/>
              </a:rPr>
              <a:t>4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0" name="TextBox 3"/>
          <p:cNvSpPr/>
          <p:nvPr/>
        </p:nvSpPr>
        <p:spPr>
          <a:xfrm>
            <a:off x="2819520" y="2133720"/>
            <a:ext cx="144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3</a:t>
            </a:r>
            <a:r>
              <a:rPr b="1" lang="en-US" sz="2800" spc="-1" strike="noStrike" baseline="30000">
                <a:solidFill>
                  <a:srgbClr val="ffffff"/>
                </a:solidFill>
                <a:latin typeface="Century Gothic"/>
              </a:rPr>
              <a:t>x</a:t>
            </a: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 = 8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TextBox 4"/>
          <p:cNvSpPr/>
          <p:nvPr/>
        </p:nvSpPr>
        <p:spPr>
          <a:xfrm>
            <a:off x="5105520" y="213372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X = 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TextBox 5"/>
          <p:cNvSpPr/>
          <p:nvPr/>
        </p:nvSpPr>
        <p:spPr>
          <a:xfrm>
            <a:off x="2743200" y="327672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81</a:t>
            </a:r>
            <a:r>
              <a:rPr b="1" lang="en-US" sz="2800" spc="-1" strike="noStrike" baseline="30000">
                <a:solidFill>
                  <a:srgbClr val="ffffff"/>
                </a:solidFill>
                <a:latin typeface="Century Gothic"/>
              </a:rPr>
              <a:t>x</a:t>
            </a: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 = 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TextBox 6"/>
          <p:cNvSpPr/>
          <p:nvPr/>
        </p:nvSpPr>
        <p:spPr>
          <a:xfrm>
            <a:off x="4800600" y="327672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x = 1/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TextBox 7"/>
          <p:cNvSpPr/>
          <p:nvPr/>
        </p:nvSpPr>
        <p:spPr>
          <a:xfrm>
            <a:off x="2666880" y="441972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5</a:t>
            </a:r>
            <a:r>
              <a:rPr b="1" lang="en-US" sz="2800" spc="-1" strike="noStrike" baseline="30000">
                <a:solidFill>
                  <a:srgbClr val="ffffff"/>
                </a:solidFill>
                <a:latin typeface="Century Gothic"/>
              </a:rPr>
              <a:t>x</a:t>
            </a: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 = 12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TextBox 8"/>
          <p:cNvSpPr/>
          <p:nvPr/>
        </p:nvSpPr>
        <p:spPr>
          <a:xfrm>
            <a:off x="4648320" y="449568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x = 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TextBox 9"/>
          <p:cNvSpPr/>
          <p:nvPr/>
        </p:nvSpPr>
        <p:spPr>
          <a:xfrm>
            <a:off x="2514600" y="533412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a</a:t>
            </a:r>
            <a:r>
              <a:rPr b="1" lang="en-US" sz="2800" spc="-1" strike="noStrike" baseline="30000">
                <a:solidFill>
                  <a:srgbClr val="ffffff"/>
                </a:solidFill>
                <a:latin typeface="Century Gothic"/>
              </a:rPr>
              <a:t>x</a:t>
            </a: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 = a</a:t>
            </a:r>
            <a:r>
              <a:rPr b="1" lang="en-US" sz="2800" spc="-1" strike="noStrike" baseline="30000">
                <a:solidFill>
                  <a:srgbClr val="ffffff"/>
                </a:solidFill>
                <a:latin typeface="Century Gothic"/>
              </a:rPr>
              <a:t>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TextBox 10"/>
          <p:cNvSpPr/>
          <p:nvPr/>
        </p:nvSpPr>
        <p:spPr>
          <a:xfrm>
            <a:off x="4495680" y="54100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x = 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19" name=""/>
          <p:cNvSpPr txBox="1"/>
          <p:nvPr/>
        </p:nvSpPr>
        <p:spPr>
          <a:xfrm>
            <a:off x="5562720" y="1882800"/>
            <a:ext cx="3124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omain of one is the range of the oth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Reflection of the line y = 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20" name="Picture 2" descr=""/>
          <p:cNvPicPr/>
          <p:nvPr/>
        </p:nvPicPr>
        <p:blipFill>
          <a:blip r:embed="rId2"/>
          <a:stretch/>
        </p:blipFill>
        <p:spPr>
          <a:xfrm>
            <a:off x="380880" y="1600200"/>
            <a:ext cx="5110200" cy="4992840"/>
          </a:xfrm>
          <a:prstGeom prst="rect">
            <a:avLst/>
          </a:prstGeom>
          <a:ln w="0">
            <a:noFill/>
          </a:ln>
        </p:spPr>
      </p:pic>
      <p:cxnSp>
        <p:nvCxnSpPr>
          <p:cNvPr id="321" name="Straight Arrow Connector 5"/>
          <p:cNvCxnSpPr/>
          <p:nvPr/>
        </p:nvCxnSpPr>
        <p:spPr>
          <a:xfrm flipV="1">
            <a:off x="533520" y="1675800"/>
            <a:ext cx="4877280" cy="4725000"/>
          </a:xfrm>
          <a:prstGeom prst="straightConnector1">
            <a:avLst/>
          </a:prstGeom>
          <a:ln w="57240">
            <a:solidFill>
              <a:srgbClr val="ff2489"/>
            </a:solidFill>
            <a:miter/>
            <a:headEnd len="med" type="arrow" w="med"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23" name=""/>
          <p:cNvGraphicFramePr/>
          <p:nvPr/>
        </p:nvGraphicFramePr>
        <p:xfrm>
          <a:off x="457200" y="1882800"/>
          <a:ext cx="8229600" cy="14828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Property of Power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88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Property of Logarithm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88c"/>
                    </a:solidFill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b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entury Gothic"/>
                        </a:rPr>
                        <a:t>r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 * b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entury Gothic"/>
                        </a:rPr>
                        <a:t>s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 = b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entury Gothic"/>
                        </a:rPr>
                        <a:t>r+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log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entury Gothic"/>
                        </a:rPr>
                        <a:t>b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 (u * v) = log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entury Gothic"/>
                        </a:rPr>
                        <a:t>b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u + log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entury Gothic"/>
                        </a:rPr>
                        <a:t>b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v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b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entury Gothic"/>
                        </a:rPr>
                        <a:t>r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 / b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entury Gothic"/>
                        </a:rPr>
                        <a:t>s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 = b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entury Gothic"/>
                        </a:rPr>
                        <a:t>r-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Log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entury Gothic"/>
                        </a:rPr>
                        <a:t>b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(u ÷ v) = log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entury Gothic"/>
                        </a:rPr>
                        <a:t>b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u – log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entury Gothic"/>
                        </a:rPr>
                        <a:t>b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v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(b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entury Gothic"/>
                        </a:rPr>
                        <a:t>r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)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entury Gothic"/>
                        </a:rPr>
                        <a:t>s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 = b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entury Gothic"/>
                        </a:rPr>
                        <a:t>r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Log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entury Gothic"/>
                        </a:rPr>
                        <a:t>b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 (u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entury Gothic"/>
                        </a:rPr>
                        <a:t>s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) = s log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entury Gothic"/>
                        </a:rPr>
                        <a:t>b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u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</a:tr>
            </a:tbl>
          </a:graphicData>
        </a:graphic>
      </p:graphicFrame>
      <p:sp>
        <p:nvSpPr>
          <p:cNvPr id="324" name="TextBox 4"/>
          <p:cNvSpPr/>
          <p:nvPr/>
        </p:nvSpPr>
        <p:spPr>
          <a:xfrm>
            <a:off x="308160" y="4267080"/>
            <a:ext cx="898020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The number e is often used a base for logarithm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When the base is e, ln is written in place of log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Century Gothic"/>
              </a:rPr>
              <a:t>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26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pproximate log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Century Gothic"/>
              </a:rPr>
              <a:t>7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94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7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Rectangle 3"/>
          <p:cNvSpPr/>
          <p:nvPr/>
        </p:nvSpPr>
        <p:spPr>
          <a:xfrm>
            <a:off x="0" y="10666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0" name="Picture 4" descr=""/>
          <p:cNvPicPr/>
          <p:nvPr/>
        </p:nvPicPr>
        <p:blipFill>
          <a:blip r:embed="rId2"/>
          <a:stretch/>
        </p:blipFill>
        <p:spPr>
          <a:xfrm>
            <a:off x="2514600" y="1600200"/>
            <a:ext cx="3362400" cy="1219320"/>
          </a:xfrm>
          <a:prstGeom prst="rect">
            <a:avLst/>
          </a:prstGeom>
          <a:ln w="0">
            <a:noFill/>
          </a:ln>
        </p:spPr>
      </p:pic>
      <p:sp>
        <p:nvSpPr>
          <p:cNvPr id="331" name="Rectangle 6"/>
          <p:cNvSpPr/>
          <p:nvPr/>
        </p:nvSpPr>
        <p:spPr>
          <a:xfrm>
            <a:off x="0" y="1676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3" name="Picture 7" descr=""/>
          <p:cNvPicPr/>
          <p:nvPr/>
        </p:nvPicPr>
        <p:blipFill>
          <a:blip r:embed="rId3"/>
          <a:stretch/>
        </p:blipFill>
        <p:spPr>
          <a:xfrm>
            <a:off x="2743200" y="3886200"/>
            <a:ext cx="3200400" cy="1001880"/>
          </a:xfrm>
          <a:prstGeom prst="rect">
            <a:avLst/>
          </a:prstGeom>
          <a:ln w="0">
            <a:noFill/>
          </a:ln>
        </p:spPr>
      </p:pic>
      <p:sp>
        <p:nvSpPr>
          <p:cNvPr id="334" name="Rectangle 9"/>
          <p:cNvSpPr/>
          <p:nvPr/>
        </p:nvSpPr>
        <p:spPr>
          <a:xfrm>
            <a:off x="0" y="1676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6" name="Picture 10" descr=""/>
          <p:cNvPicPr/>
          <p:nvPr/>
        </p:nvPicPr>
        <p:blipFill>
          <a:blip r:embed="rId4"/>
          <a:stretch/>
        </p:blipFill>
        <p:spPr>
          <a:xfrm>
            <a:off x="2514600" y="5105520"/>
            <a:ext cx="1009800" cy="1123920"/>
          </a:xfrm>
          <a:prstGeom prst="rect">
            <a:avLst/>
          </a:prstGeom>
          <a:ln w="0">
            <a:noFill/>
          </a:ln>
        </p:spPr>
      </p:pic>
      <p:sp>
        <p:nvSpPr>
          <p:cNvPr id="337" name="TextBox 14"/>
          <p:cNvSpPr/>
          <p:nvPr/>
        </p:nvSpPr>
        <p:spPr>
          <a:xfrm>
            <a:off x="4952880" y="5486400"/>
            <a:ext cx="175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</a:rPr>
              <a:t>2.33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39" name=""/>
          <p:cNvGraphicFramePr/>
          <p:nvPr/>
        </p:nvGraphicFramePr>
        <p:xfrm>
          <a:off x="457200" y="1882800"/>
          <a:ext cx="8229600" cy="138096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Exponential Graph Similarity Theore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88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. The Graphs of all exponential functions with the same base b are congruent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. The graphs of all exponential functions, regardless of base, are similar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40" name=""/>
          <p:cNvGraphicFramePr/>
          <p:nvPr/>
        </p:nvGraphicFramePr>
        <p:xfrm>
          <a:off x="609480" y="4648320"/>
          <a:ext cx="8001000" cy="1523880"/>
        </p:xfrm>
        <a:graphic>
          <a:graphicData uri="http://schemas.openxmlformats.org/drawingml/2006/table">
            <a:tbl>
              <a:tblPr/>
              <a:tblGrid>
                <a:gridCol w="8001000"/>
              </a:tblGrid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Logarithmic Graph Similarity Theore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5bd3"/>
                    </a:solidFill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. The graphs of y = ab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entury Gothic"/>
                        </a:rPr>
                        <a:t>x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 and y = log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entury Gothic"/>
                        </a:rPr>
                        <a:t>b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x are congruent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2ef"/>
                    </a:solidFill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. The graphs of y = log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entury Gothic"/>
                        </a:rPr>
                        <a:t>c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x and y = log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entury Gothic"/>
                        </a:rPr>
                        <a:t>d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x are similar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42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Century Gothic"/>
              </a:rPr>
              <a:t>Pages 116 – 117</a:t>
            </a:r>
            <a:endParaRPr b="0" lang="en-US" sz="8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Century Gothic"/>
              </a:rPr>
              <a:t>3-6, 9 – 16, 18, 19, 23</a:t>
            </a:r>
            <a:endParaRPr b="0" lang="en-US" sz="8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1T22:51:14Z</dcterms:created>
  <dc:creator>teacher</dc:creator>
  <dc:description/>
  <dc:language>en-US</dc:language>
  <cp:lastModifiedBy>lockwood laura</cp:lastModifiedBy>
  <dcterms:modified xsi:type="dcterms:W3CDTF">2013-09-24T18:24:42Z</dcterms:modified>
  <cp:revision>3</cp:revision>
  <dc:subject/>
  <dc:title>Logarithmic Functions</dc:title>
</cp:coreProperties>
</file>