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114-9235-4BAC-9905-B0271972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A5E-C5AB-4372-BC2B-83B07C86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8AE-F8BF-47E7-A359-853770D9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7D7-0720-4134-9859-DEC87238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9913-ADEB-4C6B-BD36-E07005CF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631A-2D3E-465B-BC95-A24CF563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03E3-39BD-45A2-B0B9-2DAB1741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715E-35A7-46F0-82C3-D8F58CD7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399D-2502-4902-A90C-637C768E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EE9F-2DE1-48FC-918D-239BC83C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9A13-86B9-42CA-8B96-D3CAF1CD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5F44-AE28-4BDA-96FC-12119506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7C0D-5D70-4A0B-AEEF-EBF4B2AF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ABDD-7947-4CF8-960E-48799649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10B7-10A5-4057-AA0F-067BC9F7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C4C6-A05D-45A5-9956-CA9FE5F8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C65E-9C3A-44C9-B4CB-F7C96FD0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C8F50-68B7-4590-96E5-2D8DC2CB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75DD6-89A3-43CE-A2C5-F834AA5F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D4C09-7E7C-49BE-BEB0-48E75A17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350B6-C31B-4CBB-B56D-ECA3D671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8656C-6955-40D0-B213-B33AC43E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8A6-9C5F-4313-AA13-1000D102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CDC3C-7372-462B-BF50-98B2C257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10B43-7161-404E-8033-6912787E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9D403-9066-4D00-96B6-35F36C3B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70A1B-4C32-4CE1-9D86-3470315B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544F4-C68A-408C-BC20-B8287CF1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F83BE-5F59-4B14-B161-5AEB8DF0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6622E-5C83-48A5-8B3F-55771E26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FADFA-3E88-4B12-BC1C-6A9F6B27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B25E9-0502-4F28-8836-AA41C210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3136A-848E-49EA-ABF7-BDCC4B00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5A9-00A7-423E-9242-E4709542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953E4-9DFF-4977-9E2A-C5A8847A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2DDFA-4ECE-4E70-A13C-755E114C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CC04-E12D-4892-8A59-081C3783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D6CEF-90A9-4242-B727-2DC7D84B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9C1FC-3F98-425F-AAF6-74221F00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E7B40-D608-4388-8553-3D80E6E7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C034-576E-4D99-9DF5-9CD10FCB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3CEB8-F81F-4ABF-AA11-5B71CAB0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5C4F6-13EB-410C-A9E6-B5E85223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36A35-3D73-4548-A5E9-FE57BDFC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E05-89F5-4705-90F8-FF092996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239C5-A583-4780-A579-AAC3C0F9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AD27E-FBC5-44F1-A64F-32600C66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1B2D6-2F37-4C0B-95CB-6B7B0E74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FC464-091B-4C59-B31E-7CC6B603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E0E31-447A-4E07-879D-1504C523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F8A48-6D7A-494F-9854-42365C0D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82EE2-F5B7-45DD-ADB6-387F2A40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C9BE6-3C44-4ABE-AA93-2F2C40E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1345A-F6E0-4697-98AF-C8DA3622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1328F-E89C-437A-9C05-B2569635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06D-9F5E-48E1-BA17-9389B0A1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7DD4B-C1E3-4256-9244-916E999B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69476-D366-49C5-B5E1-85A2B4F2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4596F-9C2A-4168-8E9C-BF10852F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03EDB-1F24-4460-858F-223E9E93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A13FD-31CE-4F46-AAC9-D9E5EEE3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D8B05-B68C-48C3-B990-04C8F139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41EAE-E743-4B2C-B3C3-D9F90386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3EE04-45F2-49B5-99BB-660D151F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D8F07-3364-4CDB-A598-80C04264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4D8FA-0906-450D-8D7C-21BA9FE6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853-2FE9-4D7F-83D1-3AF1BBD2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3528F-76DB-4CB4-A339-36B8A122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330E2-C725-4382-AB5D-4924634D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846C9-41A5-4C38-B612-5076EC36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9F601-7BE4-4854-A859-21B70766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61BA2-B4D0-4F07-BB4B-9A8BBFC3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076DB-54CD-44A5-9636-0F6AE105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96CCF-2B2F-4777-ACDF-A6EAD47F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12F20-CA6B-426E-8FD4-D1A82A43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D9428-6027-4F6F-BB44-05A3E4A9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74DC0-417F-4F08-816E-8C00C62B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DA05-7C27-4349-8ABD-F245442F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8ADFC-7693-4B9A-8A9E-81B0C4DA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F066E-1606-4139-8FCE-8ACFE5CF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791F9-5911-480C-AD98-EDBB529D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FADF9-9C12-4A19-BCD3-5BB6460A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F7BA2-530E-4E82-B304-542C3A5F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80A-22A8-4564-B88F-3BD7032C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64E2-C36A-4350-A00A-455A099FDD6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A507-5267-4887-B4FA-97162E81252D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03BE-B1FB-48EA-9DF2-41F3765A34B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4297-51F5-4385-B5B4-B3521F4222E0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E925-1E13-4763-9066-B4CADF220C3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5146-EBCA-4288-B402-0B17E0ACDE56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5B11-5F4D-429C-9934-7042826F41C6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alyze logarithmic functions and discuss the geometric relations among the graphs of exponential and logarithmic functio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et b ≠ 1 be a positive real number.  Then positive real numbers x, y is the logarithm of x to the base b, writt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y =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x      iff  x= 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 When b = 10, the log of x is called the common logarithm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TextBox 3"/>
          <p:cNvSpPr/>
          <p:nvPr/>
        </p:nvSpPr>
        <p:spPr>
          <a:xfrm rot="10800000">
            <a:off x="457200" y="2365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8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8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2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2819520" y="2133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105520" y="21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2743200" y="3276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8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480060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1/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2666880" y="4419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1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8"/>
          <p:cNvSpPr/>
          <p:nvPr/>
        </p:nvSpPr>
        <p:spPr>
          <a:xfrm>
            <a:off x="4648320" y="4495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9"/>
          <p:cNvSpPr/>
          <p:nvPr/>
        </p:nvSpPr>
        <p:spPr>
          <a:xfrm>
            <a:off x="2514600" y="5334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10"/>
          <p:cNvSpPr/>
          <p:nvPr/>
        </p:nvSpPr>
        <p:spPr>
          <a:xfrm>
            <a:off x="449568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562720" y="188280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omain of one is the range of the oth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flection of the line y = 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5110200" cy="499284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5"/>
          <p:cNvCxnSpPr/>
          <p:nvPr/>
        </p:nvCxnSpPr>
        <p:spPr>
          <a:xfrm flipV="1">
            <a:off x="533520" y="1675800"/>
            <a:ext cx="4877280" cy="4725000"/>
          </a:xfrm>
          <a:prstGeom prst="straightConnector1">
            <a:avLst/>
          </a:prstGeom>
          <a:ln w="57240">
            <a:solidFill>
              <a:srgbClr val="ff2489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"/>
          <p:cNvGraphicFramePr/>
          <p:nvPr/>
        </p:nvGraphicFramePr>
        <p:xfrm>
          <a:off x="457200" y="1882800"/>
          <a:ext cx="8229600" cy="148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perty of Pow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perty of Logarith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*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+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(u * v)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 +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/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-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u ÷ v)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 –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(u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 = s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sp>
        <p:nvSpPr>
          <p:cNvPr id="324" name="TextBox 4"/>
          <p:cNvSpPr/>
          <p:nvPr/>
        </p:nvSpPr>
        <p:spPr>
          <a:xfrm>
            <a:off x="308160" y="4267080"/>
            <a:ext cx="8980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e number e is often used a base for logarith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When the base is e, ln is written in place of log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pproximate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7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9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2514600" y="1600200"/>
            <a:ext cx="3362400" cy="12193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200400" cy="10018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9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4"/>
          <a:stretch/>
        </p:blipFill>
        <p:spPr>
          <a:xfrm>
            <a:off x="2514600" y="5105520"/>
            <a:ext cx="1009800" cy="11239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4"/>
          <p:cNvSpPr/>
          <p:nvPr/>
        </p:nvSpPr>
        <p:spPr>
          <a:xfrm>
            <a:off x="4952880" y="54864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2.3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457200" y="1882800"/>
          <a:ext cx="8229600" cy="13809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xponential Graph Similarity Theor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The Graphs of all exponential functions with the same base b are congru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The graphs of all exponential functions, regardless of base, are simila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609480" y="4648320"/>
          <a:ext cx="8001000" cy="1523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ogarithmic Graph Similarity Theor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The graphs of y = a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and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re congru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The graphs of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nd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re simila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Pages 116 – 117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3-6, 9 – 16, 18, 19, 23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22:51:14Z</dcterms:created>
  <dc:creator>teacher</dc:creator>
  <dc:description/>
  <dc:language>en-US</dc:language>
  <cp:lastModifiedBy>lockwood laura</cp:lastModifiedBy>
  <dcterms:modified xsi:type="dcterms:W3CDTF">2013-09-24T18:24:42Z</dcterms:modified>
  <cp:revision>3</cp:revision>
  <dc:subject/>
  <dc:title>Logarithmic Functions</dc:title>
</cp:coreProperties>
</file>