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C2B-C200-492B-8D2D-8F01E641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446-9C29-4657-A042-8EE2C2A0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CE0FC-50F6-4615-9558-B12075EC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107E5-5EB8-4D30-9F08-AB8485C8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0C6C7A-95C2-4CB7-BEBA-C6470CAF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34068B-653E-4F97-A012-5DAD418A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3246B4-A28B-4D78-9CAC-06C65A4C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9D27D1-EA55-4FDF-91D5-81A7F318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E5F1BD-AA2D-4E16-8E25-FD1AA332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5B4AC1-9DC9-4B68-93DA-C2DDC990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EB3592-973B-4A54-B93E-23128A50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CDC-47DD-489A-9DDE-43314BFD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17A-79FD-4192-9151-705FCB35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68932-ABBA-4648-AA40-46E3E1BA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5FB47-49F9-4BE5-8765-F2CEB278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335E8-DF22-4CAC-9478-4B4E1283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1D8FD-50E4-4CDF-AB7A-FBDE6FCE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76765-62F3-4F46-9D90-06AEA8FF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5F864-F334-43DA-AF0B-C74AD7A3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05D46-7A3F-435E-B463-7104C6D7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C94-1960-4D37-B7B6-0A43DAD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413DD-2D6F-4B9C-A2A9-BF6DB2CD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5400-DA12-43BA-BFB8-008C3E61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4FBCD-C248-440E-AE54-40EFBE4C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D7567-B003-4137-8603-664811AA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B5930-A680-46C8-A683-829F30B3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2419-CAF1-4E63-9785-1436F373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19F0-28F8-4867-A0DA-5B16B51E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4071-8CBA-49A9-9735-AFC5212A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1893C-9E19-43E8-A723-30A18CA3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AAAF-A7D7-4EB4-BC03-61418595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AA0-36D0-443D-B677-2DD8C878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6056-67DE-4F6F-A044-794526BF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D969-1356-4740-9805-C0A93D1F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DE0C-5744-4091-9FD7-2BA05288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56759-B579-4E66-B157-4D3E8217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9B322-1100-4C78-B382-4FFC564D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81FD9-D28A-42B5-98C7-74548654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7122-3956-44D3-A430-36B43017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4BA4A-8DEF-4610-9E56-C663A659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89C4F-65EF-4B18-AEDD-99CABA30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1C9E1-ACC9-40F5-9729-254D02B3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0188-B4DB-4EBE-8CA0-6FB2157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50EE7-9504-49B7-A6F3-8B570B4F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379839-88C7-48B1-95C7-3B488837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8C2E0-1D9E-4BB8-A4D2-804695C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A1707-9553-46EE-A6E8-6869787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96288-42E8-4862-A0CD-EF73D99E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3F216E-A1B7-47BC-895E-E32806D1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E220A-FD08-4621-988A-718FA5E1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4CC0F-190B-4E95-AA7A-D0FDCC7F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C40B4-4943-4FEE-95A9-DC9C002D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DF93E-7C30-405A-9C9A-77A7C98D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2D71-5D0B-48B1-AD6B-8237E7E0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65933-AF9B-46A7-965F-EB0B5701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5994C-61AD-4A1D-8463-5388EDB7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6CEB9-B7E0-44D6-9A47-34A096D2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E47FA-0B96-45D8-ABF3-77D54E56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94B97-6650-4EB2-853F-04DD17DF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E3ED-E139-4FDE-AFDC-1409BCDC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D506-7D92-4852-A177-1339E87D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AB08-78DC-4575-B041-A8FFB40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5A343-8A26-4AFA-A466-035F43B6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4AEFA-0E85-46BE-8F21-2EB988B0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CED-EDD5-427B-A82D-78137C6E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FD0B2-5B64-4947-8304-47B07E49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61B4D-127A-43D8-B927-7C12A07B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2D051-0B47-4746-9AD0-9CCF9C2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42057-B9D2-45D8-B8E0-D8176F90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72DB-228B-4D47-BBA2-46105425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1BDF5-0457-4813-B849-40AFD401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22B8E-DB8E-44F7-903B-DD79391E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B9E28-E5C9-4B6E-B516-EA75EED5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9A1E-535E-4326-8187-D4B1562A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FCE62-FEF4-4DF1-84A4-6DA2F6C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55D-08B5-4238-90ED-0CDAC306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0278D-A197-4A64-AA54-2DC08145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E9F6-D636-49BC-BF29-B26E3A44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84AE6-6B19-4F28-8B4A-530F3324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89A9B-6DDE-47F9-B318-075F89EF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59285-53B3-48A6-8936-57747905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1B13D-33ED-49F7-A299-AD75CA4A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110F-64B4-43E9-8228-0E2D9B7E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7E0F4-FABC-4BF3-8FB8-7CA8485C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DEB86-3AF6-444D-97DD-DDC6AF5E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EFF59-79A3-4525-B79D-86CDE10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2C7-5D8A-4DC3-9315-A2E1A821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A5CA5-F726-4E69-8ED1-52CD019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704B1-232B-4094-9562-1CC1140C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A3060-3ED4-4F2C-90B1-27A13110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B8874-D6B7-4451-BD56-A69B7751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4EAA-9044-4957-8639-C8FB032E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B5F65-F4CC-429B-96D3-C9350D60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D89EB7-EBB7-4A0A-81AE-C9E31607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7E4807-EEAF-4EE8-9566-1E5D1E59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CBA7BA-B83E-4065-8CDA-33AD8E98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F7380F-5AE5-425B-8849-00E796A8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E23-4661-4CBF-887F-23B13BB9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CB27D-134D-4184-821A-E51FC923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41163E-CC8D-4F0C-A73B-E4814D3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AB9695-7CF4-4684-BA7D-059B782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FD71EB-42DF-48EE-A9D3-D97A5888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755B79-62F2-4B28-B04B-A088D0F1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86AF3-BB38-43D0-B8E4-E7211A26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2B2F43-F29C-4828-A84D-4F47845F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59943D-23CE-48D4-BAF3-C6459CA8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A46178-E3B8-4190-8F8F-226C72C6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9E192-89AA-4FFC-9411-ED8FBA20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1160-5090-4B36-8352-C837F32A16DD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3577-85A6-4263-AC6E-208698CECB2E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C1D4-BE46-43BC-9CC0-AF822D2FD1E1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C94D-D8F4-4D9D-AFB5-DC3DE6C219CB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D02-1E73-4EA1-8F8B-1DC15E4EEE80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66F0-9A15-425C-8456-EB5909792BD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1925-CF3C-4A74-A0D1-9CC1BD4ACECC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6750-4F8E-4323-89E9-75F2C6F52384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A8F9-9399-4A59-AB94-D00560E87492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uppose f is a real function and the open interval (a,b) is in the domain of f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in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 is decreasing on (a,b) iff     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n (a,b)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en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gt; f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8" name="TextBox 3"/>
          <p:cNvSpPr/>
          <p:nvPr/>
        </p:nvSpPr>
        <p:spPr>
          <a:xfrm rot="10800000">
            <a:off x="5652000" y="297720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 rot="10800000">
            <a:off x="5728320" y="495828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Corbel"/>
              </a:rPr>
              <a:t>A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7621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stimate the interval(s) on which the function p with p(x) = -x + 1/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and decreasin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: (-1.28, 0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:              (-∞,-1.28) U (0,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rcRect l="18124" t="1998" r="64378" b="69004"/>
          <a:stretch/>
        </p:blipFill>
        <p:spPr>
          <a:xfrm>
            <a:off x="4952880" y="1905120"/>
            <a:ext cx="4046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ketch the graph of a function that satisfies the following conditions: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creasing over the intervals (-5,-3) and (2, 5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Decreasing over the intervals (-1, 2) and (5, ∞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Section 2.3: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ff"/>
                </a:solidFill>
                <a:latin typeface="Rockwell"/>
              </a:rPr>
              <a:t>1 - 16</a:t>
            </a:r>
            <a:endParaRPr b="0" lang="en-US" sz="9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ve that the function w with w(x) =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is increasing on its entire domain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et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b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w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>
              <a:lnSpc>
                <a:spcPct val="90000"/>
              </a:lnSpc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(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–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)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e taken to a positive number is always greater than 1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exponent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77200" indent="-27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e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mult. Property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24000" y="-66600"/>
            <a:ext cx="8753400" cy="14745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oof: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re positive real numbers. If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n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 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1 &lt;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(mult. Prop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(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/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)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(logarithm of any number greater than 1 is positive) 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0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–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property of logarithms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65680" indent="-26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&lt; log x</a:t>
            </a:r>
            <a:r>
              <a:rPr b="0" lang="en-US" sz="3200" spc="-1" strike="noStrike" baseline="-25000">
                <a:solidFill>
                  <a:srgbClr val="ff99ff"/>
                </a:solidFill>
                <a:latin typeface="Rockwell"/>
              </a:rPr>
              <a:t>2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(addition prop. Of equality)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4:44:07Z</dcterms:created>
  <dc:creator>teacher</dc:creator>
  <dc:description/>
  <dc:language>en-US</dc:language>
  <cp:lastModifiedBy>lockwood laura</cp:lastModifiedBy>
  <dcterms:modified xsi:type="dcterms:W3CDTF">2013-09-18T17:45:07Z</dcterms:modified>
  <cp:revision>7</cp:revision>
  <dc:subject/>
  <dc:title>Increasing and Decreasing Functions</dc:title>
</cp:coreProperties>
</file>