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089B-96BF-4D8C-A739-72B76391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7267-C569-4852-83BB-D094EF74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9B6D59-BDDF-4865-B826-60A33193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3A49DB-F18C-4B52-AD4A-856BE3BE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6DB269-A09B-4B3D-AB36-84B1103E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43AEF9-48C7-4E01-9D68-1C9D1D3E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AAC760-6417-4E22-A3CF-FE48E8F8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610049-2D23-4D95-A017-AA6B8DE2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E1854B-33ED-4122-92FF-5B648D3D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109A42-AE47-4171-A483-299EB71F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ADE9E9-8E72-4072-AECA-DA6B243A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976-D5AC-445F-BE4C-AA89AD81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8AE-C00F-4CCD-BCA5-25B99290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06DE6-50C3-4BEE-AE67-96F6451B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2036B-3B2B-4D57-B838-EB185DDB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761B5-C166-4E39-9FE9-3B0B0083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3AB81-06DB-404C-84FF-39F30051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474F0-65C3-44D5-ABB9-528876D4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90CE2-6AC1-4CB8-AD37-50EC74DE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75372-FF52-45AC-A8F9-C4BAADFD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D2C-5035-4569-BB5F-1FA2AF36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E905B-04D0-462B-B69B-5243DEDD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A0E27-5EA5-498B-A05D-AC5DAEFA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B0F8E-F958-4D31-9090-D11CDDC2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1D209-866C-45AB-A64C-AED3A2CC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6BA5F-A700-42B7-9CDB-381B8DA2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704C5-525F-4E5A-8A76-06A50EA4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F69C5-EF70-4C5D-A1D8-AD492C93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3828B-20DE-4095-8446-88AEE80D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26503-49EF-46BE-800F-30F1797A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69A69-0B8F-4117-BFA5-545904E9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13E-E737-474D-89C7-BFAFFFCB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AD599-FEBD-43DD-84E4-3038E997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C5A6B-678C-4ECE-9CCE-21250D35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D2F2C-8462-4C8C-984A-4D47EFFB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E1B1F-94BE-4E5C-A6A5-AC7CF844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7F053-7786-462E-A8B0-C0A92F1E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B5064-FBC6-40DD-8164-287E8B31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5A1A8-81F6-4738-A0E4-9E39D158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D665EE-D318-4536-8A19-6E4005D9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05171A-F695-4EA9-AFC6-50BA050F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BB27DE-648E-44A7-A5B8-6BE88B7B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0EDC-7D97-4C08-A5DC-80D3E77B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1A0429-E32F-4BA1-BB24-D298BBBF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C3E224-4B48-4AD0-89C3-B40D047D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101391-1FBC-4E81-AFA4-75255F52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E606AA-C98B-4F5B-A5A1-99803E67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615598-819A-443A-A139-5245F832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E47C40-94DA-4745-AB54-5EFFBBDD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B735C9-E80A-41FD-950E-A81693B1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A89E3C-A63A-4DB5-B973-25BF981F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A82B69-2021-428B-99AF-81AC9673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5F1B3-C947-41F1-8067-FE8C0074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3BA-C67B-4BDC-BD3F-A63BCD52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154C9-8CCB-4945-A543-AA37A921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90DFC-67BC-4D53-98F9-CCF20F76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11214-0C53-4AF7-AFD1-172287E9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5AD9D-2F36-4BC0-AAB1-1DD564A0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035CC-E076-4B91-8B1F-FEBBD737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2CEC1-D128-4F8F-B3B4-FA3585E2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26290-4C04-41E5-8D52-6A28D5F9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4D0AB-A9BA-4BA5-960F-D3FA4A86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C2E4B-E991-4BC5-91EE-EE059AD8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9A083-7CE8-41ED-94C0-AB7AE89A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49B-192E-4660-91B1-966C1B7D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43E85-C440-41F1-AC19-B89C02E4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91C57-0D89-4D8C-92A1-E626C51E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E2808-EF73-4583-A864-CFCE5915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5EC99-E656-4BD9-BA7F-8A5897AF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B08FF-E325-40C5-A9E1-F9D133B4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91F2C-BC2C-45E6-9641-2A13728A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9E9B7-308F-4046-8F33-1D0C23B3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2192F-82DB-4497-A256-CA9B54A0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28497-4DAE-4E75-BE51-AB775B4F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C630B-5516-472E-BE73-6615F8A9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083-B581-49D2-80F8-0F094943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4BAFE-6A62-4BCF-BFCC-BD39899E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5384F-7A96-4C6B-A3E8-299DAFAB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84B3A-689C-4BD1-951B-C0EF94C1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97D00-5F8E-4DEF-93E4-2CB54E21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934E3-9162-4780-BCE2-932C46AF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96B89-0F67-44B3-996F-62CE4991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4A562-A685-45CD-A494-E6AB26B5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4B5F8-7144-4749-BE52-12539042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21136-C1A3-4420-A960-CF5F0E84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5CE82-060F-4AE9-AEA6-3F05A300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F3ED-8F29-469C-9F8B-05D538EF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0C8A9-C674-41AC-8CA0-9858B5E7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05472-517E-4B56-8D88-F7048EA2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4B390-8B3A-4069-91AF-F034EFB8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7BD0C-4891-4B8E-BABC-339C8776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418B8-9A41-4DC5-95E8-318BD6B8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4B477E-6DE5-45D5-A091-AB052D47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AA46F8-5006-4F30-8329-166B1733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62EE84-9EA3-4707-8A49-82A83CC0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E5CA97-9079-4440-A8A4-3E583BA6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55F021-9B74-4C94-9256-FB3D480F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64E-24D7-49F0-9C5B-0BBE1529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F5CEB3-B6EC-436B-B4AF-B9537067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E2B761-5AF2-4D45-B5A6-482BECA2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F22DA5-2C78-46D2-9CBB-D00F790A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DEA286-981C-4F52-B0F1-EE87F305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FF0D21-ED83-41CF-9F3C-E8F3C0BD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2001B3-5303-49C1-A9DC-F45D116B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4688FE-1C0A-497B-A6FA-405F1B0A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1C0136-1B46-419C-97D7-829EF0E6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B666E0-F70E-4BB9-A782-0FDC7478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81B5F3-3F94-4777-A9BC-1645FF27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1EAC-29CC-4B05-86FD-C52CF4A60E56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EB70-2E6E-4C6A-9F2D-EFBBA99A53BB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F159-323C-40A0-9483-8937365BFF77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FB63-CB85-4188-9013-B9DD91642218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8008-D430-4C97-8039-7610621A1B11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59BF-16F4-4883-A8B9-7618F34E3ED6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9A90-348A-4972-BB25-048E1F12E968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9C4E-4D2D-49D9-91D9-807ED35D167E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264C-686B-4BB3-B355-3F099959364F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tion 2.3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uppose f is a real function and the open interval (a,b) is in the domain of f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 is increasing on (a,b) iff     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n (a,b)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, then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lt;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 is decreasing on (a,b) iff     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n (a,b)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, then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gt;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8" name="TextBox 3"/>
          <p:cNvSpPr/>
          <p:nvPr/>
        </p:nvSpPr>
        <p:spPr>
          <a:xfrm rot="10800000">
            <a:off x="5652000" y="2977200"/>
            <a:ext cx="5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orbel"/>
              </a:rPr>
              <a:t>A</a:t>
            </a:r>
            <a:endParaRPr b="0" lang="en-US" sz="44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 rot="10800000">
            <a:off x="5728320" y="4958280"/>
            <a:ext cx="5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orbel"/>
              </a:rPr>
              <a:t>A</a:t>
            </a:r>
            <a:endParaRPr b="0" lang="en-US" sz="44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6840" y="7621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Estimate the interval(s) on which the function p with p(x) = -x + 1/x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s increasing and decreasing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ncreasing: (-1.28, 0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Decreasing:              (-∞,-1.28) U (0,∞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2"/>
          <a:srcRect l="18124" t="1998" r="64378" b="69004"/>
          <a:stretch/>
        </p:blipFill>
        <p:spPr>
          <a:xfrm>
            <a:off x="4952880" y="1905120"/>
            <a:ext cx="4046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ketch the graph of a function that satisfies the following conditions: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ncreasing over the intervals (-5,-3) and (2, 5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Decreasing over the intervals (-1, 2) and (5, ∞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ff"/>
                </a:solidFill>
                <a:latin typeface="Rockwell"/>
              </a:rPr>
              <a:t>Section 2.3:</a:t>
            </a:r>
            <a:endParaRPr b="0" lang="en-US" sz="96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ff"/>
                </a:solidFill>
                <a:latin typeface="Rockwell"/>
              </a:rPr>
              <a:t>1 - 16</a:t>
            </a:r>
            <a:endParaRPr b="0" lang="en-US" sz="96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491680" cy="853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Prove that the function w with w(x) =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s increasing on its entire domain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Let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be real numbers.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then w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lt; w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0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–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add. Property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1 &lt;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(x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–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1)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e taken to a positive number is always greater than 1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1 &lt;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/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property of exponents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mult. Property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324000" y="-66600"/>
            <a:ext cx="8753400" cy="14745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5680" indent="-26568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Proof: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are positive real numbers.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then log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lt; log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  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1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/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(mult. Prop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0 &lt; log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/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 (logarithm of any number greater than 1 is positive) 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0 &lt; 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– 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property of logarithms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addition prop.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4:44:07Z</dcterms:created>
  <dc:creator>teacher</dc:creator>
  <dc:description/>
  <dc:language>en-US</dc:language>
  <cp:lastModifiedBy>lockwood laura</cp:lastModifiedBy>
  <dcterms:modified xsi:type="dcterms:W3CDTF">2013-09-18T17:45:07Z</dcterms:modified>
  <cp:revision>7</cp:revision>
  <dc:subject/>
  <dc:title>Increasing and Decreasing Functions</dc:title>
</cp:coreProperties>
</file>