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486-17D7-42D2-A6F9-EF6BD824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7BA-C992-46F3-A9D4-FB7107E1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369B27-F999-4920-94EF-F6D69C84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8B7C2B-C316-45CC-B27A-E39E8A29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4A7DBD-812C-47A6-8F0E-127DD4B1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A6CB5D-7890-4938-924A-2B443BB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99664B-DF5F-42D2-8161-E5C73111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0ED957-A2E6-4A1E-BDE6-F878EE3E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B5F9B3-238D-4D17-A22B-F4C75244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A83A9A-2738-4F8C-852D-F38B4AD3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F63D3C-B608-4B93-BE7F-4BD171F8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D90-487C-4A57-902A-A73602B7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5BB-504B-4FCC-B2D2-6780733C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4A9F2-289A-4729-ADF4-47F93C8F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8032E-FD78-466C-965D-99B93589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0CF26-362A-4C0E-B4A1-C7B0B6CB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BDF77-EED2-41DF-8655-A1CA3B55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B03BA-703F-400C-B930-0314139B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6BD0C-498E-4DC7-8721-3364586A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C94D0-1DE2-4E1E-81C4-4FEA61E1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B50-995F-48E1-917F-5EA2C65A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A9612-9818-4FD9-8B44-68BA787E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FA627-60B6-4C23-BE49-0A6BD910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9B576-6708-48E8-BB5A-EF41CFF4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F57B9-B221-448F-AAF8-55DCDE1D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46421-A319-4C2A-A10C-90477108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6620-642F-4421-8BF6-775F1A82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93D6-6EEE-4E14-B4A8-48596961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0821-348E-45D3-922A-65B1E0AE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4926-D94E-4845-99EA-A8C04017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67EE-2010-4124-80E7-8EA5609B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231-283C-4790-9847-FF70BD4F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C54C0-6191-4644-9D33-3B73E4BE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FA2E-A537-4118-9109-D8324D1A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01C07-9529-43C4-AA56-6B3AE1C2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6BF6-2042-4B04-BCEF-6D6B5237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50AF-258E-4AF3-844C-2E88EEC2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4762-0648-41AF-9438-78ED95A7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CCB01-8D44-4459-8651-230C60FD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D8C42-4699-4203-9AA1-76D4E3B6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2D07A-D0A4-482B-B998-932D9A2E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3A10A3-4696-48B2-ACA8-27B71E49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D87-27BF-4D86-A0E2-BAF4F4F7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FAD468-3B0F-4F52-91B1-D94D5A45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C67E6A-6554-4DE9-8745-E2CA92C9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328CFC-1277-4693-AB44-EAD15380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F2FB3-2E80-49B9-96C2-EE55B392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BA129-1B03-4F48-8375-6A9DED13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2266E2-7D0A-4639-81DD-894F7CBE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CF182-2BDF-44CD-9850-E85FD57E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321385-35B9-4109-9A94-6063C3FC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EFE17-0766-4AC6-B095-610015DC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088B7-9BE2-420A-B5ED-4583C477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1CA-5670-4282-B405-98FB2C50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E6819-6382-4D3B-98CF-FE261EEB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17FBC-9885-4FA5-9B36-13EF9B40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E45A3-0835-4519-A591-0C33E53C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7874C-8F3F-4B88-B196-64A20F45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10794-73BC-4458-8AE0-7B1E1BB8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66F8C-58A4-4D0A-A083-CD963477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A7834-70F5-4D59-870D-EB732CA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CE615-E7CA-4D3B-BBD9-80D53757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0B0BA-5377-44E8-9F21-EED740CC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62682-986F-401F-9D8A-DE600C3C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B37-4220-460C-8CDA-6F1D5B87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406B8-5903-4826-8F41-0BF26A99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18B00-66BF-4036-90A0-F3903B3A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C51F0-AEB5-49C8-9003-14584AFB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FBD1-10E5-4B65-86E0-3A70E3B8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AEBF0-5471-47A8-BCA3-B0621197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E8180-CB3F-4061-B4EB-5E2E2C14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AA5CD-5AEC-4546-8799-9D5560EA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D2DE6-1C32-40E2-97BD-1F2D8EAA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F1647-330E-452B-9160-BD063A5F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75D12-36A4-490E-838E-B45B287D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B10-7170-46C5-A129-4BB51420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40D42-238E-4624-96FD-F5EAA629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FB5C9-3A98-4A90-B26E-10DB9A16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1265B-D0BE-4B63-AA53-BE37D033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ACDB6-3F6E-4FB8-AC08-A3B1F280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AA91F-9C98-44EC-BF6B-2A4C00BA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B8B37-A737-4AED-BEB0-12BFE24C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891F4-64C3-4FCD-8A05-BBF82976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C6C0C-313D-4F85-9162-094FDFC0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BE76B-DB15-4F37-AC2B-84A09A1D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67194-EA94-408D-B061-D886F2D0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5A2-AA0C-400F-B635-7DDC504C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CF197-E12D-4540-B09D-58C92AB6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F7741-8F85-4681-99B4-1C74D7C9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47610-21EE-477A-89A9-55DA1CF4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FF9FF-4BE9-4974-B9CF-0DE679EE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A4A2F-A890-4794-B544-D657F7DF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BACC1C-3810-42BA-B9BC-2223CEE4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71601F-AB1E-4BD9-A7C0-7F9492B8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4FBE2C-10C8-4322-BA09-582CE8F3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C2386E-0C70-4982-ACDC-EB146D2B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9247D2-A68F-4D22-A5DD-592268A2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4D9-1C52-4FFB-973E-A32154ED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6CEFD1-188C-4D29-8BBD-20CB5D8A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D5DB22-72D5-4A6D-96DA-99875691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4B4A7E-5E01-46BB-93F7-30792088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1E4B64-D3A5-41DE-B3FE-3FDA2485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1BD092-29EE-418F-87B1-2E15A7C9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91DD3D-42A0-45B2-9871-375BE1FA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52888A-A0D0-425A-AE5A-266055A8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D1A6D5-C7F7-4020-8F75-017CE5EA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A29EEA-583C-4228-AE21-C70DE285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2330E2-EFCF-45C8-A6F2-7F2BF2B3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15CA-E492-44F5-A26E-F943D7B545A2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8D72-21E0-4AD9-9C24-093F9730E1BA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A25D-F0BB-4AC4-B0DE-B00BB83C314D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1971-BA31-472E-A196-6CFCD9CC4495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8D82-9D1A-42B0-844C-04607E739521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6FFF-5B92-4114-B1C0-91EC4C93DB0A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3171-A830-4703-B09A-87AF302F156E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80DC-8423-4C93-958F-949208B0B673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AD31-0D2D-41DB-998D-EB2278567568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tion 2.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uppose f is a real function and the open interval (a,b) is in the domain of f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 is increasing on (a,b) iff     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n (a,b)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en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 is decreasing on (a,b) iff     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n (a,b)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en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gt;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8" name="TextBox 3"/>
          <p:cNvSpPr/>
          <p:nvPr/>
        </p:nvSpPr>
        <p:spPr>
          <a:xfrm rot="10800000">
            <a:off x="5652000" y="297720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rbel"/>
              </a:rPr>
              <a:t>A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 rot="10800000">
            <a:off x="5728320" y="495828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rbel"/>
              </a:rPr>
              <a:t>A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6840" y="7621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Estimate the interval(s) on which the function p with p(x) = -x + 1/x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s increasing and decreasing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creasing: (-1.28, 0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Decreasing:              (-∞,-1.28) U (0,∞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2"/>
          <a:srcRect l="18124" t="1998" r="64378" b="69004"/>
          <a:stretch/>
        </p:blipFill>
        <p:spPr>
          <a:xfrm>
            <a:off x="4952880" y="1905120"/>
            <a:ext cx="4046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ketch the graph of a function that satisfies the following conditions: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creasing over the intervals (-5,-3) and (2, 5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Decreasing over the intervals (-1, 2) and (5, ∞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ff"/>
                </a:solidFill>
                <a:latin typeface="Rockwell"/>
              </a:rPr>
              <a:t>Section 2.3:</a:t>
            </a:r>
            <a:endParaRPr b="0" lang="en-US" sz="9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ff"/>
                </a:solidFill>
                <a:latin typeface="Rockwell"/>
              </a:rPr>
              <a:t>1 - 16</a:t>
            </a:r>
            <a:endParaRPr b="0" lang="en-US" sz="96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91680" cy="853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ove that the function w with w(x) =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s increasing on its entire domain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et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be real numbers.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n w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w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–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add. Property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(x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–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1)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e taken to a positive number is always greater than 1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/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property of exponents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mult. Property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324000" y="-66600"/>
            <a:ext cx="8753400" cy="1474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oof: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re positive real numbers.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n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  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/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(mult. Prop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/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 (logarithm of any number greater than 1 is positive) 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–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property of logarithms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addition prop.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4:44:07Z</dcterms:created>
  <dc:creator>teacher</dc:creator>
  <dc:description/>
  <dc:language>en-US</dc:language>
  <cp:lastModifiedBy>lockwood laura</cp:lastModifiedBy>
  <dcterms:modified xsi:type="dcterms:W3CDTF">2013-09-18T17:45:07Z</dcterms:modified>
  <cp:revision>7</cp:revision>
  <dc:subject/>
  <dc:title>Increasing and Decreasing Functions</dc:title>
</cp:coreProperties>
</file>