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194-5F4D-472C-BB9E-2EB92E9D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1B9-CAEC-4EE0-9D17-FB40D05A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2FFEEC-1010-4618-9B5D-5B111AE4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A13031-FD25-45CC-B27A-C8425B75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E0294B-AB0B-489F-9EBE-3B142F1B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4A3CFF-A29C-42DF-994A-0251AEC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DD06A3-968C-4E8A-B6AC-9345A74F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5D6819-0063-4EEF-A06B-8B71A15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32386-0C78-4098-9DCD-12A1C34A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A68ECB-DB27-404E-9EEC-C3AA441B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93147E-516A-43EC-859C-76C08B38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2B5-6D14-4C24-9F6F-03102CAB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FFD-72BD-4EBC-BE8A-6A519334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7A7FF-6291-40ED-8BE3-FD29E758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2A7FC-D3F9-456E-8751-39C3FAEF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2FD11-3894-4CAE-9384-047355FE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7E2B8-8D23-4A51-A947-C7236B9E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C8741-CE28-4516-9F93-C4D9B721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B2329-B9B9-4201-A4DE-ACEAF0FE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BCD96-A6B1-417D-A895-6F323C20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05C-A9C9-43D0-9A66-9817E3DD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67D09-0546-4CFA-9BBA-6447DF70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251ED-A0C2-49ED-AF9E-80C40A7F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B7721-8726-4737-BA0D-86F7CE1D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283E8-BA68-4230-867F-AFD78A14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B09F5-E7B8-45C0-BA1C-1ABDA2B3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427D-2BD8-4D4C-B87D-13A63612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51B7-36DF-4DAE-948A-0B40ECA0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9CC6-0DE4-40AA-AFA2-90D05C49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D9A23-FFF1-41F7-A300-8B4E0C08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D371-232B-42D9-BA46-3B72D6B0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CEB-169A-4C11-A1EA-F6D83210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3031-430B-4116-B329-88B7410D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777A1-1D9F-4A02-8BF0-1E313D4D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F034-E7C5-42B7-B311-48015125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E357-CE20-4782-BB7E-7F789CC8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89DC-B368-4CF1-B030-2ADE6772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D031-1D25-4A6F-A796-22657FC9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50C38-2794-4259-8554-C99EB0FE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748D24-67D1-4446-9C99-201955D4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B9B1B-7444-462A-8C5B-216E9D13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5FBB08-1E57-4BEC-A284-3699F96B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F76-4949-40F1-9581-41779ACA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C049BA-275A-4567-B176-2C783C04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F0CA44-4B6B-433E-90BC-85D0B69F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F19FA-BA90-41B3-8D66-4C46C926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ECD51-6BB0-4A8B-A5C0-85ACC516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749C8-802C-44E7-911D-66A91FDC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D85F0-BBA9-4F71-B012-77FCA87C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AB89D-BFBA-4902-81F7-C81413DF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9C493-4598-4451-83AC-0885C15F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23CA2-C376-4ECD-8EDE-8F498046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C48A7-98CB-41B3-9B59-E14CFD1C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F9D-6701-4F73-B468-47A618B9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D8AF6-E7A2-4DA7-8DA0-CAF4554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6FF24-7CE6-488E-A598-DB92D050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ACBB2-3111-43BB-AEF8-AAA40A0B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34786-8F70-4B6C-8495-268E8ED5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38B16-4230-4406-82F9-23AF5A05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DD576-22D6-425F-B372-3C4434E3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1845-5D29-40CA-80B4-C400CCA0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A4479-109A-4082-9A2F-1D39DBF1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49314-0980-480D-899D-E1F47D3E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604B4-90C6-49D6-A4F4-4BC5063F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3E2-9C36-4C34-BF55-3F98B850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B6F12-98AF-400F-AC38-87B486AB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63318-B887-49F1-A1C5-36C4AA91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4E841-2A0D-4AFC-BD46-44CF01C4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11EC1-55E0-4D15-96BD-74D6A6FF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AEF1A-5746-40DF-BBD5-77337D21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4B86-FC0B-4E95-8D4B-2A1108F3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E618C-790F-41A0-A9D1-B411EC80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234EA-C971-49B7-A382-F8FAE8B7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0E2F6-BCB1-4E03-87F1-2939C57C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3CB46-1CB0-40D4-BE03-20EFA041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D88-811E-462D-A557-3DD2851A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C202B-FF83-4740-8840-560F61A8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B0DD4-3D47-47C8-87F4-9A566887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A40A7-290C-42B1-B28C-BB0B9902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7DBD-BD6A-4266-B2C9-760BBD4F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2DF39-03AF-4FAF-95A3-76D0C895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CF65D-05F9-4355-99C8-D37ADE73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B046-C91C-4FE9-960A-6E1A0D6D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BBD03-F828-4BAE-A3E5-06FE1EEA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1E3E-A145-4482-B5D4-CA65F70E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8FBDE-AFE7-4396-AA52-DB43F9B9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07E-F2AA-44D0-A04F-63B0DECA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F71CC-B723-474D-B1C2-701A17E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A4211-085E-446E-AAAD-0C06BC25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383A8-5C68-4113-A46A-1E307A0C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F572C-66E0-46E9-939E-9CD76C1E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F69EE-D5BA-452B-97C4-BDAC4F9C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DD2C54-0BFE-42B0-811B-F7B3B44F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DF5A2-BBEC-4E38-B790-D460753B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E6CE2E-9B27-4D8B-849C-C9A6FA13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7060C-F0B5-483A-8FC6-EBB1BA7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6FA03A-B02A-487C-9666-7E42BAAA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745-4963-4602-93A4-22CACECE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F016A-4F96-42EE-9B94-4635544D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A4B21E-5618-453E-972E-A1F68DD9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F1977B-C333-47FD-9FDE-15A41500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77E6F3-109C-4D70-A91C-15D683C5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6ACDA3-3EC9-4364-89BB-72F13175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CD5287-FA42-47A7-B821-AECCC7EB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39633B-38C6-4F44-A51D-35AD292B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7A5082-F9E1-47AE-BC00-17B029E1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65045-A415-4E91-B8A5-9FEE4FC5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178EB7-B436-4A87-8466-9E23CFB4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5D72-3154-4C28-B229-6D7B7F43F057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DBE5-4207-4623-BA95-E34303D3CA6D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77A4-DC79-4400-B23E-CCB62B983AF2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E7B8-5CC5-4F73-B003-9F3244F0BF1F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355A-F99F-41B4-A0BB-09EFE7FD929C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E4FD-F1A4-4453-8A80-11F4CEE709E1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0B59-E664-413F-BC29-7708FD3F6564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A1F9-0CC8-43DD-8F2D-216BC425E9B2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9610-6047-4AC3-98CD-A67669575FEF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tion 2.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uppose f is a real function and the open interval (a,b) is in the domain of f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in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de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g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 rot="10800000">
            <a:off x="5652000" y="297720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 rot="10800000">
            <a:off x="5728320" y="495828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6840" y="7621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stimate the interval(s) on which the function p with p(x) = -x + 1/x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and decreasing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: (-1.28, 0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:              (-∞,-1.28) U (0,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2"/>
          <a:srcRect l="18124" t="1998" r="64378" b="69004"/>
          <a:stretch/>
        </p:blipFill>
        <p:spPr>
          <a:xfrm>
            <a:off x="4952880" y="1905120"/>
            <a:ext cx="4046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ketch the graph of a function that satisfies the following conditions: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 over the intervals (-5,-3) and (2, 5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 over the intervals (-1, 2) and (5, 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Section 2.3: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1 - 16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ve that the function w with w(x) =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on its entire domain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et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b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(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–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)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e taken to a positive number is always greater than 1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exponent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mult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324000" y="-66600"/>
            <a:ext cx="8753400" cy="1474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of: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re positiv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 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(mult. Prop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 (logarithm of any number greater than 1 is positive)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logarithm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ition prop.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4:44:07Z</dcterms:created>
  <dc:creator>teacher</dc:creator>
  <dc:description/>
  <dc:language>en-US</dc:language>
  <cp:lastModifiedBy>lockwood laura</cp:lastModifiedBy>
  <dcterms:modified xsi:type="dcterms:W3CDTF">2013-09-18T17:45:07Z</dcterms:modified>
  <cp:revision>7</cp:revision>
  <dc:subject/>
  <dc:title>Increasing and Decreasing Functions</dc:title>
</cp:coreProperties>
</file>