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EB4-CFA1-41C8-A61B-BD3E3F5D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94D-7C85-4E69-A302-FE2936E3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88F-42F0-4AB8-80AC-BD74B2D5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C4D-9D41-4B3A-9C48-3F13030E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3AF5-A5CC-4FD5-8674-95A67FE66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1A4D-CA12-4444-87CF-70469897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BF1E-15CE-49D5-9128-3B668BBB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FF8E-5E56-4AED-8D05-3E3F2C4B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271-627B-4F70-B4F8-8B7A38A3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DE1-9526-47EC-8057-1CE4B4D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C4D6-791A-4E0C-8096-DE1EF6FA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1595-FD42-4E50-B9F7-6F96F20A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905D-D243-435B-8477-2B932EB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DFA-09F8-4BCE-9ADA-7036169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FD5E-870B-4A00-BFB3-76AA7EB4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FA6F-E742-4D7E-A20B-521E7172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E897-954E-4BEE-B2A3-9728F0D4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35D0C-A489-478D-9CDA-7B8B70AB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A882A-79F3-43E4-891D-49E96769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4BC55-D1BD-4516-81CB-C68985B6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CDEF6-A744-4CE0-B1A2-C9ACB981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CF758-9F86-45FE-A1D0-CF548DF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9D4-1A4C-4B96-9240-317DA9B8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24D8F-A224-4527-822C-8F2D4D0F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3DF6B-FD1E-4DB9-8AEE-685FC6AB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4C11E-C5C8-4FDC-A552-ADBC273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927984-9A5B-42A6-AC0A-B9C0640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68620-E30C-4C1F-B00F-AF1B1B77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CADC39-65A8-4431-A14F-2856A827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596835-1155-4A09-8262-4E1998B1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7ABE-BBB4-441A-9EBD-3931B53D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AF37A-A381-4062-88F8-7C81593A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A628-F0C2-46E9-B05D-27D761D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20ED-73D8-4D6F-BC9C-07B0EFA7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0C62F-B1F7-4264-8859-B78CCC1E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E6A7-7C55-4496-BC2F-C6DEBFE5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DB0D-B99E-4847-97DA-5230BFCF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C4EE7-DD1A-4BB8-AB8B-F380F68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B7D9-9B2A-4654-9DAB-6114739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AAEF-2B9E-43E4-8FCE-5D33309B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A2A5-B719-47A2-8EC2-1CDC7CC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B8AF1-1D33-4174-AC79-3AF56905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5054-9E7E-4ADA-BD35-3ECFB5FA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9B22A-A3D3-4642-ABD5-89C8C2A3C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073-C017-45B2-BF42-0CDA9E8A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6E9AF-AB05-411D-844A-AFAB6735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5260DD-748E-40AB-B926-EF119A9F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218CE-61C7-4253-B95B-778337A9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C63D4-5BCB-40B6-9D68-AB21B9E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B4F34-35DE-4304-B7A4-B1C2D4C9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D2647-FC0D-4B9C-9750-A161F6A6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9BAA8-CBBB-4AD5-8649-07A7D0E2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E4226-CB34-4EBB-A3B4-74607AA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2A6AC0-889C-4CFF-A430-B241549E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F1F06-E90F-4AE6-BBC3-B3C1FF16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F0B-77EF-4DFC-88D0-FC173FEB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48834-3666-4B6A-AE5D-A9D5CB45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F34856-A8E6-4297-B199-BFE93AB2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EE795-A4BF-4E7E-BDF0-247D122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255EDF-6D8A-4D61-BE66-07608E2D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9992F-C6BE-4064-A4FB-B3FA3E30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768BE-9689-43CF-A4F7-00CCE8A1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8D5F8-CF73-4F26-8692-92691E07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068621-3178-4B65-8D69-04E99211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43255-1BA2-4936-B5BE-57B6D45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40CAB-C3EF-4ACB-8606-B40D67F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9DFA-DA8F-4620-B9DD-D594226F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0D413C-11EC-46F8-92B6-99CFE873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F494F-8282-4558-B68F-BFC30D9A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FAD11-8651-4820-8948-3A1617D9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419A0-20F3-449B-895D-885CCF04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0CDDF-9318-4D06-A27B-8F1F81D2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CD591-8CE2-4D85-AE30-62F9949A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A1E25-BFBC-4BF4-A0FF-FF29E4D8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462EF-4F92-460F-A485-093DCC31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AEECDE-9FB4-4D1D-AA40-54947FC5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AAA26-07BF-449C-A064-92DBD05D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90D-9EA2-41DE-A997-8BE82291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EA11F-76C6-4B1D-8767-01CFC1FB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42B11-621D-4C4B-9570-06D299B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9A621-CDF2-4941-9BAD-DDB1286F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EE484-EFDD-48C3-A4EB-64EF04E7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875C9-7F1F-4DA7-98CF-5EAF1623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4EE-2759-4329-A058-07BD44D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C26D-4C4C-4001-AE33-3539440D95F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AD4C-5F65-4B6F-A8B2-E521061BDED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B8CA-C1BC-4B80-BA67-1DE4D02597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F18E-E147-48B2-B964-AC8F4A0CE59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310C-964C-4B23-B6E7-C50AC4BE1D6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964C-049A-4D24-8F7D-6CEE48CC261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BEF4-C261-4AE0-AB2F-26F70A25252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GRAPHING EQUATIONS IN POLAR COORDINAT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Lesson 8.3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GRAPH {[R, 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]} R = 2SIN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488960"/>
            <a:ext cx="6095880" cy="536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56" name="TextBox 7"/>
          <p:cNvSpPr/>
          <p:nvPr/>
        </p:nvSpPr>
        <p:spPr>
          <a:xfrm>
            <a:off x="7622280" y="205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2"/>
              <p:cNvSpPr txBox="1"/>
              <p:nvPr/>
            </p:nvSpPr>
            <p:spPr>
              <a:xfrm>
                <a:off x="7543800" y="243828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543800" y="3200400"/>
                <a:ext cx="68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0" name="TextBox 12"/>
          <p:cNvSpPr/>
          <p:nvPr/>
        </p:nvSpPr>
        <p:spPr>
          <a:xfrm>
            <a:off x="7698600" y="3657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4"/>
          <p:cNvSpPr/>
          <p:nvPr/>
        </p:nvSpPr>
        <p:spPr>
          <a:xfrm>
            <a:off x="7700040" y="44197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4"/>
              <p:cNvSpPr txBox="1"/>
              <p:nvPr/>
            </p:nvSpPr>
            <p:spPr>
              <a:xfrm>
                <a:off x="7467480" y="480060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4" name="TextBox 17"/>
          <p:cNvSpPr/>
          <p:nvPr/>
        </p:nvSpPr>
        <p:spPr>
          <a:xfrm>
            <a:off x="7700040" y="52578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8"/>
          <p:cNvSpPr/>
          <p:nvPr/>
        </p:nvSpPr>
        <p:spPr>
          <a:xfrm>
            <a:off x="7700040" y="601992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7467480" y="5562720"/>
                <a:ext cx="100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7" name="Flowchart: Connector 20"/>
          <p:cNvSpPr/>
          <p:nvPr/>
        </p:nvSpPr>
        <p:spPr>
          <a:xfrm>
            <a:off x="34290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lowchart: Connector 21"/>
          <p:cNvSpPr/>
          <p:nvPr/>
        </p:nvSpPr>
        <p:spPr>
          <a:xfrm>
            <a:off x="342900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Connector 22"/>
          <p:cNvSpPr/>
          <p:nvPr/>
        </p:nvSpPr>
        <p:spPr>
          <a:xfrm>
            <a:off x="2971800" y="3200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lowchart: Connector 23"/>
          <p:cNvSpPr/>
          <p:nvPr/>
        </p:nvSpPr>
        <p:spPr>
          <a:xfrm>
            <a:off x="2590920" y="34290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lowchart: Connector 24"/>
          <p:cNvSpPr/>
          <p:nvPr/>
        </p:nvSpPr>
        <p:spPr>
          <a:xfrm>
            <a:off x="2971800" y="41148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lowchart: Connector 25"/>
          <p:cNvSpPr/>
          <p:nvPr/>
        </p:nvSpPr>
        <p:spPr>
          <a:xfrm>
            <a:off x="2514600" y="38862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lowchart: Connector 26"/>
          <p:cNvSpPr/>
          <p:nvPr/>
        </p:nvSpPr>
        <p:spPr>
          <a:xfrm>
            <a:off x="2514600" y="43434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lowchart: Connector 27"/>
          <p:cNvSpPr/>
          <p:nvPr/>
        </p:nvSpPr>
        <p:spPr>
          <a:xfrm>
            <a:off x="2590920" y="3276720"/>
            <a:ext cx="990360" cy="914400"/>
          </a:xfrm>
          <a:prstGeom prst="flowChartConnector">
            <a:avLst/>
          </a:prstGeom>
          <a:noFill/>
          <a:ln w="2844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1138E-006 L 0.1 -0.06661 E">
                                      <p:cBhvr>
                                        <p:cTn id="101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5943600" cy="5429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K(T) = 3 + 4 COS T, 0≤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 Θ</a:t>
            </a:r>
            <a:r>
              <a:rPr b="1" lang="en-US" sz="4000" spc="-1" strike="noStrike">
                <a:solidFill>
                  <a:srgbClr val="575f6d"/>
                </a:solidFill>
                <a:latin typeface="Perpetua Titling MT"/>
              </a:rPr>
              <a:t> ≤2</a:t>
            </a:r>
            <a:r>
              <a:rPr b="1" lang="el-GR" sz="4000" spc="-1" strike="noStrike">
                <a:solidFill>
                  <a:srgbClr val="575f6d"/>
                </a:solidFill>
                <a:latin typeface="Constantia"/>
              </a:rPr>
              <a:t>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400800" y="1676520"/>
          <a:ext cx="2133720" cy="472896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π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π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π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8" name="TextBox 7"/>
          <p:cNvSpPr/>
          <p:nvPr/>
        </p:nvSpPr>
        <p:spPr>
          <a:xfrm>
            <a:off x="7622640" y="2057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"/>
          <p:cNvSpPr/>
          <p:nvPr/>
        </p:nvSpPr>
        <p:spPr>
          <a:xfrm>
            <a:off x="7620120" y="28195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698600" y="3276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7698600" y="4038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4"/>
          <p:cNvSpPr/>
          <p:nvPr/>
        </p:nvSpPr>
        <p:spPr>
          <a:xfrm>
            <a:off x="7699680" y="4419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7"/>
          <p:cNvSpPr/>
          <p:nvPr/>
        </p:nvSpPr>
        <p:spPr>
          <a:xfrm>
            <a:off x="7698600" y="48006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8"/>
          <p:cNvSpPr/>
          <p:nvPr/>
        </p:nvSpPr>
        <p:spPr>
          <a:xfrm>
            <a:off x="7622280" y="525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lowchart: Connector 21"/>
          <p:cNvSpPr/>
          <p:nvPr/>
        </p:nvSpPr>
        <p:spPr>
          <a:xfrm>
            <a:off x="4648320" y="28195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8"/>
          <p:cNvSpPr/>
          <p:nvPr/>
        </p:nvSpPr>
        <p:spPr>
          <a:xfrm>
            <a:off x="7848720" y="2438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9"/>
          <p:cNvSpPr/>
          <p:nvPr/>
        </p:nvSpPr>
        <p:spPr>
          <a:xfrm>
            <a:off x="7623720" y="3657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-.4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0"/>
          <p:cNvSpPr/>
          <p:nvPr/>
        </p:nvSpPr>
        <p:spPr>
          <a:xfrm>
            <a:off x="7698600" y="56386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1"/>
          <p:cNvSpPr/>
          <p:nvPr/>
        </p:nvSpPr>
        <p:spPr>
          <a:xfrm>
            <a:off x="7698240" y="60199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6.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lowchart: Connector 32"/>
          <p:cNvSpPr/>
          <p:nvPr/>
        </p:nvSpPr>
        <p:spPr>
          <a:xfrm>
            <a:off x="3733920" y="2514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lowchart: Connector 33"/>
          <p:cNvSpPr/>
          <p:nvPr/>
        </p:nvSpPr>
        <p:spPr>
          <a:xfrm>
            <a:off x="3048120" y="28954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lowchart: Connector 34"/>
          <p:cNvSpPr/>
          <p:nvPr/>
        </p:nvSpPr>
        <p:spPr>
          <a:xfrm>
            <a:off x="2895480" y="3429000"/>
            <a:ext cx="15264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lowchart: Connector 35"/>
          <p:cNvSpPr/>
          <p:nvPr/>
        </p:nvSpPr>
        <p:spPr>
          <a:xfrm>
            <a:off x="3200400" y="37339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Connector 36"/>
          <p:cNvSpPr/>
          <p:nvPr/>
        </p:nvSpPr>
        <p:spPr>
          <a:xfrm>
            <a:off x="3352680" y="35812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owchart: Connector 37"/>
          <p:cNvSpPr/>
          <p:nvPr/>
        </p:nvSpPr>
        <p:spPr>
          <a:xfrm>
            <a:off x="3200400" y="35053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38"/>
          <p:cNvSpPr/>
          <p:nvPr/>
        </p:nvSpPr>
        <p:spPr>
          <a:xfrm>
            <a:off x="2895480" y="3809880"/>
            <a:ext cx="15264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owchart: Connector 39"/>
          <p:cNvSpPr/>
          <p:nvPr/>
        </p:nvSpPr>
        <p:spPr>
          <a:xfrm>
            <a:off x="3048120" y="441972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owchart: Connector 40"/>
          <p:cNvSpPr/>
          <p:nvPr/>
        </p:nvSpPr>
        <p:spPr>
          <a:xfrm>
            <a:off x="3733920" y="47242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owchart: Connector 41"/>
          <p:cNvSpPr/>
          <p:nvPr/>
        </p:nvSpPr>
        <p:spPr>
          <a:xfrm>
            <a:off x="4648320" y="4495680"/>
            <a:ext cx="152280" cy="15264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lowchart: Connector 46"/>
          <p:cNvSpPr/>
          <p:nvPr/>
        </p:nvSpPr>
        <p:spPr>
          <a:xfrm>
            <a:off x="5029200" y="3657600"/>
            <a:ext cx="152280" cy="152280"/>
          </a:xfrm>
          <a:prstGeom prst="flowChartConnector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48"/>
          <p:cNvSpPr/>
          <p:nvPr/>
        </p:nvSpPr>
        <p:spPr>
          <a:xfrm>
            <a:off x="2901960" y="2603520"/>
            <a:ext cx="2211480" cy="221292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49"/>
          <p:cNvSpPr/>
          <p:nvPr/>
        </p:nvSpPr>
        <p:spPr>
          <a:xfrm>
            <a:off x="592560" y="6172200"/>
            <a:ext cx="16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Limaç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4678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RAPHING WITH YOUR CALCULATOR!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Content Placeholder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74804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OME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Pages 485 – 486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3,4, 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6 – 8,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Schoolbook"/>
              </a:rPr>
              <a:t>12 - 13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3:24:36Z</dcterms:created>
  <dc:creator>Laura Helbing</dc:creator>
  <dc:description/>
  <dc:language>en-US</dc:language>
  <cp:lastModifiedBy>Laura Helbing</cp:lastModifiedBy>
  <dcterms:modified xsi:type="dcterms:W3CDTF">2011-02-17T14:24:00Z</dcterms:modified>
  <cp:revision>12</cp:revision>
  <dc:subject/>
  <dc:title>Graphing Equations in Polar Coordinates</dc:title>
</cp:coreProperties>
</file>