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C73-E1AD-446E-99B1-4320839C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882-91BB-4E9C-9816-B3EEA1BA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D83-5B91-4493-A4EE-2660F519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236-7057-4E0F-B096-E51E9E8D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F9ED-AAA4-4E0B-81E1-A7309F6A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66A0-FDD2-46F3-A182-2D72411B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E78E-95EF-4A69-8C67-A52B289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C78A-AEBA-453D-948C-65004559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BBA8-C4C4-480A-96E1-08A04D1F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6A4E-3CB6-4CC4-A9AF-68916F21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3AD0-0203-4ED3-B8A7-2E6FA49D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336-2BE1-4B76-98A4-5882B248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698-4B8E-4D94-B88B-7FCF74C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75D5-38AC-49F9-AF9D-6759048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61DC-15EA-4A72-BDC5-6D9046CC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F731-F599-4284-AF66-7230E863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F176-F8BA-4379-9103-BAF747BB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99906-2D74-4E1F-B3B1-5DB5C564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6300C-FA51-4C65-9BF0-8FD7B393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54167-3C59-4E57-B51C-AF1EE04E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F086B-7EFA-4F46-9D2B-CF7F1BFA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E5D2D-93BF-4238-B7B1-3B9C7A15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A5D-DC1D-4CD8-9176-E1B80090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B5382-2635-486D-878A-D6034C19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C4F70-089E-4512-BA6E-359B99B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6DB8A-2299-4750-9DC9-129913DC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7322C-D7A4-4657-B08B-0B1EBED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E9104-53C7-42DB-AE80-78102214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C267E-216A-475F-9053-88EF7282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7259B-5182-4CEA-9E73-10089011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ED95-21FF-4E72-9AE6-94CEC9DE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9DE36-6D55-42A7-A7B3-D8A7250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D73E-1E40-48AF-817D-5E3026BE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EA6-573D-425F-A80E-C7A7A795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C5AB-0ECF-4B1A-936E-956C8E86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871DA-696D-457E-9D89-EF599859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8B80-5C7A-4255-A967-FCABB530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A239-C14E-490A-941C-BAF08881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284C-431B-47F5-8945-D2E961A5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1AD8-EA43-469C-93B5-6ADF370F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7EC2-F55D-462B-81B1-8556C509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EFC1-9F59-4F47-AF7F-8A14F377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A838-A3D1-47EA-98E9-9F1500ED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F1EF1-BDFC-4497-86D5-1854E3A2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4D1-EA91-4EF4-B041-288258FB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F4C65-956D-4711-B829-034B437F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2A233-1F8A-41A8-A38D-D3C6A30B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9482C-4214-4807-961C-9665EC9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23647-4EB8-4CA0-8575-762AB499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18E6C-2802-411C-91F7-7ADA9B91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4B648-77ED-4C6F-9F63-DD8695AF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04140-7A68-490B-8557-DF467011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DF7BD-ED82-4889-96FF-40E0800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0A845-B33E-4BD5-AF1F-0999FB15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21675-70FA-4818-8592-FBD39F10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ACB-1D85-43B9-8D23-DEF273AC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2D5BF-2093-49B9-956D-C8573A31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E6F84-61E1-49F1-B04E-750FB73E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2A44A-F9AC-4F5D-95F4-33589B6E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DCF1D-A137-465C-96CF-B0EE9293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647F0-ED4A-47DE-BCDC-8DA6F068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8B080-6BE8-47B3-921E-EF487C86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86F60-54B3-40FB-8DB6-7ECA74F7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F96B1-6D2B-439B-96C5-DB2E4F0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57688-88E4-4BEF-9549-882C81E3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65C1B-EEF9-46C5-B227-A6F2D703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92E-BE8C-4B52-B226-06183394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A0660-73D1-448F-97C6-5F73EF40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F3861-246F-414F-B791-C0B54083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8285D-CB1F-479F-B6C1-EC8A3B4B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DD72F-56EC-4BFD-98CD-851CC423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2FE80-FA62-4267-91C2-8E789CCC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00735-9493-4167-AA11-406F3B48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BBDCD-50CE-46AF-9A09-2223267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DE361-5C32-4B68-A82A-25FE6D8F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7A982-5EAD-45CD-915E-B55080C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BDAB1-FCE0-466E-8125-8B8C5316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A7E-8131-405D-8D9D-4F65A5A0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076C2-D065-4DFF-B4B6-FE376F8F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AB472-6FF6-49A7-889F-5B5F7243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56425-284A-48E5-92E8-6E948507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A2333-A9FD-47A9-A0B6-BE73D4AC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FF34D-B297-4692-9EEA-3BE23D7E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B5B-1C0B-4670-96E8-09F0CF77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EC92-D46B-465A-9B23-D941E1747F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CFFA-00EF-47A6-B911-B28F44B3D32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A143-118C-4BC2-AEE5-F969E1CC037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4759-BD0E-4477-B8D2-4778E522E6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8E05-63C4-48C5-9DB1-0E108E96A90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47F8-8A6F-455D-9C1B-213734EE8F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007-A09B-4D12-BE4E-970C724DE4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GRAPHING EQUATIONS IN POLAR COORDINA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8.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GRAPH {[R, 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]} R = 2SIN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, 0≤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 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 ≤2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1488960"/>
            <a:ext cx="6095880" cy="536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6400800" y="1676520"/>
          <a:ext cx="2133720" cy="47289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7"/>
          <p:cNvSpPr/>
          <p:nvPr/>
        </p:nvSpPr>
        <p:spPr>
          <a:xfrm>
            <a:off x="7622280" y="205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7620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7543800" y="2438280"/>
                <a:ext cx="68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543800" y="3200400"/>
                <a:ext cx="68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0" name="TextBox 12"/>
          <p:cNvSpPr/>
          <p:nvPr/>
        </p:nvSpPr>
        <p:spPr>
          <a:xfrm>
            <a:off x="7698600" y="3657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4"/>
          <p:cNvSpPr/>
          <p:nvPr/>
        </p:nvSpPr>
        <p:spPr>
          <a:xfrm>
            <a:off x="7700040" y="44197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7467480" y="4800600"/>
                <a:ext cx="100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4" name="TextBox 17"/>
          <p:cNvSpPr/>
          <p:nvPr/>
        </p:nvSpPr>
        <p:spPr>
          <a:xfrm>
            <a:off x="7700040" y="52578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7700040" y="60199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7467480" y="5562720"/>
                <a:ext cx="100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7" name="Flowchart: Connector 20"/>
          <p:cNvSpPr/>
          <p:nvPr/>
        </p:nvSpPr>
        <p:spPr>
          <a:xfrm>
            <a:off x="3429000" y="38862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lowchart: Connector 21"/>
          <p:cNvSpPr/>
          <p:nvPr/>
        </p:nvSpPr>
        <p:spPr>
          <a:xfrm>
            <a:off x="3429000" y="34290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Connector 22"/>
          <p:cNvSpPr/>
          <p:nvPr/>
        </p:nvSpPr>
        <p:spPr>
          <a:xfrm>
            <a:off x="2971800" y="32004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lowchart: Connector 23"/>
          <p:cNvSpPr/>
          <p:nvPr/>
        </p:nvSpPr>
        <p:spPr>
          <a:xfrm>
            <a:off x="2590920" y="34290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lowchart: Connector 24"/>
          <p:cNvSpPr/>
          <p:nvPr/>
        </p:nvSpPr>
        <p:spPr>
          <a:xfrm>
            <a:off x="2971800" y="41148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lowchart: Connector 25"/>
          <p:cNvSpPr/>
          <p:nvPr/>
        </p:nvSpPr>
        <p:spPr>
          <a:xfrm>
            <a:off x="2514600" y="38862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lowchart: Connector 26"/>
          <p:cNvSpPr/>
          <p:nvPr/>
        </p:nvSpPr>
        <p:spPr>
          <a:xfrm>
            <a:off x="2514600" y="43434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lowchart: Connector 27"/>
          <p:cNvSpPr/>
          <p:nvPr/>
        </p:nvSpPr>
        <p:spPr>
          <a:xfrm>
            <a:off x="2590920" y="3276720"/>
            <a:ext cx="990360" cy="914400"/>
          </a:xfrm>
          <a:prstGeom prst="flowChartConnector">
            <a:avLst/>
          </a:prstGeom>
          <a:noFill/>
          <a:ln w="2844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1138E-006 L 0.1 -0.06661 E">
                                      <p:cBhvr>
                                        <p:cTn id="101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5943600" cy="5429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K(T) = 3 + 4 COS T, 0≤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 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 ≤2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400800" y="1676520"/>
          <a:ext cx="2133720" cy="47289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7"/>
          <p:cNvSpPr/>
          <p:nvPr/>
        </p:nvSpPr>
        <p:spPr>
          <a:xfrm>
            <a:off x="7622640" y="2057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6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7620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698600" y="327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7699680" y="4419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7698600" y="4800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7622280" y="525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lowchart: Connector 21"/>
          <p:cNvSpPr/>
          <p:nvPr/>
        </p:nvSpPr>
        <p:spPr>
          <a:xfrm>
            <a:off x="4648320" y="28195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8"/>
          <p:cNvSpPr/>
          <p:nvPr/>
        </p:nvSpPr>
        <p:spPr>
          <a:xfrm>
            <a:off x="7848720" y="2438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9"/>
          <p:cNvSpPr/>
          <p:nvPr/>
        </p:nvSpPr>
        <p:spPr>
          <a:xfrm>
            <a:off x="7623720" y="3657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0"/>
          <p:cNvSpPr/>
          <p:nvPr/>
        </p:nvSpPr>
        <p:spPr>
          <a:xfrm>
            <a:off x="7698600" y="56386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1"/>
          <p:cNvSpPr/>
          <p:nvPr/>
        </p:nvSpPr>
        <p:spPr>
          <a:xfrm>
            <a:off x="7698240" y="6019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6.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lowchart: Connector 32"/>
          <p:cNvSpPr/>
          <p:nvPr/>
        </p:nvSpPr>
        <p:spPr>
          <a:xfrm>
            <a:off x="3733920" y="25146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lowchart: Connector 33"/>
          <p:cNvSpPr/>
          <p:nvPr/>
        </p:nvSpPr>
        <p:spPr>
          <a:xfrm>
            <a:off x="3048120" y="28954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lowchart: Connector 34"/>
          <p:cNvSpPr/>
          <p:nvPr/>
        </p:nvSpPr>
        <p:spPr>
          <a:xfrm>
            <a:off x="2895480" y="3429000"/>
            <a:ext cx="15264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lowchart: Connector 35"/>
          <p:cNvSpPr/>
          <p:nvPr/>
        </p:nvSpPr>
        <p:spPr>
          <a:xfrm>
            <a:off x="3200400" y="37339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owchart: Connector 36"/>
          <p:cNvSpPr/>
          <p:nvPr/>
        </p:nvSpPr>
        <p:spPr>
          <a:xfrm>
            <a:off x="3352680" y="3581280"/>
            <a:ext cx="15264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owchart: Connector 37"/>
          <p:cNvSpPr/>
          <p:nvPr/>
        </p:nvSpPr>
        <p:spPr>
          <a:xfrm>
            <a:off x="3200400" y="35053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38"/>
          <p:cNvSpPr/>
          <p:nvPr/>
        </p:nvSpPr>
        <p:spPr>
          <a:xfrm>
            <a:off x="2895480" y="3809880"/>
            <a:ext cx="15264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Connector 39"/>
          <p:cNvSpPr/>
          <p:nvPr/>
        </p:nvSpPr>
        <p:spPr>
          <a:xfrm>
            <a:off x="3048120" y="44197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owchart: Connector 40"/>
          <p:cNvSpPr/>
          <p:nvPr/>
        </p:nvSpPr>
        <p:spPr>
          <a:xfrm>
            <a:off x="3733920" y="47242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owchart: Connector 41"/>
          <p:cNvSpPr/>
          <p:nvPr/>
        </p:nvSpPr>
        <p:spPr>
          <a:xfrm>
            <a:off x="4648320" y="44956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owchart: Connector 46"/>
          <p:cNvSpPr/>
          <p:nvPr/>
        </p:nvSpPr>
        <p:spPr>
          <a:xfrm>
            <a:off x="5029200" y="36576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48"/>
          <p:cNvSpPr/>
          <p:nvPr/>
        </p:nvSpPr>
        <p:spPr>
          <a:xfrm>
            <a:off x="2901960" y="2603520"/>
            <a:ext cx="2211480" cy="221292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9"/>
          <p:cNvSpPr/>
          <p:nvPr/>
        </p:nvSpPr>
        <p:spPr>
          <a:xfrm>
            <a:off x="592560" y="61722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Limaç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APHING WITH YOUR CALCULATOR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Content Placeholder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74804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Pages 485 – 486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3,4,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6 – 8,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12 - 13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3:24:36Z</dcterms:created>
  <dc:creator>Laura Helbing</dc:creator>
  <dc:description/>
  <dc:language>en-US</dc:language>
  <cp:lastModifiedBy>Laura Helbing</cp:lastModifiedBy>
  <dcterms:modified xsi:type="dcterms:W3CDTF">2011-02-17T14:24:00Z</dcterms:modified>
  <cp:revision>12</cp:revision>
  <dc:subject/>
  <dc:title>Graphing Equations in Polar Coordinates</dc:title>
</cp:coreProperties>
</file>