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1C5-AB5D-413B-A2A0-2707EC6F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1A8-9766-455F-8E2D-561857E3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90C-5D31-413A-A6CA-3DB9374E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7BB1-FC62-49EE-B644-ACC1765F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16D9-39F1-4084-9803-EFFAE4FE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D65B-6ACF-45EF-BF3E-73D39D41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79D4-81CA-4971-90DC-296D75EE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D946-7ADB-46AF-A264-D2C12549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324B-ACF6-49CD-A37C-3B419DA8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A274-9738-4009-98C5-BA7F42B4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1599-8432-42E2-AB61-39188AF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FE8-39E0-4C7E-AEB6-57614180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934A-DDA0-4555-8674-FCB31E3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808F-996F-4FB4-B310-B0E5D92C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0B5E-8D72-469D-B3A5-1CC02F0F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2E03-79F4-4464-BFE3-E7AE0A61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9A7B-0AD2-4C6B-8024-3093415F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007B0-192E-41D6-A1DF-DCE89DC1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F7EEB-6835-4254-9C3B-1CFF9C36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850AAD-8E71-47A0-9A5F-36260FFB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F5CCF-BE71-4C5E-BFFD-DF478EF2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8CAF1-0BA0-47F1-9C90-B13B66C3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97B-2D63-4E34-BCEC-75636390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71625-4B04-4C11-8C48-98BDA8F8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62C31-733A-480A-B8BE-D138B588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2A69E-699C-4A90-B98E-236080F9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80D9C7-F2F9-4A61-BF72-C56BD216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0E78E-933D-46E3-9451-E9999035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6ED7A-A56B-48D3-AC58-3300D6C9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3BFE2-939F-429F-B435-876B618E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41EE-1C06-40A0-A97E-647CB203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D9DC-7492-4E0F-8E87-761F42E1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CEF26-BFD5-4DE2-B564-1AB1415D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F478-031D-4C48-AC35-8B6A4D2B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18D9C-0072-478F-934C-3ED115B5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2EFC-4FBF-4A26-9B86-EBAA6397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DF14-04A2-4092-ADDC-B2A426F2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64BE-50AF-407F-82F9-F9DCD8F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D4D7-3799-431A-A655-972EEA2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AF66-E48F-4679-961E-8F1D536F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9104D-F562-40A7-89A7-7F633D9F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D14AF-B09B-47E4-BBE6-EE9B4D73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DB95C-0935-4874-BC12-AEB0C293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54EFA-9086-4D53-8923-2FF0A29D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62B-250E-45E6-9831-A1896204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73B79D-EF81-497C-BEBA-81429B1B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475288-929B-40FB-B62A-6CF3724F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65D8D3-4644-406C-ACD8-4C82E32C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CE55D-9D03-490D-8FA8-110C02B2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B38F5-FB11-432C-B957-1B2CC500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94FD66-4C4D-448B-9D82-9FE972A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7AB378-45C0-4503-93D1-F2303BE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4550B-89CB-4731-A2E9-0CBAF56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03A47-5CE4-4048-A56A-C50E3D58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8BB2D-32B1-48A9-A8FA-B8B0AB3E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04E5-5B18-47AE-A683-3D6E9E76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45262-BF7C-4BF1-A280-F38A29E6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95AA2-FF72-423B-AF0B-4E3B385D6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F5F9E-A7AA-42B3-B8D3-53DCF769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575F59-B310-46DD-82D3-66B5709F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7F4A7-1EA3-44A2-9D93-1B4F7073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92634D-8C73-4599-A569-74423D14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7E588-0B07-47C2-A047-8D192B29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E55573-5D2E-4A14-AB5C-5F7ABC87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A9B0A-DA33-40E5-8506-839D7381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4CE93-C009-4323-BA78-EE2CBE3B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C19-1C3E-4BDB-BC0C-177DA52A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AAB7CD-85CF-4863-BB05-6847020F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F558B-5F52-47B6-9460-EBE1DF0C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0309F3-3FF0-4870-AAC6-AE015B00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DDA5D-0B4C-4A89-8399-6C7BDB7A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4AD5D-EAF0-405B-818A-0857AF96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5BE12-CB75-4EC8-A60B-BEA167B5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8A8340-2F02-4782-8FD6-92CDA12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25F19-AF03-4407-BE07-D396936F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4BE60-B296-49A7-A60B-5DB21B21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197FD-009D-4D18-99B2-144E96BC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EBD-86B5-4FAB-B18A-16200974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77E39-F310-4F70-B6A8-E62A8859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43128-D975-40FE-9B18-D85BB4A5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FA784-2568-49EF-8BCE-79077867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C7348-E2F1-4384-9F7F-8791238D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5B7B6-57EA-4A20-945C-8149F93D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9D1-60B1-4853-A56D-CBA899C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8630-3E9E-437D-83B8-9A00D1487B3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F15F-A14A-4AF2-80D4-DB0430F953F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0E01-C25A-42CC-AB7C-7B1F7B17B2B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39BE-D6E7-4508-B195-E54C4290BFF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3DC6-C9D4-4E3B-B699-E81BD15B16F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3803-AC7D-4157-849E-DFC6823C142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F9F6-076F-4702-8E8D-881BA8E39E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GRAPHING EQUATIONS IN POLAR COORDINA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8.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GRAPH {[R, 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]} R = 2SIN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, 0≤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 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 ≤2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1488960"/>
            <a:ext cx="6095880" cy="536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6400800" y="1676520"/>
          <a:ext cx="2133720" cy="47289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7"/>
          <p:cNvSpPr/>
          <p:nvPr/>
        </p:nvSpPr>
        <p:spPr>
          <a:xfrm>
            <a:off x="7622280" y="205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7620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7543800" y="2438280"/>
                <a:ext cx="68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543800" y="3200400"/>
                <a:ext cx="68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0" name="TextBox 12"/>
          <p:cNvSpPr/>
          <p:nvPr/>
        </p:nvSpPr>
        <p:spPr>
          <a:xfrm>
            <a:off x="7698600" y="3657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4"/>
          <p:cNvSpPr/>
          <p:nvPr/>
        </p:nvSpPr>
        <p:spPr>
          <a:xfrm>
            <a:off x="7700040" y="44197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7467480" y="4800600"/>
                <a:ext cx="100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4" name="TextBox 17"/>
          <p:cNvSpPr/>
          <p:nvPr/>
        </p:nvSpPr>
        <p:spPr>
          <a:xfrm>
            <a:off x="7700040" y="52578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7700040" y="60199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7467480" y="5562720"/>
                <a:ext cx="100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7" name="Flowchart: Connector 20"/>
          <p:cNvSpPr/>
          <p:nvPr/>
        </p:nvSpPr>
        <p:spPr>
          <a:xfrm>
            <a:off x="3429000" y="38862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lowchart: Connector 21"/>
          <p:cNvSpPr/>
          <p:nvPr/>
        </p:nvSpPr>
        <p:spPr>
          <a:xfrm>
            <a:off x="3429000" y="34290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Connector 22"/>
          <p:cNvSpPr/>
          <p:nvPr/>
        </p:nvSpPr>
        <p:spPr>
          <a:xfrm>
            <a:off x="2971800" y="32004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lowchart: Connector 23"/>
          <p:cNvSpPr/>
          <p:nvPr/>
        </p:nvSpPr>
        <p:spPr>
          <a:xfrm>
            <a:off x="2590920" y="34290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lowchart: Connector 24"/>
          <p:cNvSpPr/>
          <p:nvPr/>
        </p:nvSpPr>
        <p:spPr>
          <a:xfrm>
            <a:off x="2971800" y="41148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lowchart: Connector 25"/>
          <p:cNvSpPr/>
          <p:nvPr/>
        </p:nvSpPr>
        <p:spPr>
          <a:xfrm>
            <a:off x="2514600" y="38862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lowchart: Connector 26"/>
          <p:cNvSpPr/>
          <p:nvPr/>
        </p:nvSpPr>
        <p:spPr>
          <a:xfrm>
            <a:off x="2514600" y="43434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lowchart: Connector 27"/>
          <p:cNvSpPr/>
          <p:nvPr/>
        </p:nvSpPr>
        <p:spPr>
          <a:xfrm>
            <a:off x="2590920" y="3276720"/>
            <a:ext cx="990360" cy="914400"/>
          </a:xfrm>
          <a:prstGeom prst="flowChartConnector">
            <a:avLst/>
          </a:prstGeom>
          <a:noFill/>
          <a:ln w="2844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1138E-006 L 0.1 -0.06661 E">
                                      <p:cBhvr>
                                        <p:cTn id="101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5943600" cy="5429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K(T) = 3 + 4 COS T, 0≤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 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 ≤2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400800" y="1676520"/>
          <a:ext cx="2133720" cy="47289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7"/>
          <p:cNvSpPr/>
          <p:nvPr/>
        </p:nvSpPr>
        <p:spPr>
          <a:xfrm>
            <a:off x="7622640" y="2057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6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7620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698600" y="327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7699680" y="4419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7698600" y="4800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7622280" y="525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lowchart: Connector 21"/>
          <p:cNvSpPr/>
          <p:nvPr/>
        </p:nvSpPr>
        <p:spPr>
          <a:xfrm>
            <a:off x="4648320" y="28195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8"/>
          <p:cNvSpPr/>
          <p:nvPr/>
        </p:nvSpPr>
        <p:spPr>
          <a:xfrm>
            <a:off x="7848720" y="2438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9"/>
          <p:cNvSpPr/>
          <p:nvPr/>
        </p:nvSpPr>
        <p:spPr>
          <a:xfrm>
            <a:off x="7623720" y="3657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0"/>
          <p:cNvSpPr/>
          <p:nvPr/>
        </p:nvSpPr>
        <p:spPr>
          <a:xfrm>
            <a:off x="7698600" y="56386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1"/>
          <p:cNvSpPr/>
          <p:nvPr/>
        </p:nvSpPr>
        <p:spPr>
          <a:xfrm>
            <a:off x="7698240" y="6019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6.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lowchart: Connector 32"/>
          <p:cNvSpPr/>
          <p:nvPr/>
        </p:nvSpPr>
        <p:spPr>
          <a:xfrm>
            <a:off x="3733920" y="25146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lowchart: Connector 33"/>
          <p:cNvSpPr/>
          <p:nvPr/>
        </p:nvSpPr>
        <p:spPr>
          <a:xfrm>
            <a:off x="3048120" y="28954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lowchart: Connector 34"/>
          <p:cNvSpPr/>
          <p:nvPr/>
        </p:nvSpPr>
        <p:spPr>
          <a:xfrm>
            <a:off x="2895480" y="3429000"/>
            <a:ext cx="15264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lowchart: Connector 35"/>
          <p:cNvSpPr/>
          <p:nvPr/>
        </p:nvSpPr>
        <p:spPr>
          <a:xfrm>
            <a:off x="3200400" y="37339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owchart: Connector 36"/>
          <p:cNvSpPr/>
          <p:nvPr/>
        </p:nvSpPr>
        <p:spPr>
          <a:xfrm>
            <a:off x="3352680" y="3581280"/>
            <a:ext cx="15264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owchart: Connector 37"/>
          <p:cNvSpPr/>
          <p:nvPr/>
        </p:nvSpPr>
        <p:spPr>
          <a:xfrm>
            <a:off x="3200400" y="35053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38"/>
          <p:cNvSpPr/>
          <p:nvPr/>
        </p:nvSpPr>
        <p:spPr>
          <a:xfrm>
            <a:off x="2895480" y="3809880"/>
            <a:ext cx="15264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Connector 39"/>
          <p:cNvSpPr/>
          <p:nvPr/>
        </p:nvSpPr>
        <p:spPr>
          <a:xfrm>
            <a:off x="3048120" y="44197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owchart: Connector 40"/>
          <p:cNvSpPr/>
          <p:nvPr/>
        </p:nvSpPr>
        <p:spPr>
          <a:xfrm>
            <a:off x="3733920" y="47242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owchart: Connector 41"/>
          <p:cNvSpPr/>
          <p:nvPr/>
        </p:nvSpPr>
        <p:spPr>
          <a:xfrm>
            <a:off x="4648320" y="44956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owchart: Connector 46"/>
          <p:cNvSpPr/>
          <p:nvPr/>
        </p:nvSpPr>
        <p:spPr>
          <a:xfrm>
            <a:off x="5029200" y="36576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48"/>
          <p:cNvSpPr/>
          <p:nvPr/>
        </p:nvSpPr>
        <p:spPr>
          <a:xfrm>
            <a:off x="2901960" y="2603520"/>
            <a:ext cx="2211480" cy="221292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9"/>
          <p:cNvSpPr/>
          <p:nvPr/>
        </p:nvSpPr>
        <p:spPr>
          <a:xfrm>
            <a:off x="592560" y="61722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Limaç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APHING WITH YOUR CALCULATOR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Content Placeholder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74804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Pages 485 – 486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3,4,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6 – 8,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12 - 13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3:24:36Z</dcterms:created>
  <dc:creator>Laura Helbing</dc:creator>
  <dc:description/>
  <dc:language>en-US</dc:language>
  <cp:lastModifiedBy>Laura Helbing</cp:lastModifiedBy>
  <dcterms:modified xsi:type="dcterms:W3CDTF">2011-02-17T14:24:00Z</dcterms:modified>
  <cp:revision>12</cp:revision>
  <dc:subject/>
  <dc:title>Graphing Equations in Polar Coordinates</dc:title>
</cp:coreProperties>
</file>