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E66-6999-4DEF-AACF-73E08CD4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509-2613-4018-9661-17A38B08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161-6628-4192-816B-F1607CE1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1FD-9A23-4BC2-82CF-69C90AE0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CE98-7AF9-4FBA-9877-F9E73294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CB70-4CEA-4D6C-91F2-9569C969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A3B1-32EB-426C-A928-1F0A9CFB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FD6F-03BA-47C7-AA25-E0A55BA8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52AF-1C62-4EBA-B1E8-018FCEFD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1B72-609D-468D-9A75-3274BB29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8958-2A32-43D0-B33A-DD83D8C5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842-429F-46AA-8DB1-82474010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ABED-0778-43C6-9508-C1E68A49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D2E2-36EE-4973-94B0-5BCB4BFE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FAAA-B544-4EC8-B0FB-B0C8CF72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9BAB-E51B-4DEB-A6E2-41D933FE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52D7-4ED5-41D0-A5F4-5FEDBF98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C06D5-40D6-46CC-A50B-C372A773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F8F34-3AC2-4A58-B14B-C98FAEDA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CA359-2D1C-482C-B4F1-54CAA3BE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582A8-4527-440A-B3D4-4288413B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0D1FE-439D-48AC-A8C9-860E5A3B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B2B-EDD4-4AA7-A2A1-BF31F346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3E94D-FFA1-4260-AFD0-ED5B1F02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D7362-A7CE-4910-B445-A91517DD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EB048-37DF-434E-8CA1-EF73478E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B87E0-316F-4D57-90D5-7A436593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4D417-D29F-4559-8D50-662954F8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23903-A01F-4E18-B8BE-DB2B3F2C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2BC5E-DB44-4385-AF39-06C19719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84A3-F6E1-4BC7-8016-2ED459CC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7AEB8-2020-4CEA-BAC2-93B8D157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6832A-07C4-4DC8-BE52-44F8466C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BCC-DA91-4E33-879F-B1E34882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B5C8-96DE-4A7F-BF21-7CEEE3F1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6664-5B5C-4A50-ACB7-ABC00D34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D8D1-FAED-466B-9745-EC97C678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80916-72DB-4707-8E83-37664CE1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B35BD-CBD7-4E37-8466-BD3EC24A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CAD91-E91E-4596-B63C-9F9F6464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02F80-3293-4583-AB74-37F1D257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5804B-A9FD-4EAD-8C3D-7E82A696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A30E1-92D5-48ED-9F6E-19C935E2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43F92-C2F2-499A-BA61-5AC47B11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216-C48F-4877-85F5-237BFB33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0A4E9-FB75-4EBA-9FA3-6100252F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9EBC3-8FD7-47C3-9A5D-FE344427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6F1DB-84E5-4430-AA9A-70B0DE95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B399C-838D-44A0-B435-C6A1BB9D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4FA7F-EBF6-4346-99BB-2C9E33D9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853D8-CAD3-41E6-B6ED-52DBB5F3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C3D2D-0874-42C0-B5BE-1852B250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DE4A3F-D321-42A0-8873-127CF356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D3328-2047-407A-A95F-61D8BD8B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F6E5F-A18E-4E09-9103-D55704C5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CFE-7D91-4860-B1ED-90670AF5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65F6AA-0F6C-4122-9A19-1183C209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002BE-682F-491D-9357-B306B3DE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74BC4-4249-43AC-A521-802B9E7F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D3279-07E4-413C-BBE7-B07D1D15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E8928-4047-4F73-9782-53D453C5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C5D850-E4A0-4CE6-961B-0105F50D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317DA-5EFA-4309-B2F9-637CD0B4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78043-8418-44CA-B5EB-9D1AFF4D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AA4F9-8DCA-4B30-A126-89A724E6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0A8CC-1427-45A7-A5C5-1FC5175E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476-A79E-4344-8BB6-F85F098D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604E2-40A3-4A95-89C6-BCEB6FA9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FF523-7A1C-4221-839E-C67B944C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6EC8F-3AA1-433A-BD01-AD9D1FF2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ED862-D8B2-456A-9855-18642A3B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73EAE-54F1-46EA-A510-CB8510B0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0B89DE-DD18-4A93-B01F-2B658825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B804A-54AC-4528-9CF3-F2129B09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7BABA-BCFA-44BD-ABB2-90E7C201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C968E-4D66-420B-9311-CE80C5E5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A7B93-E902-44EB-BF7C-FB08C02D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F707-2BA4-4771-BB6C-1C90527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8AEBFE-B3F1-4A68-9746-B3200CF6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52B27-4547-4FBC-ADE0-E2306314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2A3BF-6EEA-427E-A796-BB14A2A1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7EA5CA-6147-4980-88BD-D52F5CCD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C5B35-BC27-4B48-BA06-9C4482C5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DBE-65C9-4FCB-B033-EB608EDA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C49C-121A-47B4-A998-765D757682E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C1C5-39A5-4BCF-A4E6-D4E9FAE9239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FEF8-7FAF-4069-B942-3D680CC3CCC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A15C-F3CC-4459-BDD4-500894FB217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67D5-B217-4354-9779-74238D0AE69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484B-38B1-4919-82DC-C69BF09C2DD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79F3-1B9B-43D9-A89E-B3C3713657A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GRAPHING EQUATIONS IN POLAR COORDINA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sson 8.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GRAPH {[R, 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]} R = 2SIN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, 0≤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 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 ≤2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Π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1488960"/>
            <a:ext cx="6095880" cy="536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6400800" y="1676520"/>
          <a:ext cx="2133720" cy="472896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7"/>
          <p:cNvSpPr/>
          <p:nvPr/>
        </p:nvSpPr>
        <p:spPr>
          <a:xfrm>
            <a:off x="7622280" y="2057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8"/>
          <p:cNvSpPr/>
          <p:nvPr/>
        </p:nvSpPr>
        <p:spPr>
          <a:xfrm>
            <a:off x="7620120" y="28195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7543800" y="2438280"/>
                <a:ext cx="684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7543800" y="3200400"/>
                <a:ext cx="684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0" name="TextBox 12"/>
          <p:cNvSpPr/>
          <p:nvPr/>
        </p:nvSpPr>
        <p:spPr>
          <a:xfrm>
            <a:off x="7698600" y="3657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769860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4"/>
          <p:cNvSpPr/>
          <p:nvPr/>
        </p:nvSpPr>
        <p:spPr>
          <a:xfrm>
            <a:off x="7700040" y="44197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7467480" y="4800600"/>
                <a:ext cx="100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4" name="TextBox 17"/>
          <p:cNvSpPr/>
          <p:nvPr/>
        </p:nvSpPr>
        <p:spPr>
          <a:xfrm>
            <a:off x="7700040" y="52578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8"/>
          <p:cNvSpPr/>
          <p:nvPr/>
        </p:nvSpPr>
        <p:spPr>
          <a:xfrm>
            <a:off x="7700040" y="60199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7467480" y="5562720"/>
                <a:ext cx="100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7" name="Flowchart: Connector 20"/>
          <p:cNvSpPr/>
          <p:nvPr/>
        </p:nvSpPr>
        <p:spPr>
          <a:xfrm>
            <a:off x="3429000" y="38862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lowchart: Connector 21"/>
          <p:cNvSpPr/>
          <p:nvPr/>
        </p:nvSpPr>
        <p:spPr>
          <a:xfrm>
            <a:off x="3429000" y="34290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lowchart: Connector 22"/>
          <p:cNvSpPr/>
          <p:nvPr/>
        </p:nvSpPr>
        <p:spPr>
          <a:xfrm>
            <a:off x="2971800" y="32004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lowchart: Connector 23"/>
          <p:cNvSpPr/>
          <p:nvPr/>
        </p:nvSpPr>
        <p:spPr>
          <a:xfrm>
            <a:off x="2590920" y="34290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lowchart: Connector 24"/>
          <p:cNvSpPr/>
          <p:nvPr/>
        </p:nvSpPr>
        <p:spPr>
          <a:xfrm>
            <a:off x="2971800" y="41148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lowchart: Connector 25"/>
          <p:cNvSpPr/>
          <p:nvPr/>
        </p:nvSpPr>
        <p:spPr>
          <a:xfrm>
            <a:off x="2514600" y="38862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lowchart: Connector 26"/>
          <p:cNvSpPr/>
          <p:nvPr/>
        </p:nvSpPr>
        <p:spPr>
          <a:xfrm>
            <a:off x="2514600" y="43434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lowchart: Connector 27"/>
          <p:cNvSpPr/>
          <p:nvPr/>
        </p:nvSpPr>
        <p:spPr>
          <a:xfrm>
            <a:off x="2590920" y="3276720"/>
            <a:ext cx="990360" cy="914400"/>
          </a:xfrm>
          <a:prstGeom prst="flowChartConnector">
            <a:avLst/>
          </a:prstGeom>
          <a:noFill/>
          <a:ln w="2844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1138E-006 L 0.1 -0.06661 E">
                                      <p:cBhvr>
                                        <p:cTn id="101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5943600" cy="5429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K(T) = 3 + 4 COS T, 0≤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 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 ≤2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Π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400800" y="1676520"/>
          <a:ext cx="2133720" cy="472896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78" name="TextBox 7"/>
          <p:cNvSpPr/>
          <p:nvPr/>
        </p:nvSpPr>
        <p:spPr>
          <a:xfrm>
            <a:off x="7622640" y="2057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6.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"/>
          <p:cNvSpPr/>
          <p:nvPr/>
        </p:nvSpPr>
        <p:spPr>
          <a:xfrm>
            <a:off x="7620120" y="28195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698600" y="3276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769860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7699680" y="4419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7"/>
          <p:cNvSpPr/>
          <p:nvPr/>
        </p:nvSpPr>
        <p:spPr>
          <a:xfrm>
            <a:off x="7698600" y="4800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8"/>
          <p:cNvSpPr/>
          <p:nvPr/>
        </p:nvSpPr>
        <p:spPr>
          <a:xfrm>
            <a:off x="7622280" y="525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lowchart: Connector 21"/>
          <p:cNvSpPr/>
          <p:nvPr/>
        </p:nvSpPr>
        <p:spPr>
          <a:xfrm>
            <a:off x="4648320" y="28195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8"/>
          <p:cNvSpPr/>
          <p:nvPr/>
        </p:nvSpPr>
        <p:spPr>
          <a:xfrm>
            <a:off x="7848720" y="24382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9"/>
          <p:cNvSpPr/>
          <p:nvPr/>
        </p:nvSpPr>
        <p:spPr>
          <a:xfrm>
            <a:off x="7623720" y="3657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0"/>
          <p:cNvSpPr/>
          <p:nvPr/>
        </p:nvSpPr>
        <p:spPr>
          <a:xfrm>
            <a:off x="7698600" y="56386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1"/>
          <p:cNvSpPr/>
          <p:nvPr/>
        </p:nvSpPr>
        <p:spPr>
          <a:xfrm>
            <a:off x="7698240" y="6019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6.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lowchart: Connector 32"/>
          <p:cNvSpPr/>
          <p:nvPr/>
        </p:nvSpPr>
        <p:spPr>
          <a:xfrm>
            <a:off x="3733920" y="25146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lowchart: Connector 33"/>
          <p:cNvSpPr/>
          <p:nvPr/>
        </p:nvSpPr>
        <p:spPr>
          <a:xfrm>
            <a:off x="3048120" y="2895480"/>
            <a:ext cx="15228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lowchart: Connector 34"/>
          <p:cNvSpPr/>
          <p:nvPr/>
        </p:nvSpPr>
        <p:spPr>
          <a:xfrm>
            <a:off x="2895480" y="3429000"/>
            <a:ext cx="15264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lowchart: Connector 35"/>
          <p:cNvSpPr/>
          <p:nvPr/>
        </p:nvSpPr>
        <p:spPr>
          <a:xfrm>
            <a:off x="3200400" y="37339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lowchart: Connector 36"/>
          <p:cNvSpPr/>
          <p:nvPr/>
        </p:nvSpPr>
        <p:spPr>
          <a:xfrm>
            <a:off x="3352680" y="3581280"/>
            <a:ext cx="15264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lowchart: Connector 37"/>
          <p:cNvSpPr/>
          <p:nvPr/>
        </p:nvSpPr>
        <p:spPr>
          <a:xfrm>
            <a:off x="3200400" y="35053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38"/>
          <p:cNvSpPr/>
          <p:nvPr/>
        </p:nvSpPr>
        <p:spPr>
          <a:xfrm>
            <a:off x="2895480" y="3809880"/>
            <a:ext cx="15264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lowchart: Connector 39"/>
          <p:cNvSpPr/>
          <p:nvPr/>
        </p:nvSpPr>
        <p:spPr>
          <a:xfrm>
            <a:off x="3048120" y="44197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lowchart: Connector 40"/>
          <p:cNvSpPr/>
          <p:nvPr/>
        </p:nvSpPr>
        <p:spPr>
          <a:xfrm>
            <a:off x="3733920" y="4724280"/>
            <a:ext cx="15228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lowchart: Connector 41"/>
          <p:cNvSpPr/>
          <p:nvPr/>
        </p:nvSpPr>
        <p:spPr>
          <a:xfrm>
            <a:off x="4648320" y="4495680"/>
            <a:ext cx="15228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lowchart: Connector 46"/>
          <p:cNvSpPr/>
          <p:nvPr/>
        </p:nvSpPr>
        <p:spPr>
          <a:xfrm>
            <a:off x="5029200" y="36576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48"/>
          <p:cNvSpPr/>
          <p:nvPr/>
        </p:nvSpPr>
        <p:spPr>
          <a:xfrm>
            <a:off x="2901960" y="2603520"/>
            <a:ext cx="2211480" cy="221292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49"/>
          <p:cNvSpPr/>
          <p:nvPr/>
        </p:nvSpPr>
        <p:spPr>
          <a:xfrm>
            <a:off x="592560" y="617220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Limaç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RAPHING WITH YOUR CALCULATOR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Content Placeholder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74804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Pages 485 – 486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3,4,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6 – 8,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12 - 13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3:24:36Z</dcterms:created>
  <dc:creator>Laura Helbing</dc:creator>
  <dc:description/>
  <dc:language>en-US</dc:language>
  <cp:lastModifiedBy>Laura Helbing</cp:lastModifiedBy>
  <dcterms:modified xsi:type="dcterms:W3CDTF">2011-02-17T14:24:00Z</dcterms:modified>
  <cp:revision>12</cp:revision>
  <dc:subject/>
  <dc:title>Graphing Equations in Polar Coordinates</dc:title>
</cp:coreProperties>
</file>