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C391-343E-4B92-878E-E2D3BD4E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229-4212-4A0F-8356-B50980D0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EFE-1AAD-40BD-A2C2-97AFA774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CB5-FF80-479E-B249-120DF57D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C1B6-C52D-45D7-9C4C-A25B4BB8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8D38-5FE5-42C4-AFF5-1286ABC5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0D8-F786-4B07-8383-424E9AF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7B0D-8AF6-43B4-A1E9-14ADE1F5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ED3F-D08B-4ED9-B4AB-E612CA92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74FB-174D-4E35-ADFC-42141CB4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10A-0F8C-48CC-86B2-C2AD8D1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9F4-E788-42FA-AF87-CA1B87D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DCD-2616-4417-9AB3-8A8D79A3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D854-7935-4CF3-A93D-E5C62AE5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9FEC-DA4C-4BBA-BD6F-4EE5B814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474-CE3A-4EC5-8CC3-AF12E65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CDCA-BB5F-4C49-B2E9-06120EDC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6780C-E787-4869-87D4-CCB437BB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2819-8752-4CCA-94F0-FF815AF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7A1F5-E71E-430B-9731-F891D672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FE2AA-325C-448E-B116-2716EA26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DE685-EC31-44EE-83A7-36E8F5AE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B0F-6730-4D7A-B50F-EC480DE7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0803A-72E1-469D-BFF1-1D38B385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4BD80E-8A66-4A45-9C03-70068A2F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D1905-D08E-47D7-9C58-8BCD1827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D00D7-8E2C-4526-92F3-37026EC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45897A-265C-48D2-8ABC-1C06CD0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1C16F-891A-4A50-A9CC-66B85A69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B744B-85AA-454A-AC2E-D5E05D49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258D9-1417-43DF-9853-FA715FD0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0DE2FC-B664-4A65-96B4-0AE5CB9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333DD-E307-4C66-97D0-D09531A4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296-52E8-485A-B6D5-001EAA6F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CA411B-80A0-43BE-B737-29ECC30B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0B470-5AE8-4B43-AA72-D0A3C5EC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A53EC-D720-46B8-AA43-C619863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AF8E0-4B63-4DC2-B9ED-0A3FB765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6ADE91-822B-4D57-AC58-2CA3B5B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A885D-2A25-4AF6-9AF9-CA1D398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FAB3DB-7517-490A-B9D1-796FCE30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3D783-16AC-4B67-BC38-3D2ACCC4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0DE06-9285-49DF-83C4-F7D12A79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44566-EC5B-42C3-A474-2D9D479C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F8B-FE79-45CE-9D8F-88779FE2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C7D91-B20C-4194-AC3C-AF0ACE28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42B82B-C136-4F33-89C4-BAF5FFC1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51A7C8-4804-4F17-A94C-4AC5C615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214BB-EDFF-4E07-97E4-432C6049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C4877-C7A3-45A9-B63C-F5595C37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6704A-C1E1-4596-9915-BABB17E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EE4EF-A3EF-45BD-A6E5-0BB3C9AC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5E83D-C4BA-473D-B611-3A63177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4C94A-B76F-47E5-A9B9-2466FC93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504EC-1CCA-48BB-9D37-44B44D02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0294-4F3D-4CE6-92E4-B7AAE67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D66B0-9002-4E37-9F6B-6B104917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5F8FD-72FB-4F98-8A46-5A64AC5D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55055-88B7-476B-88CB-5BA58E9E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2BC2-17A1-4240-9CB9-78C6D6C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B5C06-DFB0-40BA-8C5D-7424706A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74CC8-7D5B-4103-8272-374A352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55849-51A2-4315-BB6F-7F0CE7FC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3500B-048F-4E5D-9B9B-69E6A58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F796C-9924-49B1-A890-EDAEEA09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67FB-92D0-429D-B196-545C9A12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C23-7D2F-4247-AA94-F261C38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CECC-0D8A-482E-8F82-DF56DAB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7E548-821F-4192-A128-F510A27B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BB78B-E11D-4981-B9D1-856DC1C2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940E5-32E9-401B-BA00-73F79A39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27973-411B-4532-A88A-CF48528D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931F5-CB3B-4605-A9EE-83A72978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E08C1-DF96-494E-9728-C68AB718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A807A-8E30-4559-B0AF-D668F23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C27F6-CB3F-4D84-A946-4DE3DCB2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8FA08B-34F4-429C-A996-A6A29107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8CA-6D71-4808-9362-705E2E51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4399C-842F-4F35-9BE8-75EFE4F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34BD8-662C-4EE3-826F-CC4D2FCD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FE23CD-E81D-4D93-B403-95D0CF89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F3EF1-3993-4D3F-B0E2-B6F3BCF6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C6B181-9322-43EF-9527-E6B72A96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3066-375B-498E-94F4-3FDB87AD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3DEFA-5889-43BA-967C-3E2FB5FA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8D93-A64F-4740-81B4-017B136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7DA5D-91F3-4918-A2B8-7BE12976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58B11-7609-4E5B-B207-7450E2D8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BD9-2056-4ACF-9D9A-A6FBE3F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AB299-1C91-451A-82AF-A3EC4257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5DE7-DFD1-4622-9085-72734CCA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0C40-8E9A-4690-83C7-84D75633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B7D33-20D2-43A3-A5E9-C1EBE848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0E7C2-D1BD-49F7-A43B-4846C540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411D6-3977-4145-A9E7-4B89809B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7FDBB-8FE7-476F-B14E-0E8FE866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642-F577-4688-B11D-E6A1145FF0C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8E1-D23E-4CF0-AAC8-2AAE98DD69A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208F-5D57-49C8-8BCF-3663F0B07CF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EC00-DA9E-44A6-B585-6CEF50DD07F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953D-BD8B-4549-BD2F-D09ED408ED4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275B-1187-46B4-8AFC-2261A82CE3D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2AC8-B261-482A-B499-6D930544977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869-3C70-44F6-BDBF-8D8DF0C6FBD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ACTORS OF INTEGERS AND POLYNOMIA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ction 4.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me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Pages 226 – 227 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Tw Cen MT"/>
              </a:rPr>
              <a:t>1 – 10, 13, 14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4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3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3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+ 9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8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– 15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5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+ 2x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14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effici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Coeffic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ading Ter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gree of th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(x) is a factor of n(x) iff there exists a polynomial q(x) such that n(x) = q(x) * d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gers and polynomials have many of the same r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example, if I add two integers, I must get an integer.  ( 3 + - 5 = -2) 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is applies to polynomials as we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et of both integers and polynomials is said to be “closed” under addition, subtraction, multipli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or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28240" y="1600200"/>
            <a:ext cx="8537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tive Property of Integer/Polynomial  Divisibilit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is a factor of 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6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a factor of 1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n Integer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 is a factor of b, a is a factor of c then a is a factor of b + 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ctor of a Polynomial Su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(x) is a factor of b(x), a(x) is a factor of c(x), then a(x) is a factor of (b + c)(x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1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all integers x and y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Is -3 a factor of 54y – 12x + 13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s 6xy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 multiple of x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-629280" y="3276720"/>
            <a:ext cx="99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No, because I cannot take out -3 from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551520" y="5029200"/>
            <a:ext cx="74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!  Because I can factor xy(6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2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a, b, c, and d are in the set of integers, then      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b + c)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d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is also an integ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122400" y="2514600"/>
            <a:ext cx="875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Yes, closed under add, sub, and mul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3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s the converse of the factor of an Integer Sum Theorem true?  That is, is it true that for all integers a,b, and c, if a is a factor of b + c, then a is a factor of b and a factor of c?  If true,  prove the statement.  If false, provide a counterexamp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= 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+ c = 15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 = 8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ut 3 is not a factor of 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 = 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 is not a factor of 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4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 a (x) = x + 7 b(x) = 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x – 56 an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(x) = 9x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63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a(x) is a factor of b(x) and c(x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w b(x) + c(x) can be expressed as a(x) * some polynomi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heorem is illustrated by parts a and b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93280" y="32004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b(x) = a(x) * (x –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014440" y="320040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c(x) = a(x) * 9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2940480" y="419112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10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62x - 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-39600" y="48006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2(5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 + 31x – 2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4834440" y="480060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(5x + 4) a(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203400" y="5791320"/>
            <a:ext cx="85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w Cen MT"/>
              </a:rPr>
              <a:t>Factor of a Polynomial Sum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0:52:33Z</dcterms:created>
  <dc:creator>teacher</dc:creator>
  <dc:description/>
  <dc:language>en-US</dc:language>
  <cp:lastModifiedBy>Laura Helbing</cp:lastModifiedBy>
  <dcterms:modified xsi:type="dcterms:W3CDTF">2012-11-08T17:34:21Z</dcterms:modified>
  <cp:revision>4</cp:revision>
  <dc:subject/>
  <dc:title>Factors of Integers and Polynomials</dc:title>
</cp:coreProperties>
</file>