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BA7-B9C8-4279-9369-804A1E69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AFC-7573-4C2A-81D6-C9A58DDA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710-2823-497C-AD3C-F2E72F99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B07-68FA-44B0-922F-645B5F51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7AEB-F287-4568-8746-1D0EAD8D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4E5B-BEF9-47E0-AE23-1D621BEF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7816-601D-4D3F-811E-A52933E9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7C20-94FD-4892-9DE6-D5EB4087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8B3D-9519-4463-82D7-2F783A9E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1FE2-8C46-4889-9307-621349C3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3201-1B31-4B19-BA3E-A48AA9D5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3B1-8F8C-4195-9E78-5F69C457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E301-96A5-4653-8B68-9815B187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2538-0ED1-45CA-B741-3A255F44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3E5F-5588-4F63-BFB5-63763A8D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7851-6FF7-4689-A270-705855A7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2C5B-2FD5-45FC-8DE4-DC8EB9DE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CCADA-8ACE-43BF-96A7-697D1D81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A1923-650F-4EFF-884C-92D78E5E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238AE-B1D2-4A42-A4EE-EDBF6B81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2E922-46C4-4AA6-A725-5A2F7C27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5B3B5-7DC9-40EC-AB12-FC8A5223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66FF-B939-4ED5-958D-CD7C5FB4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A4BB4-AC72-4EA3-A2B3-3D54EEB6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EFC7F-D731-45B4-A61B-0D479816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CCAD6-4D3E-4BDD-BC6B-E146E10E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049E3-7D56-48C6-BCB3-2CC1E3F3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20AEE-5DAE-4F17-A3ED-35771956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1A9B7-1B48-4BA8-BF1E-E0D91E18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3388A-DEAA-4340-9081-0297B405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3C4D0C-FB53-40B1-A4B1-9B0E8D71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896AE-B78B-4B0B-8B7C-4D769E3D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83796C-7EE2-450A-944D-CBCA776E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277-A376-4B6C-BE3B-DEBB94D6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D8DBC-911B-4CF0-B31F-8919FBF5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6BE80-DEC3-4B0E-9AE9-81DE7D4C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AA2E0-E04F-428A-AE36-A6D5701F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BB64F5-1A5C-492C-BD6D-78695394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3B425C-E499-45D2-B5B1-02788CB6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804971-881D-4943-89B7-AF7A254E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E9AB43-16EF-41EE-9C4B-66888F69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19D978-59DB-4CCD-BFB8-3100A4F1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772557-5473-4541-917B-0E38F8C7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B18F3B-83F6-4835-9DA6-6A10932E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F2C-278E-4240-86FE-9A40A49F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2F284-F447-4F99-BCE7-34F7CDF1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F8400-6330-4616-9236-FE3ACC14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B9988-356A-4106-B2D4-225D16F6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7DFF3-94AA-47A3-AD11-6076EF77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0F9C41-8312-4A04-ACE3-2A4D69B6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993BE-A729-40E4-9B50-8E64ADDA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7B65E-49F7-4B90-9003-D39931D5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3105D-2D0B-4051-BCFA-310868E5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ED7766-5A13-466A-8730-659A3FF6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A1AAA-288C-4894-9DA3-7F5B389F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469-FF62-416D-9061-F83E97F1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F4252F-9623-4C2B-96C9-98BA308C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C25F3-6D28-4698-99F7-CFE56FA3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A0DC5-BF07-432D-80A4-899B62CC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14820-5674-48F3-B31A-E14056C1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7EEF1-F5FF-458F-AD4C-E6AEA184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596EA-B180-436F-B7E9-9AF531BB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C5D46-3339-4807-A7AF-87C301D7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21190-A0C0-4675-82C8-E5269C7A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1704A-A9B3-41A3-AE04-1C937630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F1089-C0B8-4D0B-B04B-0031EE11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7C4-E612-4038-8661-2F150F9C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8DF3E-9670-4795-B1F7-616F37B8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9AF48-2722-421B-ABC5-96CA4C58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D3060-723F-49C9-9956-FDAA36D1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402CC5-E3D4-4B7A-9970-C066C9A9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FFDD70-3ACC-4883-855B-DD28F244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69EB7B-6D7A-4EF3-9DC2-F8E1716A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59B5DF-7014-4433-AC9A-69BC1224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A443FC-A08E-4A8C-9CA8-0C251175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8121DE-7AC6-4B3E-A497-61199ECE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0C9F41-B6D5-4ED3-B042-79FD831C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D90-ECE4-46AA-9A5C-69271844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F454AF-9F40-4BA4-B595-CBB09E05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9071AD-D88A-4455-A8A6-D1508AE3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F425F2-9021-43B8-BD92-F4B5700F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FB3B3B-BFEB-461B-B698-05B7502C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D62617-F483-4668-8F0B-DD0B8033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BD953-E2A9-45B0-977C-2E2363A0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8E595-7FAF-4B14-A780-1AC98C75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4BABF-5A22-4D4A-954D-9D1CD8E6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2E87F-6796-478B-9F87-E10FD73B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F4CC9-F677-4825-A8A2-70FA20F0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9D5-C0E5-4921-A0D9-9B9F3B5D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97BA6-3B0B-4F49-9121-9417B36A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44B04-CA04-4807-AF12-05C0E9B5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5F7B8-F5E0-498A-8B4B-72D7A715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18DF4-3186-4042-8B45-8A9D7BC8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67244-C8FE-4459-99E9-024D7260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6319B-3EFC-4530-9560-910EE4A0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7DB1F-1EFA-4161-88D0-C96E17DA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0028-D95D-4E74-AB74-11A7663419E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3F78-ACFF-40D3-9042-19B8ABC944C3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E796-DEEE-4432-B286-39297B72D268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2FD2-0A79-4F83-A53B-5E786E80758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F2A2-770A-4ED8-92DF-DE9B67272D8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2E85-6678-4EF5-9145-EC5EC07F3DD6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F13F-50A4-4722-B2F7-72601DF3FEC4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A055-F9DE-4159-84CC-0ECEC32B96E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ACTORS OF INTEGERS AND POLYNOMIAL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tion 4.1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w Cen MT"/>
              </a:rPr>
              <a:t>Pages 226 – 227 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Tw Cen MT"/>
              </a:rPr>
              <a:t>1 – 10, 13, 14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5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4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+ 3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3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+ 9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8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– 15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5 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+ 2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14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lynom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effici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ading Coeffici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ading Ter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gree of the polynom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(x) is a factor of n(x) iff there exists a polynomial q(x) such that n(x) = q(x) * d(x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gers and polynomials have many of the same ru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 example, if I add two integers, I must get an integer.  ( 3 + - 5 = -2) 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is applies to polynomials as we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set of both integers and polynomials is said to be “closed” under addition, subtraction, multiplic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ore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28240" y="1600200"/>
            <a:ext cx="8537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nsitive Property of Integer/Polynomial  Divisibilit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is a factor of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 is a factor of 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n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is a factor of 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 is a factor of 6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6 is a factor of 1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 is a factor of 1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actor of an Integer Su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a is a factor of b, a is a factor of c then a is a factor of b + 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actor of a Polynomial Su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a(x) is a factor of b(x), a(x) is a factor of c(x), then a(x) is a factor of (b + c)(x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 all integers x and y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. Is -3 a factor of 54y – 12x + 13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. Is 6xy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 multiple of x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-629280" y="3276720"/>
            <a:ext cx="99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No, because I cannot take out -3 from 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551520" y="5029200"/>
            <a:ext cx="74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Yes!  Because I can factor xy(6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2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a, b, c, and d are in the set of integers, then      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b + c)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– 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 is also an integ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122400" y="2514600"/>
            <a:ext cx="87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Yes, closed under add, sub, and mul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3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s the converse of the factor of an Integer Sum Theorem true?  That is, is it true that for all integers a,b, and c, if a is a factor of b + c, then a is a factor of b and a factor of c?  If true,  prove the statement.  If false, provide a counterexamp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= 3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 + c = 1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 = 8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ut 3 is not a factor of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 = 7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 is not a factor of 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4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t a (x) = x + 7 b(x) = x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– x – 56 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(x) = 9x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63x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how a(x) is a factor of b(x) and c(x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how b(x) + c(x) can be expressed as a(x) * some polynom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theorem is illustrated by parts a and b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93280" y="3200400"/>
            <a:ext cx="43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b(x) = a(x) * (x – 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5014440" y="3200400"/>
            <a:ext cx="33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c(x) = a(x) * 9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2940480" y="4191120"/>
            <a:ext cx="33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10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w Cen MT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 + 62x - 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-39600" y="4800600"/>
            <a:ext cx="37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2(5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w Cen MT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 + 31x – 2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4834440" y="480060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(5x + 4) a(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203400" y="5791320"/>
            <a:ext cx="85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Factor of a Polynomial Sum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0:52:33Z</dcterms:created>
  <dc:creator>teacher</dc:creator>
  <dc:description/>
  <dc:language>en-US</dc:language>
  <cp:lastModifiedBy>Laura Helbing</cp:lastModifiedBy>
  <dcterms:modified xsi:type="dcterms:W3CDTF">2012-11-08T17:34:21Z</dcterms:modified>
  <cp:revision>4</cp:revision>
  <dc:subject/>
  <dc:title>Factors of Integers and Polynomials</dc:title>
</cp:coreProperties>
</file>