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524A-0EC0-414D-8DC6-EBBDFC52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14B-80B4-43D2-A181-E0784F28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01C-46C2-4CB5-9CA5-69C1DAA97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760-7F0C-4978-BD2B-9EE01214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4A08-D21A-4F17-BB15-983D2585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385D-85A7-4915-A1C0-03343529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862C-FA5D-46A4-A3B6-AA4917A1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1CC2-0162-4249-B2D8-3627BCC7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0A7F-3DD0-4F0D-8E75-255F17F1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2AC4-7F21-474E-AEBB-3870DBA1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7B4C-1AA5-4C31-9FC8-A8A5D917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FA4B-0FF3-4852-ADAA-136D9FC0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0AF4-ACBA-48DF-9D71-28FBD558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2C30-52F1-4CC9-9C48-A8AF0E1C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B2C6-A497-4F8A-AD5E-A31B1BE7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E7EE-DA25-4475-B0F7-098B2D3F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6F0F-90EC-4CA0-93E9-25D078CC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86F9D-1536-4293-B40B-35B54C40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CA3F5-26AD-4368-90AB-96748CDD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0FDAF-26BC-4996-8570-BA1463BE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67BFA-DDE9-4311-9A11-101DB83D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F20A9-E505-4052-BE54-1117FAB9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CC30-CF3E-4408-86F7-89A96F24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9F0DB-9068-4165-A908-C5A39583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D6B4C-526B-4F53-8A66-6D52A475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166F1-A28F-4AE5-975E-0561B2BB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C1E02-D4A8-43D2-8C72-D3FE60B9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324DE-D337-4624-8690-2470A40F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5AB37-7A94-4321-80EA-26A74008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435A38-3A79-4BA1-969D-F81A8835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27AA44-3442-44BA-81B5-A5B2FA3B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DBD2EC-DD45-450D-AE5B-967F2C7C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AE5B9A-0791-4377-89D2-EF466124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CD8F-C0FD-450C-BA68-928194E8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D1EE1-1748-49EE-8CCF-DB3504B6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FEA5BB-3708-433A-833D-5937D050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FE4554-B689-455A-875A-3E60F2A5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7277BD-788E-4655-925B-069249C5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4CEBED-E9D2-4F51-A794-1252469B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4F83AC-7BC5-4B9D-AB1C-A3EB694E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70857-ADA6-4269-A955-ADE5486B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3EEABB-5F80-4664-98A2-7FE788AA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21FDFB-8C34-4F71-B51E-9E62CEF5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835E79-A400-48AE-90D5-1430D167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F7D-6F78-4116-9F3E-98826FB7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664AF2-556E-44F2-9F02-E6FF403F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F3D14D-89C8-4709-AF00-0AC7B026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A5E14-8F32-4547-A99B-799B4591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7494A8-1EFF-4ADE-9663-A1F04C04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2465CA-3519-47B0-B220-25846ABB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2BED3B-202F-4FEC-AE23-4F5CA8A2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29305E-2B48-4620-8FA3-2CC712BD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25F90-9A2F-46F6-A2DD-1EE57802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E38C8-E694-4A3A-8781-43DF67E0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4AE45-018B-46ED-8C40-D804D3C9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69D0-6FF3-45B7-A04D-0239A088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3EA68-ED2D-4A02-976F-99DE635F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3F6EA-CA17-4CBA-A9A1-69687E01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C6059-BD19-4219-96AD-D5088ABD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806A8-ECAF-4C9E-88C0-22A135E9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14464-F8E4-40F1-B850-B41DF819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09AF3-AB7A-430C-A6DF-2033D48E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B963B-8342-47AA-B4D1-582F2A6E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D9743-1D3E-44D6-9EE2-FE16D767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90424-2BF3-42D4-A2B9-A0918C5B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F981B-15E1-457C-B653-53CE307F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D09A-1469-44DE-827F-428E39C7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57AD6-829C-45AD-9E00-62BE4255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3611E-88F4-476C-A863-3C7C8876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A91D5-F374-4119-8727-BF1EAADD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604B33-4546-4862-A47C-4A3CB95E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17BD66-BD50-4DAF-B321-F2B49808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B44E5D-B593-4705-8DF7-96091B02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8350EA-36A4-400C-A1DC-706E2129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ACA7FA-8653-4BA6-8F82-236683C5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DA09A0-357B-4A77-B861-61D62770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406FB6-6FAF-4183-BE09-B602278B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7C8-A9A9-4226-B89B-066927F1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B7B5D0-E906-4162-9810-D6F98627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1078A6-D4E7-46BC-901C-8BDFB717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223CE2-A607-4F2A-A86D-2806E940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26E014-715B-4232-99DD-6DEC4906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3FE2C3-5DE1-4D93-920E-63554C4D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AC0DB-45CB-4FE8-A9C4-B375CC71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4EE94-F89B-4344-AA05-A7B12FA2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C45F5-3286-4CB2-A50C-D85FF43C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831F7-F980-4928-9B1C-F8DD8FBF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05B43-7290-4EDE-B8F4-74161C23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F96-0D62-47E3-A434-56A6FA1C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08B22-7DE1-4392-8A7B-6F805D28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C3729-CD21-4296-BBE9-C73EBCCC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8A2EC-A8FE-4F82-95AD-F8045932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6A572-4E17-42BB-A85A-8B257085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31D85-DF59-41A0-B434-F587B524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02934-9F27-4BBA-A074-B9C527FF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3DB41-FCD8-4D00-BAB3-D0174C35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1320-659C-45BF-B36D-CF02BD8E0CE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66CA-59D5-49D9-A41D-50AB9C817E3C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82BB-3B8B-4D19-BBB2-FCAFD58524BF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B51D-F30F-417E-AFC1-B38B9296BBC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A182-83B6-406A-B1EB-297C52277B0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B67C-2C41-4C07-946B-AF37D068F82E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8B10-07F2-4E97-B308-3DE4B89481B5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782A-0CE9-4E86-A5EA-B688AE6212E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FACTORS OF INTEGERS AND POLYNOMIAL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tion 4.1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me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w Cen MT"/>
              </a:rPr>
              <a:t>Pages 226 – 227 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Tw Cen MT"/>
              </a:rPr>
              <a:t>1 – 10, 13, 14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5x</a:t>
            </a:r>
            <a:r>
              <a:rPr b="0" lang="en-US" sz="4400" spc="-1" strike="noStrike" baseline="30000">
                <a:solidFill>
                  <a:srgbClr val="775f55"/>
                </a:solidFill>
                <a:latin typeface="Tw Cen MT"/>
              </a:rPr>
              <a:t>4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+ 3x</a:t>
            </a:r>
            <a:r>
              <a:rPr b="0" lang="en-US" sz="4400" spc="-1" strike="noStrike" baseline="30000">
                <a:solidFill>
                  <a:srgbClr val="775f55"/>
                </a:solidFill>
                <a:latin typeface="Tw Cen MT"/>
              </a:rPr>
              <a:t>3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+ 9x</a:t>
            </a:r>
            <a:r>
              <a:rPr b="0" lang="en-US" sz="4400" spc="-1" strike="noStrike" baseline="30000">
                <a:solidFill>
                  <a:srgbClr val="775f55"/>
                </a:solidFill>
                <a:latin typeface="Tw Cen MT"/>
              </a:rPr>
              <a:t>8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– 15x</a:t>
            </a:r>
            <a:r>
              <a:rPr b="0" lang="en-US" sz="4400" spc="-1" strike="noStrike" baseline="30000">
                <a:solidFill>
                  <a:srgbClr val="775f55"/>
                </a:solidFill>
                <a:latin typeface="Tw Cen MT"/>
              </a:rPr>
              <a:t>5 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+ 2x</a:t>
            </a:r>
            <a:r>
              <a:rPr b="0" lang="en-US" sz="4400" spc="-1" strike="noStrike" baseline="30000">
                <a:solidFill>
                  <a:srgbClr val="775f55"/>
                </a:solidFill>
                <a:latin typeface="Tw Cen MT"/>
              </a:rPr>
              <a:t>14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lynom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effici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ading Coeffici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ading Ter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gree of the polynom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(x) is a factor of n(x) iff there exists a polynomial q(x) such that n(x) = q(x) * d(x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egers and polynomials have many of the same ru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 example, if I add two integers, I must get an integer.  ( 3 + - 5 = -2) 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is applies to polynomials as wel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set of both integers and polynomials is said to be “closed” under addition, subtraction, multiplic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ore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28240" y="1600200"/>
            <a:ext cx="8537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nsitive Property of Integer/Polynomial  Divisibilit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is a factor of 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 is a factor of c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n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is a factor of c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 is a factor of 6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6 is a factor of 1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 is a factor of 1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actor of an Integer Su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a is a factor of b, a is a factor of c then a is a factor of b + 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actor of a Polynomial Su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a(x) is a factor of b(x), a(x) is a factor of c(x), then a(x) is a factor of (b + c)(x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1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 all integers x and y,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. Is -3 a factor of 54y – 12x + 13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. Is 6xy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 multiple of x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-629280" y="3276720"/>
            <a:ext cx="99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No, because I cannot take out -3 from 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"/>
          <p:cNvSpPr/>
          <p:nvPr/>
        </p:nvSpPr>
        <p:spPr>
          <a:xfrm>
            <a:off x="551520" y="5029200"/>
            <a:ext cx="74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Yes!  Because I can factor xy(6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2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a, b, c, and d are in the set of integers, then      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5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b + c)d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– d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 is also an integ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122400" y="2514600"/>
            <a:ext cx="87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Yes, closed under add, sub, and mul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3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s the converse of the factor of an Integer Sum Theorem true?  That is, is it true that for all integers a,b, and c, if a is a factor of b + c, then a is a factor of b and a factor of c?  If true,  prove the statement.  If false, provide a counterexamp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= 3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 + c = 1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 = 8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ut 3 is not a factor of 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 = 7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 is not a factor of 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4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t a (x) = x + 7 b(x) = x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– x – 56 an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(x) = 9x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63x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how a(x) is a factor of b(x) and c(x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how b(x) + c(x) can be expressed as a(x) * some polynom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theorem is illustrated by parts a and b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593280" y="3200400"/>
            <a:ext cx="430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b(x) = a(x) * (x – 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5014440" y="3200400"/>
            <a:ext cx="33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c(x) = a(x) * 9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2940480" y="4191120"/>
            <a:ext cx="33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10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w Cen MT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 + 62x - 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-39600" y="4800600"/>
            <a:ext cx="37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2(5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w Cen MT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 + 31x – 2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4834440" y="480060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(5x + 4) a(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203400" y="5791320"/>
            <a:ext cx="85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Factor of a Polynomial Sum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0:52:33Z</dcterms:created>
  <dc:creator>teacher</dc:creator>
  <dc:description/>
  <dc:language>en-US</dc:language>
  <cp:lastModifiedBy>Laura Helbing</cp:lastModifiedBy>
  <dcterms:modified xsi:type="dcterms:W3CDTF">2012-11-08T17:34:21Z</dcterms:modified>
  <cp:revision>4</cp:revision>
  <dc:subject/>
  <dc:title>Factors of Integers and Polynomials</dc:title>
</cp:coreProperties>
</file>