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711-B3D2-44F1-B6E3-66F16020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C78-61C1-4EDF-B0D9-142FED0D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266-4F80-4790-96B0-61427D65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3C1-A8D3-479C-9DFF-BC4A93E1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B364-5D3F-4E8E-8403-50F50522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2E4D-6E24-4361-B77C-5D48306D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90B2-9F88-42C7-AB06-97085D8C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C676-14B3-4429-A23C-BE301CC9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E42F-9B22-45A6-9CA8-8BCE7399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1433-7FE4-408D-AE5B-36D64713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CF28-9AE5-4989-8A39-D87DF612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6F5-4BFD-4697-874C-66A50123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7370-E619-4C5A-A6EC-FC2B9CEE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37F9-E72B-4167-8B74-0C077085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114A-6F27-4F0B-B625-9E2B061C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1DE3-23E5-4A26-B517-D0A45273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CF81-6739-43CF-9830-27B135AC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3A6334-71BB-4BDF-AA76-D331AA34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89AAC-B9A2-409E-8A11-B246DCC5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EB7E9-C495-4AEB-A4B7-EC43E86E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69B66-955E-4F41-97EE-97EE8B6D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1AB9E-7513-4213-B7B0-B627EFBC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097-8BC0-4E00-9D1A-69D35AA6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EB1FE-6CDE-4DBE-9780-C1A62F2B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78814-932D-4752-97C7-1EE49D62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6E5A6-EFE2-4FB7-AF29-444101A7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4AC55-FD64-4213-B964-7C347930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433D1-688A-4520-90E2-B0768FB8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6B17A-9486-4045-88BF-D4CF84D8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CA538-DDCD-4A28-8863-EBE93841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E83E51-2ED5-4597-A8D6-C383812E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9589AD-259F-4D4A-8BCC-8FA4330B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C4BB91-8FDA-4FEE-848E-8A921262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F30-4588-4CB3-85AF-A74D7C37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7E27E-BB45-4BAB-8E2E-0DDB6B8B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A2C5FE-7891-4816-A47C-F3CBE0F5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61B8D-F63C-477C-A08D-53D6B045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F6BE83-2AF5-4921-8B2D-2EFB2B27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E69098-1F37-4B57-9CB9-061228DA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AC6800-D87E-4C2F-824C-52ED32F8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14226A-9708-4905-AF30-0513D02B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E842BF-7053-411A-8E78-82D9BCBA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9E3BC-A9CD-41DC-82ED-780CA024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1E8F5C-08FC-4950-AE70-118A929F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9FA-1AFA-4DB9-BAF4-372F2579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71DDEC-AED2-481D-9BEB-990EBEB1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57EA0-3A8A-4AC6-AEA6-B0801748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630C2-0867-41F2-8B83-1644B656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157F0D-6E18-463D-B5AD-08554506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441DA-E90F-45C5-A765-05F4866F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7113B-913B-4074-B421-0B47004E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EF7D40-AC8E-45B2-B206-3E00110B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7B6B2E-1BAF-4E0D-880E-68096680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297EEF-1EAA-445E-B08E-8FC93231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76FE9-A18D-42A8-91B6-9E9D7EF0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C63-5DB9-4A5B-ACB7-F8753FC4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7F9CDB-2FAA-460E-8F79-38E5D080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E9C8D-8BA2-4F1A-A2CA-E1976302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C9F17-B04D-4772-9EC5-156651F2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463C5-7244-4E6A-AF45-B5D37E32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B59AD-745E-4E4E-AE38-E7621F04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BA0A5-1582-4991-B7F0-F186746D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6FC19-1CC9-4CB3-A065-5FD6E633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A3760-40FF-4F76-BA96-7CCB394D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C5AB9-0B88-4546-8CB2-810C0E85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B8DF6-DDCA-49F0-AFB6-BE296D47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C88-FB20-4D06-8E34-425874C4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0B31E-3F1D-4D23-B756-30AD63F9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672E7-309D-489D-AEFD-33D41717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555C2-4FB7-4E56-A6B3-58FFBD14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5DEEA6-AE6C-440C-8455-177DEE29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CF3AE6-1189-4FC9-87B4-B1468278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C7C54F-3E12-436C-AE39-62739CAB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3312CA-D489-4446-A809-4A2FC7B7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01EF03-FB95-48CD-ABCF-44979AEF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DC578F-F024-4296-87DA-9C804BEC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DB246F-1F90-474E-8D47-613D5AA3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19E-9C3A-456D-B86F-3A5D9382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C46F20-D475-4C3B-AFC8-E085955E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F4AA17-E27E-4716-AD91-CC7BD84A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8940E-D8DD-4473-A178-575541DF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2F08AB-B02C-48E8-86EE-EDFD6223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AF6A2F-17B3-47E7-9808-55F5B877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7037F-0AA5-46DF-B98A-F5BA9A95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3965A-EEE7-4579-9D45-7B02711C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0258F-03AC-4746-8A24-F59D14CB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400D1-E10F-467B-AAEF-D9DF5340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DD261-30BD-4F96-9A8A-3E59B49F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CBB-FF5D-439E-9DAC-F43737EB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DDC11-6AB8-499C-857A-D1CBEBD7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A7019-2C74-4E37-80BB-AC47B455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85356-7BE0-47E7-9B03-44365078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7DF1A-6DF4-4D36-89AD-04065DAA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27307-BD75-4E2B-8BF2-F6E85DA1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75D6A-2253-4AE2-8115-111BCE8E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7FAFD-A960-4181-9628-20898B7A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768B-F6D2-4887-BD20-02549AB2941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E64C-CE78-4412-95F8-09FD77C5C464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220B-7D84-46B3-A27C-E5751D77EEF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D0DE-21E1-4EB8-BE8C-CB52268D3A1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7784-DD83-4A7B-AE61-2CE961D36FC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DC55-F432-4772-989E-A1B4AE53B14B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E680-5EDD-4FF9-A72E-096AA536BB04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493A-133F-48F3-8346-13A1791213D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ACTORS OF INTEGERS AND POLYNOMIAL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tion 4.1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w Cen MT"/>
              </a:rPr>
              <a:t>Pages 226 – 227 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Tw Cen MT"/>
              </a:rPr>
              <a:t>1 – 10, 13, 14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5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4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+ 3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3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+ 9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8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– 15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5 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+ 2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14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lynom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effici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ading Coeffici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ading Ter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gree of the polynom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(x) is a factor of n(x) iff there exists a polynomial q(x) such that n(x) = q(x) * d(x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gers and polynomials have many of the same ru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 example, if I add two integers, I must get an integer.  ( 3 + - 5 = -2) 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is applies to polynomials as we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set of both integers and polynomials is said to be “closed” under addition, subtraction, multiplic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ore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28240" y="1600200"/>
            <a:ext cx="8537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nsitive Property of Integer/Polynomial  Divisibilit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is a factor of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 is a factor of 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n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is a factor of 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 is a factor of 6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6 is a factor of 1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 is a factor of 1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actor of an Integer Su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a is a factor of b, a is a factor of c then a is a factor of b + 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actor of a Polynomial Su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a(x) is a factor of b(x), a(x) is a factor of c(x), then a(x) is a factor of (b + c)(x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 all integers x and y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. Is -3 a factor of 54y – 12x + 13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. Is 6xy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 multiple of x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-629280" y="3276720"/>
            <a:ext cx="99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No, because I cannot take out -3 from 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"/>
          <p:cNvSpPr/>
          <p:nvPr/>
        </p:nvSpPr>
        <p:spPr>
          <a:xfrm>
            <a:off x="551520" y="5029200"/>
            <a:ext cx="74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Yes!  Because I can factor xy(6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2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a, b, c, and d are in the set of integers, then      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5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b + c)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– 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 is also an integ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122400" y="2514600"/>
            <a:ext cx="87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Yes, closed under add, sub, and mul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3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s the converse of the factor of an Integer Sum Theorem true?  That is, is it true that for all integers a,b, and c, if a is a factor of b + c, then a is a factor of b and a factor of c?  If true,  prove the statement.  If false, provide a counterexamp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= 3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 + c = 1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 = 8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ut 3 is not a factor of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 = 7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 is not a factor of 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4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t a (x) = x + 7 b(x) = x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– x – 56 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(x) = 9x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63x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how a(x) is a factor of b(x) and c(x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how b(x) + c(x) can be expressed as a(x) * some polynom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theorem is illustrated by parts a and b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593280" y="3200400"/>
            <a:ext cx="43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b(x) = a(x) * (x – 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5014440" y="3200400"/>
            <a:ext cx="33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c(x) = a(x) * 9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2940480" y="4191120"/>
            <a:ext cx="33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10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w Cen MT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 + 62x - 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-39600" y="4800600"/>
            <a:ext cx="37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2(5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w Cen MT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 + 31x – 2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4834440" y="480060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(5x + 4) a(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203400" y="5791320"/>
            <a:ext cx="85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Factor of a Polynomial Sum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0:52:33Z</dcterms:created>
  <dc:creator>teacher</dc:creator>
  <dc:description/>
  <dc:language>en-US</dc:language>
  <cp:lastModifiedBy>Laura Helbing</cp:lastModifiedBy>
  <dcterms:modified xsi:type="dcterms:W3CDTF">2012-11-08T17:34:21Z</dcterms:modified>
  <cp:revision>4</cp:revision>
  <dc:subject/>
  <dc:title>Factors of Integers and Polynomials</dc:title>
</cp:coreProperties>
</file>