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066B-33FB-48CE-8400-2620D3BF2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4B4D-A616-481E-B6D5-BCD4289AA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50FF-8783-45D6-B7F7-5691B03DA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76"/>
          <p:cNvSpPr/>
          <p:nvPr/>
        </p:nvSpPr>
        <p:spPr>
          <a:xfrm>
            <a:off x="0" y="0"/>
            <a:ext cx="6649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termine if the sequence converges.  If it does, find its lim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 7/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35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diver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281160" y="469116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Object 79"/>
              <p:cNvSpPr txBox="1"/>
              <p:nvPr/>
            </p:nvSpPr>
            <p:spPr>
              <a:xfrm>
                <a:off x="1758960" y="1571760"/>
                <a:ext cx="3722760" cy="20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6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7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-1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diver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4"/>
          <p:cNvSpPr/>
          <p:nvPr/>
        </p:nvSpPr>
        <p:spPr>
          <a:xfrm>
            <a:off x="347760" y="472140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76"/>
          <p:cNvSpPr/>
          <p:nvPr/>
        </p:nvSpPr>
        <p:spPr>
          <a:xfrm>
            <a:off x="0" y="0"/>
            <a:ext cx="6649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termine if the sequence converges.  If it does, find its lim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78"/>
              <p:cNvSpPr txBox="1"/>
              <p:nvPr/>
            </p:nvSpPr>
            <p:spPr>
              <a:xfrm>
                <a:off x="322200" y="1914480"/>
                <a:ext cx="632160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7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8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and the express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8" name="Object 59"/>
              <p:cNvSpPr txBox="1"/>
              <p:nvPr/>
            </p:nvSpPr>
            <p:spPr>
              <a:xfrm>
                <a:off x="0" y="318960"/>
                <a:ext cx="6885000" cy="24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Object 3"/>
              <p:cNvSpPr txBox="1"/>
              <p:nvPr/>
            </p:nvSpPr>
            <p:spPr>
              <a:xfrm>
                <a:off x="436680" y="2274840"/>
                <a:ext cx="5844960" cy="30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Object 60"/>
              <p:cNvSpPr txBox="1"/>
              <p:nvPr/>
            </p:nvSpPr>
            <p:spPr>
              <a:xfrm>
                <a:off x="452520" y="5664240"/>
                <a:ext cx="86914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9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76"/>
          <p:cNvSpPr/>
          <p:nvPr/>
        </p:nvSpPr>
        <p:spPr>
          <a:xfrm>
            <a:off x="0" y="307800"/>
            <a:ext cx="6651720" cy="74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sider the 50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row of Pascal’s triang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are the first 3 entries in the row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.  What are the last 3 entries in the row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Box 56"/>
          <p:cNvSpPr/>
          <p:nvPr/>
        </p:nvSpPr>
        <p:spPr>
          <a:xfrm>
            <a:off x="1923840" y="3876840"/>
            <a:ext cx="344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1, 50, 12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Box 58"/>
          <p:cNvSpPr/>
          <p:nvPr/>
        </p:nvSpPr>
        <p:spPr>
          <a:xfrm>
            <a:off x="6083280" y="5261040"/>
            <a:ext cx="30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1, 50, 12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1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" fill="hold"/>
                                        <p:tgtEl>
                                          <p:spTgt spid="1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76"/>
          <p:cNvSpPr/>
          <p:nvPr/>
        </p:nvSpPr>
        <p:spPr>
          <a:xfrm>
            <a:off x="0" y="0"/>
            <a:ext cx="7507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first three terms of the geometric sequence are 3, -51, 867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nd an explicit formu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.  Find a recursive formu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Object 26"/>
              <p:cNvSpPr txBox="1"/>
              <p:nvPr/>
            </p:nvSpPr>
            <p:spPr>
              <a:xfrm>
                <a:off x="1657440" y="3726000"/>
                <a:ext cx="4224240" cy="10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Object 27"/>
              <p:cNvSpPr txBox="1"/>
              <p:nvPr/>
            </p:nvSpPr>
            <p:spPr>
              <a:xfrm>
                <a:off x="1044720" y="5564160"/>
                <a:ext cx="59943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1" fill="hold"/>
                                        <p:tgtEl>
                                          <p:spTgt spid="10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1" fill="hold"/>
                                        <p:tgtEl>
                                          <p:spTgt spid="1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5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6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76"/>
          <p:cNvSpPr/>
          <p:nvPr/>
        </p:nvSpPr>
        <p:spPr>
          <a:xfrm>
            <a:off x="0" y="0"/>
            <a:ext cx="6719760" cy="70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first four terms of an arithmetic sequence a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87, 174, 161, 148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 an explicit formu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= 200 – 13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. Give a recursive formu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= 18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= -13 + 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n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5" name="Rectangle 66"/>
          <p:cNvSpPr/>
          <p:nvPr/>
        </p:nvSpPr>
        <p:spPr>
          <a:xfrm>
            <a:off x="0" y="258840"/>
            <a:ext cx="746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valuate the given series to the nearest whole nu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6" name="Object 55"/>
              <p:cNvSpPr txBox="1"/>
              <p:nvPr/>
            </p:nvSpPr>
            <p:spPr>
              <a:xfrm>
                <a:off x="0" y="5327640"/>
                <a:ext cx="918828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7" name="TextBox 22"/>
          <p:cNvSpPr/>
          <p:nvPr/>
        </p:nvSpPr>
        <p:spPr>
          <a:xfrm>
            <a:off x="603000" y="1968480"/>
            <a:ext cx="11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 =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Box 23"/>
          <p:cNvSpPr/>
          <p:nvPr/>
        </p:nvSpPr>
        <p:spPr>
          <a:xfrm>
            <a:off x="3072240" y="1960560"/>
            <a:ext cx="35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05 = 8 + (n – 1)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Box 25"/>
          <p:cNvSpPr/>
          <p:nvPr/>
        </p:nvSpPr>
        <p:spPr>
          <a:xfrm>
            <a:off x="637200" y="27558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 = 3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Box 26"/>
          <p:cNvSpPr/>
          <p:nvPr/>
        </p:nvSpPr>
        <p:spPr>
          <a:xfrm>
            <a:off x="1808280" y="3816360"/>
            <a:ext cx="44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34/2 (8 + 30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Box 27"/>
          <p:cNvSpPr/>
          <p:nvPr/>
        </p:nvSpPr>
        <p:spPr>
          <a:xfrm>
            <a:off x="1941480" y="4505400"/>
            <a:ext cx="4471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53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1" fill="hold"/>
                                        <p:tgtEl>
                                          <p:spTgt spid="1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1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66"/>
          <p:cNvSpPr/>
          <p:nvPr/>
        </p:nvSpPr>
        <p:spPr>
          <a:xfrm>
            <a:off x="0" y="0"/>
            <a:ext cx="65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valuate the given series to the nearest whole numb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Object 58"/>
              <p:cNvSpPr txBox="1"/>
              <p:nvPr/>
            </p:nvSpPr>
            <p:spPr>
              <a:xfrm>
                <a:off x="1139760" y="2193840"/>
                <a:ext cx="455616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Object 55"/>
              <p:cNvSpPr txBox="1"/>
              <p:nvPr/>
            </p:nvSpPr>
            <p:spPr>
              <a:xfrm>
                <a:off x="515880" y="4494240"/>
                <a:ext cx="4479840" cy="23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Object 56"/>
              <p:cNvSpPr txBox="1"/>
              <p:nvPr/>
            </p:nvSpPr>
            <p:spPr>
              <a:xfrm>
                <a:off x="6296040" y="5173560"/>
                <a:ext cx="12142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1" fill="hold"/>
                                        <p:tgtEl>
                                          <p:spTgt spid="1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1" fill="hold"/>
                                        <p:tgtEl>
                                          <p:spTgt spid="1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1" fill="hold"/>
                                        <p:tgtEl>
                                          <p:spTgt spid="1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2" name="Rectangle 58"/>
          <p:cNvSpPr/>
          <p:nvPr/>
        </p:nvSpPr>
        <p:spPr>
          <a:xfrm>
            <a:off x="482760" y="0"/>
            <a:ext cx="620856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family has lived in an apartment for almost 12 years.  Their monthly rent the first year was $300.  Each year thereafter their landlord raised the rent by $15 per mon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otal, how much did they spend in rent for the 12 yea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Box 51"/>
          <p:cNvSpPr/>
          <p:nvPr/>
        </p:nvSpPr>
        <p:spPr>
          <a:xfrm>
            <a:off x="576360" y="5864400"/>
            <a:ext cx="6759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12/2 (2(3600) + (12-1) 18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Box 52"/>
          <p:cNvSpPr/>
          <p:nvPr/>
        </p:nvSpPr>
        <p:spPr>
          <a:xfrm>
            <a:off x="5176800" y="5060880"/>
            <a:ext cx="300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$55,08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1" fill="hold"/>
                                        <p:tgtEl>
                                          <p:spTgt spid="1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1" fill="hold"/>
                                        <p:tgtEl>
                                          <p:spTgt spid="1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9" dur="1" fill="hold"/>
                                        <p:tgtEl>
                                          <p:spTgt spid="1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2" name="Rectangle 66"/>
          <p:cNvSpPr/>
          <p:nvPr/>
        </p:nvSpPr>
        <p:spPr>
          <a:xfrm>
            <a:off x="0" y="0"/>
            <a:ext cx="6632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English teacher requires each student in her class to read 6 books. Four of them are to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lected from a list of 10 novels, and the other two are to be selected from a list of 6 plays. Find the number of different combinations of books 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be selec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Box 53"/>
          <p:cNvSpPr/>
          <p:nvPr/>
        </p:nvSpPr>
        <p:spPr>
          <a:xfrm>
            <a:off x="576360" y="5864400"/>
            <a:ext cx="6759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* 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Box 54"/>
          <p:cNvSpPr/>
          <p:nvPr/>
        </p:nvSpPr>
        <p:spPr>
          <a:xfrm>
            <a:off x="3611520" y="5599080"/>
            <a:ext cx="42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8" dur="1" fill="hold"/>
                                        <p:tgtEl>
                                          <p:spTgt spid="1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1" dur="1" fill="hold"/>
                                        <p:tgtEl>
                                          <p:spTgt spid="1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1" fill="hold"/>
                                        <p:tgtEl>
                                          <p:spTgt spid="1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2" name="Text Box 14"/>
          <p:cNvSpPr/>
          <p:nvPr/>
        </p:nvSpPr>
        <p:spPr>
          <a:xfrm>
            <a:off x="0" y="0"/>
            <a:ext cx="7037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factory has been operating for ten years. The first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operation its employee payroll was $1.7 million. E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sequent year, the payroll increased 9% over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vious year. What is the payroll for this, the 10th ye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Box 53"/>
          <p:cNvSpPr/>
          <p:nvPr/>
        </p:nvSpPr>
        <p:spPr>
          <a:xfrm>
            <a:off x="318960" y="5396040"/>
            <a:ext cx="37213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= 1.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= 1.7(1.09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</a:rPr>
              <a:t>n-1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Box 53"/>
          <p:cNvSpPr/>
          <p:nvPr/>
        </p:nvSpPr>
        <p:spPr>
          <a:xfrm>
            <a:off x="4662360" y="5294160"/>
            <a:ext cx="3443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3.6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1" fill="hold"/>
                                        <p:tgtEl>
                                          <p:spTgt spid="16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1" fill="hold"/>
                                        <p:tgtEl>
                                          <p:spTgt spid="16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2" dur="1" fill="hold"/>
                                        <p:tgtEl>
                                          <p:spTgt spid="17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6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14"/>
          <p:cNvSpPr/>
          <p:nvPr/>
        </p:nvSpPr>
        <p:spPr>
          <a:xfrm>
            <a:off x="0" y="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lv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Object 58"/>
              <p:cNvSpPr txBox="1"/>
              <p:nvPr/>
            </p:nvSpPr>
            <p:spPr>
              <a:xfrm>
                <a:off x="811080" y="1351080"/>
                <a:ext cx="5110200" cy="17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66" name="TextBox 53"/>
          <p:cNvSpPr/>
          <p:nvPr/>
        </p:nvSpPr>
        <p:spPr>
          <a:xfrm>
            <a:off x="0" y="5357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64x</a:t>
            </a:r>
            <a:r>
              <a:rPr b="1" lang="en-US" sz="5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+ 240x</a:t>
            </a:r>
            <a:r>
              <a:rPr b="1" lang="en-US" sz="5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y +300xy</a:t>
            </a:r>
            <a:r>
              <a:rPr b="1" lang="en-US" sz="5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+ 125y</a:t>
            </a:r>
            <a:r>
              <a:rPr b="1" lang="en-US" sz="5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1" fill="hold"/>
                                        <p:tgtEl>
                                          <p:spTgt spid="17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17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7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68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69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6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77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4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85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3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94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802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811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819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6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27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34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1835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7" dur="1" fill="hold"/>
                                        <p:tgtEl>
                                          <p:spTgt spid="17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500"/>
                            </p:stCondLst>
                            <p:childTnLst>
                              <p:par>
                                <p:cTn id="5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500"/>
                            </p:stCondLst>
                            <p:childTnLst>
                              <p:par>
                                <p:cTn id="59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TextBox 1"/>
          <p:cNvSpPr/>
          <p:nvPr/>
        </p:nvSpPr>
        <p:spPr>
          <a:xfrm>
            <a:off x="759960" y="1616040"/>
            <a:ext cx="7663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Pages 584 – 58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1 – 5, 8 - 1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523800" y="0"/>
            <a:ext cx="5573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termine if the geometric series.  If so find the s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6" name="Object 79"/>
              <p:cNvSpPr txBox="1"/>
              <p:nvPr/>
            </p:nvSpPr>
            <p:spPr>
              <a:xfrm>
                <a:off x="1574640" y="4959360"/>
                <a:ext cx="1687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verg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0"/>
              <p:cNvSpPr txBox="1"/>
              <p:nvPr/>
            </p:nvSpPr>
            <p:spPr>
              <a:xfrm>
                <a:off x="5305320" y="4965840"/>
                <a:ext cx="1881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81"/>
              <p:cNvSpPr txBox="1"/>
              <p:nvPr/>
            </p:nvSpPr>
            <p:spPr>
              <a:xfrm>
                <a:off x="1306440" y="5927760"/>
                <a:ext cx="17096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82"/>
              <p:cNvSpPr txBox="1"/>
              <p:nvPr/>
            </p:nvSpPr>
            <p:spPr>
              <a:xfrm>
                <a:off x="6072120" y="5870520"/>
                <a:ext cx="436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AutoShape 4"/>
          <p:cNvSpPr/>
          <p:nvPr/>
        </p:nvSpPr>
        <p:spPr>
          <a:xfrm>
            <a:off x="284040" y="469908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83"/>
              <p:cNvSpPr txBox="1"/>
              <p:nvPr/>
            </p:nvSpPr>
            <p:spPr>
              <a:xfrm>
                <a:off x="1476360" y="1954080"/>
                <a:ext cx="3933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diverg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14.4444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2/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4"/>
          <p:cNvSpPr/>
          <p:nvPr/>
        </p:nvSpPr>
        <p:spPr>
          <a:xfrm>
            <a:off x="452448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5"/>
          <p:cNvSpPr/>
          <p:nvPr/>
        </p:nvSpPr>
        <p:spPr>
          <a:xfrm>
            <a:off x="523800" y="0"/>
            <a:ext cx="5573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termine if the geometric series.  If so find the s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80"/>
              <p:cNvSpPr txBox="1"/>
              <p:nvPr/>
            </p:nvSpPr>
            <p:spPr>
              <a:xfrm>
                <a:off x="1287360" y="1954080"/>
                <a:ext cx="4311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1,000,00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2</a:t>
            </a:r>
            <a:r>
              <a:rPr b="1" lang="en-US" sz="3200" spc="-1" strike="noStrike" baseline="30000">
                <a:solidFill>
                  <a:srgbClr val="ffcc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100</a:t>
            </a:r>
            <a:r>
              <a:rPr b="1" lang="en-US" sz="32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7"/>
          <p:cNvSpPr/>
          <p:nvPr/>
        </p:nvSpPr>
        <p:spPr>
          <a:xfrm>
            <a:off x="5073480" y="591660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76"/>
          <p:cNvSpPr/>
          <p:nvPr/>
        </p:nvSpPr>
        <p:spPr>
          <a:xfrm>
            <a:off x="0" y="0"/>
            <a:ext cx="6649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um of the entries in the 10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of Pascal’s triang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4"/>
          <p:cNvSpPr/>
          <p:nvPr/>
        </p:nvSpPr>
        <p:spPr>
          <a:xfrm>
            <a:off x="347760" y="579744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1-04-07T18:11:53Z</dcterms:modified>
  <cp:revision>258</cp:revision>
  <dc:subject/>
  <dc:title>No Slide Title</dc:title>
</cp:coreProperties>
</file>