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E714-9196-422F-BAB2-65CAD34F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B08-DBD2-49F3-B4D3-F4945A2A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9A402E-EB4E-4FD2-B262-601CC6A0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D9B44-AEFF-4B3D-A9CD-017C9BAE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B03B0-49BC-4153-885C-CDE9BAD9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33AD48-809E-4FD6-9A12-CB410A6E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C19BD3-8BF3-41FD-A96A-0817D718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31715D-0FB0-4276-BE0F-C618038F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A43A01-F158-4226-BFE8-71379F18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64E15-16C9-4FE5-908F-CA626158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C064B-75B5-442F-B569-0A8AB368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5EBBB6-425A-4B1E-AB8D-1DE3A428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3703-8789-42DD-A50F-32879C99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C2758E-2148-45AF-BE87-2E942614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4B88F-D12A-4B44-B705-A4352E93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DD069A-9060-47CD-98E2-864E6E70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7F54C-8A4D-44DD-B9C6-DD3C098A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537390-202B-4778-B96F-C0855FA3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424DA-EDCA-4043-AFE1-332D21DC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46D210-18C7-46C4-899D-567B7E5D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03FAD7-79BF-4240-85D1-7B50D95B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F76234-86E8-4A92-A763-F77C9719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EAE7E7-5A07-48BF-A804-21447B00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9200-F7C1-442B-BB53-F8B7F50A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3168FC-7358-40F3-9BB2-B746A0EC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75754-5929-49CE-8F83-A1B7B3B8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C8911-6395-4194-8003-322286EB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E54AC-8F6F-4BD0-A3EC-ACBF3609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AC1D4-4AFB-4F55-816A-E1BBFFCC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D002A-AF75-4F55-9724-18124065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DF38B-FE8F-4206-9BE2-AD50A830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6C692-53F1-44ED-934D-8CABC892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275C1-1E7D-4F45-9127-A58CA125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6C31D-5609-47B0-8CC3-8186BEA8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0853-6CAC-4CDA-ADF0-74174AD5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F8AC5-5F7E-4360-9693-885722C0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A9EC4-D2D5-44E7-9ECD-5A5BC562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12E34-FF36-4998-A352-E2555729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4370AD-BFCA-452D-BCEF-B26E2344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386BA2-252C-4742-8A23-FB97261A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22864B-95E2-4048-AFBA-EDCC06D3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FC791-3392-474E-8A1C-1959C61A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D7DEA-3B01-4D06-B318-5329DF03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07F0D3-2F43-41CB-B36A-20175B9A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00BB1-D77B-4DC8-AE7F-E5ABC0E3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7926-45CE-4E88-9455-2A8A5498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D3BC8C-E91E-43F6-9535-1CBFD13B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F019C-12ED-48A6-8FA9-121FFA19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DDEC89-3947-480A-8788-F18DB88E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6E1067-3922-49EF-9E70-12AE3B5F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798C1D-6801-496D-B30B-4D8AC94B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21B1-C2FC-45A9-BA11-DD4C22B1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2BBE-4ECB-4678-AD8F-1BB4CDAA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24C3-4522-48C5-BB8C-4871357F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48B8-32C9-46D0-A16B-6C259FFC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4AAE-C8D4-49A4-8B8F-7794DEC1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A9C-D5B7-4682-BF4B-0C9C52D6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27EE-1621-4FFB-AC01-4099A69C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403B-282E-4BB8-8E9D-3187CC61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965C-2F8A-4D64-85BB-E137640D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F69A-A56D-4946-AA79-E7B6E971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7D41-6E7B-43D7-8F30-49CC8BDA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FC508-6618-4C71-88A0-C380337C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DCD90-3C3C-4912-A145-A934B72A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DCE28-384C-479F-8439-6296730F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A74B5-3C3B-411B-B1C4-6A223539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D58F7-A3A3-4A8A-92DF-51AB6FA4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883-EECE-4F55-8938-448E7137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5652C-456F-4DDE-A3F9-D0E75A28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D7E31-754C-40AC-BEBF-5875B1CC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C0B0-D768-4F87-8E46-E1B7E3D9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A022F-5D5D-4272-9C11-79CA752A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BFA4F-35F2-4E0B-990D-B59E05B3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E3CE6-4BAD-455D-BB3A-BA0FB4AE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E7640-5A88-4DC1-B990-8217AFD6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39D49-89CA-435A-852C-2EF1285E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A1B6D-AA93-4029-B3BF-D3115FEC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032A5-582D-42DC-B760-AC2A80F4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800D-38D1-4B74-9E3A-AFFAD0A1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89E6A-BC81-4216-9BC6-DBE21A2A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D6E54-852E-4177-961B-00B0D98E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E37EE-CA11-4672-A06A-90AC5539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FC283-5BC2-4070-A83C-77EA7DD4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008C3-D1B4-4B50-A738-6AB41A5A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B7210-4821-42F3-85FE-B5C031B8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A8556-D4A8-4C93-B5C3-3B84DF36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78513-A26A-4708-B8D6-F92A52F2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6B38E-C257-4813-8FFE-5D7848CB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7430B-DA75-4F62-9EF7-58077AB9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DF9-FC82-43CA-928E-890D8E73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303A5-BA79-48E2-8328-9CF5B1DD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9B229-2CF9-4FBB-A2EF-39F16ADD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2C864-B738-4832-81FF-9CF74309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7B3D3-FAE6-4344-99A0-0F7DD9E5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3C9A1-DE67-4C70-82DE-1D9FB407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CC41A-EC99-4A28-86C4-1695EDDA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869D3-7A86-4BB3-9817-D035D47E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1FFF6-4D37-4DF1-AE8C-EFD098BE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0B841-DA6F-4CF4-BB28-4D96EF8F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2AE15-2753-4392-A457-BF50F8AC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40ED-BA99-4B49-B9AD-538C505B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5426B-E4C8-453D-BF7D-5A0B40F4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04F8C-B63B-4011-A351-2CD48148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2B118-A179-4B71-9D2E-90624157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0FE3C-4A99-40DC-AC09-983B3411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D7FD5-1ED9-4FDF-86BF-58BAAC78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AF31A-DB80-475F-8D19-86C630E2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D9C07-5B4E-4759-A0AE-0DE76A34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D92CA-384A-421B-A9A8-7F8A72F6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A3BA3-75E0-4458-A346-C0378EB6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5FDC3-4EBF-4A76-B3DD-B2159A8B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73B1-C7A6-4261-A40B-976E846C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B9275-1A18-48BA-B02D-1C207BF6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CC97D-8284-4A64-AB91-EDE1A04A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D0161-E05E-49C6-954B-5A5EECF3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374AD-5F15-42FE-9AC5-551A5CD9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BE418-B842-49DB-AB5C-81979E80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14A02-28DB-412B-8102-37AB4D32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1213C-CD8E-4D21-BE1C-DF4B4562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AB68A-BFA8-4CCD-8DE5-E3FF1E72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BEEB6-707D-4F62-AE92-B2FBC9CD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9A6D9-3A13-4198-83FF-2CE0809F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B897-9B1B-47F2-B9AB-6E202F93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1924D-7FE1-4CDE-BF3D-A286E738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65977-7472-4EE4-AEFD-19D47C05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E6744-D422-4C26-A4B1-2431645E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E14E7-A3CC-4B39-B4A0-70FBF157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B54F9-7B8B-4AAD-BD44-4653D9F7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C3153-7D66-4057-B811-7F82B244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E485D-D24B-489D-97B1-A11922F9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1514A-F07C-412C-8361-CB14F4E4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C60A2-FCDA-428B-B2D5-D9F2A618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45D56-7BF3-4591-88D2-60F4BC2F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26EF-4654-4067-8702-61FF3F26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B92F3-3F25-4023-ADF6-AFE3F25D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E3BA0-09EF-46EA-A9AA-464F251B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07ED3-D73F-4D4B-92A0-46E5AD0E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EC53C-EC62-4D76-A269-CCF256A1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DA84A-ADF4-4719-9418-C10C6C46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7E053-F909-43C7-B29F-2F64C058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EE4BF-C855-4FCC-9D25-0D3D1AE8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67AF77-823D-4C6A-9BBA-05A9210D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A0D8E7-7F37-4C6B-841C-C937A4A0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75277-EDFE-409D-8645-2B13C977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952C-4570-4A17-AB37-B1C3BBE24F0F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58BC-A5EF-4B41-BD9F-83165C401BF1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B76D-CFE4-4440-B2A4-476AD899A7D9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18CA-67B8-4720-950D-D28DDAE80971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BB82-43EF-420C-B62A-6CBC62D7B479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2A5A-8B52-48E7-987C-5FD26463B52C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D305-1A2A-4C2A-91C6-02350724E3BF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0A28-BCA2-4AD9-B616-2065E353BA1A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E050-8BAB-4E03-BC06-DEFC8E6BA69E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B57A-BD4F-4EBD-ACC7-BCFDADD06ABF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B5EE-45FD-4229-8B3B-915B7C4A5DA6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A32B-02E5-4254-B17A-11B28940939F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Georgia"/>
              </a:rPr>
              <a:t>SECTION 9.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88c"/>
                </a:solidFill>
                <a:latin typeface="Georgia"/>
              </a:rPr>
              <a:t>Factoring Sums and Differences</a:t>
            </a:r>
            <a:endParaRPr b="0" lang="en-US" sz="4200" spc="-1" strike="noStrike">
              <a:solidFill>
                <a:srgbClr val="89006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Sums and Differences of Cubes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= (x + y) (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– xy + 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- 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= (x - y) (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+ xy + 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For general odd powers…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= (x + y) (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1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–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y +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3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- … - x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1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- 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= (x - y) (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1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y +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3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… + x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1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Example 1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ind the fourth roots of 16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-  16 = 0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(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+ 4)(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– 4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x = 2i , x = -2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x = 2 , x = -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Example 2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actor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– 64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12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over the set of polynomial with rational coefficient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(x – 4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)(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+ 4x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+ 16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Example 3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actor 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over the set of polynomial with rational coefficient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ame as (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(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(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– 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Example 4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actor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–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completely over the set of polynomials with rational coefficient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ame as  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– (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–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(x – y)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x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(x + y )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-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- x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Pages 605 – 606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4 - 7, 11 - 19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8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5:18:38Z</dcterms:created>
  <dc:creator>Laura Helbing</dc:creator>
  <dc:description/>
  <dc:language>en-US</dc:language>
  <cp:lastModifiedBy>Laura Helbing</cp:lastModifiedBy>
  <dcterms:modified xsi:type="dcterms:W3CDTF">2013-04-19T18:53:53Z</dcterms:modified>
  <cp:revision>12</cp:revision>
  <dc:subject/>
  <dc:title>Factoring Sums and Differences</dc:title>
</cp:coreProperties>
</file>