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91F-CA8C-48D1-800E-9EDF718F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E3D-535E-4FD7-AF7D-6576FB8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5BF8E-D71B-42C3-8A69-47CFBE4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460D4-DFDA-4003-8074-114D5479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69980-49B9-45E4-934A-A2FA43D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8728C-57B4-4A6F-A8FE-EF236A8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D5ECC-96E4-496B-935C-180EDA31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C5584-3464-4984-9655-A4038750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79DE8-7192-4BEA-913F-D5743AA2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35C7C-3E9B-450A-A9C3-5C2EF247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54FCD-442A-469F-A576-E35583C0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CCDF83-C565-4F73-B8AF-7CB39C9C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137-04F9-4610-8B4D-E66E96B2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9170D0-B62F-4C06-98A5-8A03F62A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458BE-BA32-48F2-89F0-452FC5F5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F5D2B-DE6E-4F9E-9BF2-751CF09D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D3B2F4-CE15-4AFF-94BC-9747FC00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D8B62-CDB2-49D2-86CC-E919F69A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5AFDC-26B6-46EA-A96F-5F8087A4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CF96F-297F-4529-9FBA-548558F0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817CFE-EEF3-4580-961D-77302D5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AF455-B603-4BD0-B482-47056149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C7E56-20C0-4DD0-9EF4-C01EBCCA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206-B8ED-4664-AE9D-EC06DE46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3499D-03D3-4756-B960-B57DA3B1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CC157-53A4-474E-9603-70FAF9B5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A9147-3EEF-4593-9500-2D4DCE6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E243E-6352-4EA7-B4E4-55697F4A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6001-B1CC-49AC-81BE-54C52962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CD46F-0537-4E74-B77D-8CF478FB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BDF98-D5E3-4CB5-974D-ED1EC98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D7DE-107E-4D12-AE9A-1D4C9DE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D591E-92EE-4723-8449-2C59F6FB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C629E-96C6-40D0-B825-3219A549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E768-90A4-4FE8-8D52-E3F9B67C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8E62-DFBD-4E6B-85F1-9A6B3DB8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2B722-BC94-4A48-BECC-1F5A4F4C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757B3-6185-43E7-8321-EE5B4269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37D41-7CC3-47BB-81EC-9C8522CD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55FC5-D308-4E53-8B8C-DEB41863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3EA431-1742-4FB0-BC4E-B9E1938A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CE53A-1B67-4EDB-BFB7-AD9E1119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0A4E5-35D5-4467-915D-44336D02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66C77-31EA-4988-B278-64BACB0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75D26-3806-4D47-AAED-667917A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56B7-1566-4B66-9851-DF64DAA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628B3F-7CD4-49D4-B990-DBF6E5F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213CF-9F99-4053-ABF4-34424448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833B4-29BF-451E-A5B4-7886EC96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93601-005C-446C-AE2B-C027DD34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4DB32-A3BC-443F-BA3F-21CD0027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7428-9CE5-47B6-8DC1-546FDA8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630D-B5BF-4896-98D2-3BA4AFF7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C134-80E2-4BAC-BBBF-878FF67D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E58D-EAA9-4485-845A-F43E5F8B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202C-3D5D-4DCB-ABAD-1A5792B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89D-51E4-4C25-AF9F-07DE6B0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8F56-4A7A-4BBC-BE3E-FAF43988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1221-E263-427B-8BD4-E3433DA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1429-7A4E-4CE0-8C5E-933ECA47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95E2-DDE3-4A00-81D1-A635DEE7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CD3-300B-4EED-ADFC-B5B4915F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9A73-100C-482D-8E9B-DDC35DDC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15FD5-EA9A-4F11-B41C-A22B51E6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582E-3099-4F91-975F-13037882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6FC4-5017-421D-9AA4-B27453B4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18C6-C8CF-45D8-BB8B-C52DBF2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682-89AD-4D4C-A2D8-A3FA0FC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8C35-A416-4EF0-91E7-9C657106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4BBB-B2C8-4897-BA1A-65BE7163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6794-7664-4F47-8DEA-7439380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871D-B51D-41B3-8A45-8B08E944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DF64-DA62-418D-92F1-3AE1D275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14D5-3F40-4F8C-A915-FE1B22DB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3537-A1EF-40A3-9FFA-9319A420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CA65-2B10-4347-B7B1-C04C09CF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30F64-5409-4869-B252-A0726B4E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1D414-E804-49E2-A195-5F3F7B7D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84C-F4E5-49CE-9513-8B32EE37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A278-BD95-4C68-89D6-2D1A2799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B5110-AE0B-4B31-A2C7-6BCEAF1F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EE28E-7569-4CC1-B1B8-86D042D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2A27-22F1-4C83-BD07-7518596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FB58-2CBC-4DB0-BBD1-E6C02E5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0CA1D-84CA-4A3E-ABF9-DF9C48FC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0EBF-9A79-4BE7-A3AA-6F2A91D1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E50D-D400-499A-AD99-5FA63394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D5A57-3781-4569-83F9-6A97CB56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06CE1-08FD-4869-8B90-4FBA6C816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0C0-EDBE-42B5-8097-053D560F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EF17-447B-4EA8-95AF-67063732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AF9D-759C-42C1-BF99-CC36D77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2273-E971-4F94-B647-07BFDF3A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1EC9D-DFC5-4FA7-B3B7-DBB45126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6E38C-750A-497D-AD1C-7468D102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5D3E-8192-41BA-A878-C1721F9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689E9-E314-4187-B7B2-1348B7DA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0981A-6F92-4DC1-B6DA-1B5A4F61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2A8CF-26A0-4708-89E1-F98B154A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4BD1-169A-4DB3-A1D3-907056F0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8C5-D56E-4699-B948-D55951E5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9701B-C016-4215-B120-293F1573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1E984-AD70-49B1-AFCA-BB2113E8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B37F5-0EAA-4FF1-A61A-A7177703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31DC0-9871-4223-BFC0-E4F12360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BB6EF-7BB5-4164-A22C-49FA093B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25C4-4009-4F78-B788-F1D20CE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C4643-280F-47D5-A66E-EC39191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7239-B4C6-41BF-8E11-F1CCDB6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2FEB8-53CC-4693-9A49-F4954901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28234-1F11-495C-83A7-77D1AA5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CEF-A504-426A-A4AC-B739265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609F7-4B42-47BA-90A2-D1DCDD1C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6089A-6580-4E6F-BCB2-CFD5676E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5DD07-59FA-488A-B634-B8F1B0D6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3866-8CF6-4EFC-AF01-428CE3A8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3B3E7-1B4F-4A60-980F-32D1242D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28A23-54DF-49CD-8B86-6922932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CAC16-6693-49E6-8860-F0010FA5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D14FD-E9D7-45B0-A825-E0A312E3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438D7-EEEB-4A64-A51E-FFD151D3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3E4E7-9246-4AC6-9E57-60600B3E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7C8-0187-4833-A516-43D1331E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1F457-81E4-4CAC-A1DA-F8E57C5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B48E4-DB12-4CD9-9D86-AF3F7766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022F-3C9E-45F3-90DB-EE39DB43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C55A-9DD8-4AD6-9843-FCC13525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647E8-45ED-47C7-B0C8-E99BEDAC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014B8-3AFE-4916-9D12-BBB262C7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CF654-1ABF-4A8D-93D7-8941D4A6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B72D-5798-42DE-8D4D-CBDDB539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C29EA-4DFD-4B83-860D-4B437E38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9675-E45E-4734-865D-F679EF73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DAA-AB7A-4EDB-8073-549A383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C5372-DD3F-4DCD-9D37-D556EF73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84748-E2B6-4E0B-A614-22145F9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D8AD2-7E65-4D6A-8052-60495450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AB73-8DB6-4807-8B10-6E95602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BB7E9-E854-4D62-948F-C0A9703F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B82FC-61FD-4E4E-AA09-FB54EE1E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A0298-8D6C-47B8-A41B-A083BC32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95F5A8-8A67-472D-8249-19B99E13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9CC02-617B-4E25-8F63-708A03E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26D13-56CD-4653-A5CC-C3D9914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D012-B31F-44A0-ABF4-6C8F3A32E606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1A0-ADC2-4BB1-9F73-F88E9788568C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6DF1-AA1C-4232-AA62-A96D32089C8C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CA97-2ACF-460F-B315-BBF7C7BE3147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A81B-A3A3-4141-BEB4-8890356BA02F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5E82-F7BC-4565-9D3B-59BCFB27CB0D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3517-3338-43FF-8D42-E5B11186BFA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7D3B-8614-499C-89FD-310C565D18C7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7E23-EE50-4D83-BCFB-9131CC92328C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E6A5-A8BB-4F4C-A2CF-442EF0584548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537E-84B2-4C29-87C2-A76840C8ED1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3E52-6533-4EFA-A849-74B98C58BA3D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CTION 9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88c"/>
                </a:solidFill>
                <a:latin typeface="Georgia"/>
              </a:rPr>
              <a:t>Factoring Sums and Differences</a:t>
            </a:r>
            <a:endParaRPr b="0" lang="en-US" sz="42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Sums and Differences of Cube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–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For general odd powers…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… -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… +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nd the fourth roots of 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 16 =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4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i , x = -2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 , x = 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– 6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ver the set of polynomial with rational coefficient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(x – 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4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16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over the set of polynomial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completely over the set of polynomials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 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(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– y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+ y 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605 – 606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4 - 7, 11 - 19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8:38Z</dcterms:created>
  <dc:creator>Laura Helbing</dc:creator>
  <dc:description/>
  <dc:language>en-US</dc:language>
  <cp:lastModifiedBy>Laura Helbing</cp:lastModifiedBy>
  <dcterms:modified xsi:type="dcterms:W3CDTF">2013-04-19T18:53:53Z</dcterms:modified>
  <cp:revision>12</cp:revision>
  <dc:subject/>
  <dc:title>Factoring Sums and Differences</dc:title>
</cp:coreProperties>
</file>