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459-2951-4352-BD60-7FFA8037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686-1A03-4B80-A71F-C946D5AD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A81EF9-AF14-404B-ACB1-FA8C866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87D4D-5823-4C13-9E70-E854C15A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4D537-889B-4657-8B07-9E13322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8561A-7B8C-4F2D-B179-E9143A2E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3F478-73D5-446E-8F9E-95029AA4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46212-F549-4718-AE42-002953E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2A555-04C1-457D-A5A6-8979B41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C1F16-0827-4DC7-AFBF-3FA5A5F8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EE5A3-3894-479D-B446-C58841F8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87125-8E4B-4C37-B376-2CC00C37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ECC9-970B-4B31-BCEB-13746E9A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F62DF-8893-4A6D-86BB-9EDF55F6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E3874-22C3-437E-84D3-671ACA2D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6A8FE-4CA9-4658-AC7E-204B5B2E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C7D396-0A67-4C59-9019-A3AE3373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5666B-550D-42AC-A4C5-6D9E920E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759737-B21E-4767-BE67-05EF2D7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12D4E-0D39-4302-897B-1E1B4E6B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2D334-8709-4523-8146-FD23254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3BAEC-A8FE-432A-98B2-194A878F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3D892-D024-47A0-B719-D023C1D5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5203-F3CE-45F1-A7FF-B48397EF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E9CD8-72AD-4575-AB4F-37B6B891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2883A-B008-4105-9F20-1DBC24B1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005C3-86C2-48C4-8978-F13B08F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A5687-F725-4B68-B9EC-A5C2B3B8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9E59C-6ABB-4F70-9ED8-503001DC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82EE8-A8F0-4E19-8DE1-ADF0D9E6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6358-8B6D-49A5-A901-5296F459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B1F17-5949-4B11-B19A-14E0D3E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AC957-0FFB-4AF0-AC0F-01390D9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F6BFE-930A-4428-9AB7-483C758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2DDA-29F4-4DB6-8F7F-11D546B8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EC9A5-8427-40BB-BA15-12C72E8C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9DF9C-F597-4240-B92A-C6D382B0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AB39D-1AC3-4269-A3C4-AA0EFF1C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EF388-A4CB-4317-9F72-BFEF23DB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FAF68-CC57-4F27-A577-EA91535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4D32C0-0F3F-4057-8076-4B44D2A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D76B8-AA04-4EC6-B805-524F5CF1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BEE1A-B778-4B6E-BC85-8523F526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944E0-2CF3-47B3-A453-9D34592C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252EB-2163-4014-B628-414AF353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13E1-49F3-4811-A270-BCDD4DC2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21349-797B-4529-A704-8147C20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66E7E3-D911-4CBA-B20D-5763060D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CC014-6207-42E1-A48F-3E592A72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7DF10-47BC-48E9-B8F7-B9BFEC2A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9DBDD-7EBC-4B4F-846C-FC3A1B68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0313-921B-423E-B0BA-1F938E29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9DED-8677-43EE-A136-4475D202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F1D4-DA6F-4B16-A05B-5F7D29CC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6F28-0903-4FE3-9274-F73E16DC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F377-FD8B-4BD4-A75F-975CF59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258-8E61-4D7C-A51A-FB4658A2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33DD-F55A-47A0-8DA4-91E1EF68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A5E1-99C6-4DC9-9E42-56380D9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4874-7E23-4C33-8BFF-43564A5F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5B83-A994-4EA5-AACA-8D31F014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D7D7-B09B-42C4-8B12-3B2BA2C2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7290-9AED-4FBD-AF89-09F6A8FB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5C55-3F80-4721-9D4A-E4C037AB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6B2AB-5638-4635-9E76-77BD57F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B548-CF1B-41F0-9CD9-4309B22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541C-0349-4EA3-BD8F-5AE77FD5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F1D-F05C-4B20-952B-5332DDBC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57D60-C765-43D2-A5C5-E2B0923F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7644-675F-409D-A830-0259342D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788DA-16AF-4D32-A0CB-764810E2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752E-6160-481E-BE1E-95A0D6FB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6FA67-6F24-405D-945F-7CD9FC66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C9C0-3286-4FDE-AB8F-F3926BAD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F0B1-42DC-48A4-B7F5-72C02DA9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1A15-97F9-4C48-9D49-95F06B02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D7B4A-F703-4521-8B61-A85B4433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1A252-D056-420C-B8A6-ED3CA5DC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9B6B-4022-4A56-B5A5-F9D7192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F648-C785-4DB4-AB3F-B06835EA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476F-BA5D-44E8-848D-08A375D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EC2D-7156-4DE8-9807-F4E94757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DD88-2F5D-4876-BA33-311568BA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717F-957D-4C31-90E3-F7B60C73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EC57-AB7F-4F02-A54F-BD9977C2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B51B-36F9-48AA-A886-3A04FA36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2D316-E7CB-47D2-A961-7DC9E5A7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3060-B47D-49EA-93F2-B7C5E61E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B1F9C-56FD-46E2-B40E-3616B365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554-04B8-4DE3-AA3E-100300C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0A130-A2FE-4FC7-B9EE-EBB8004E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F436-59A3-4D8A-92B2-4E947BED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240B1-A643-43FA-A546-F6648E10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D60F-D815-492A-B65E-06FB0B93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E5A8-4188-4C64-B800-98AA2117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BAFF0-EE35-4B1D-B2D7-A74BF57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608A-5AC4-4F2E-996A-34B73B29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12D47-F241-404B-8644-2E36AC67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D5C7-A68F-4503-AA2A-1E4E0972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42C71-2E7D-42F5-8664-FD6BA775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EB6-8260-4BB0-AF35-23EA8541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7CD4-CD90-4BFC-88DC-CEE602AD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0F3BA-E242-4FFA-BB5A-8A4EA9D9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D77C-7749-43EE-AF3A-80ADE42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5BFE4-6E43-4701-B4BB-053110AC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5034D-BF01-4D20-9C7B-7D43CB79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5960A-D8DA-4A40-8E02-72ED25C1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E1ED9-49B5-4311-8750-B024432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4220C-D1F5-4054-B15E-322F604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1467D-DCEC-48B5-AC35-6FC1842F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67F6-4387-4412-83BF-593AD16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C79-CE4C-4EC0-BF6F-AC296D4A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4EE87-437D-42C3-94A9-DEBF508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BEF78-DE5B-490E-99CF-7062C1B6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C1AFA-1C03-46CD-AB23-393360DA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BA64-DF76-4DCF-B992-BD7DD045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C84A2-FCBE-48D2-BF45-65F696E7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93B54-B0FC-410E-8600-3E52249C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1D3B9-DF38-4551-9F76-C43EA66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CC784-1537-4F97-9B5A-B2C70F70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9B078-7F7D-4D8F-941C-A1820FF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1E8E6-EFF6-47D8-8666-682BE73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937-6B4B-4EBB-A0C6-C749751D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E359A-656A-4977-8FB8-5A3CDE2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3A8A9-2926-4F2B-89A2-689D3BB0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9622F-2719-4A83-8FFD-5E9669D9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CA33-F9A9-4DB0-B80F-57AA085B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A1FBD-CFD2-443B-8C3E-4AB0BEC1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495CF-68C9-479B-B73E-4381C18D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8513-9A80-4257-AB63-2DED89E6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0506-0F17-499B-95BA-22D13D31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C0E5E-8E74-4DCB-B598-E0C6C7F9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3AC57-FE36-416B-B699-95C46C04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CE6-C1B8-432B-934F-E9092D5B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97806-DBC2-41B6-9B0D-30979D4A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9D86C-0E86-4B4C-988C-56307C21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A47BD-20F3-4218-B483-9A33C8D7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F4EA-6014-4CFF-AB12-630317B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64FA8-987F-453E-8D15-CA5FA65E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93BAD-A9D3-4E7F-9D98-930CCF0C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54B5A-5F1A-409D-9A98-1D568EEF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AC787-8E21-408F-A99D-BB9E2576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FD7A5-A275-4B7D-BF17-AA15ABA1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C9F94-7423-48FF-B7BE-2CA4E03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A912-19CD-40DC-B37A-49887A35F321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0307-09F6-4A17-8B6B-ECFC01036DEB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6AA-638C-429E-9F17-BD99EF156828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8E3D-CD23-4E02-A790-56E381FA5C5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4157-33B3-41DF-9C0E-10477B39654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0C06-AA70-4ACC-AD7F-961C372EB14B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6801-8CFC-4902-9C05-9BC5C899C3E1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5D4-38EA-46C8-9E8D-71913F044946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D2F-FA11-4AF7-BA17-CC75ED1694D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38B-8C5A-4246-B5FB-FC8B8D28C0C1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BF59-D211-4B29-BBA6-248DDD397369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61FC-A495-4E8B-BED0-4F082A237086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CTION 9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88c"/>
                </a:solidFill>
                <a:latin typeface="Georgia"/>
              </a:rPr>
              <a:t>Factoring Sums and Differences</a:t>
            </a:r>
            <a:endParaRPr b="0" lang="en-US" sz="42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Sums and Differences of Cube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–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For general odd powers…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… -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… +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nd the fourth roots of 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 16 =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4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i , x = -2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 , x = 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– 6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ver the set of polynomial with rational coefficient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(x – 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4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16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over the set of polynomial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completely over the set of polynomials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 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(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– y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+ y 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605 – 606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4 - 7, 11 - 19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8:38Z</dcterms:created>
  <dc:creator>Laura Helbing</dc:creator>
  <dc:description/>
  <dc:language>en-US</dc:language>
  <cp:lastModifiedBy>Laura Helbing</cp:lastModifiedBy>
  <dcterms:modified xsi:type="dcterms:W3CDTF">2013-04-19T18:53:53Z</dcterms:modified>
  <cp:revision>12</cp:revision>
  <dc:subject/>
  <dc:title>Factoring Sums and Differences</dc:title>
</cp:coreProperties>
</file>