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B28-85E2-43A8-94EB-0E206094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583-C83F-44E5-B802-7575BEF4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7DCF5-5046-4945-A04F-2DB44F0B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344AB-870D-4677-A4B3-4C95FE3A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48C87-0935-456A-A96C-ADB7CE22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D0BAE-09E3-4E09-BBF4-40B9DA0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8598C-C3CB-4FFC-A13E-B819EA5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716FE-D987-458D-B20D-A83941E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548E6-9FAD-45D4-9184-AC69EAFA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39D12-4668-4522-94A3-8E96F0C9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587FC-236F-44EC-80E2-EB9FB98F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D5056-9E42-4146-B759-2E22A358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947-492C-435E-AA8E-CA69BEBD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A6A8A-62EE-4065-8EA8-8201B79D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14B28-EF3D-4F24-AC0F-56B1FB9B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E6562-B2CD-478E-BE42-B2529C9C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91C62-CD65-4355-A1C5-261C2C25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3123A-6A47-4718-985B-B1160B00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FEE75-417E-4C5E-A28D-3F45FCE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F55E4-5488-45AB-B544-AF418F2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C39A1-6493-42FB-954D-B1E313BB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9DFD8-D664-45D8-A141-BE6FAB62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EFB61-E57D-4881-98E2-5B9EB651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BC8-C784-4AE1-8C3C-FC4F7003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0A19E-F46D-4C28-A8A8-FC4927BB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EC850-2E62-424A-A314-83DB6681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34EF7-F5BA-4BA5-8BB7-0B7B7422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B9055-0631-409E-817B-43087F3C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E9CB2-7EE9-4FB9-BDB0-24BECA1C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4B291-0F57-4C85-9318-74E54941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77E0F-99B8-493F-9E1B-B2CFD308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CD1B4-248F-470A-AC2B-527C726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A7D4-286D-444E-A436-D0272A9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306CC-EA82-43FD-AD22-6C8A5DA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5882-AA65-460C-AA27-2068BA36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E6674-BF81-42D5-92AE-3C7C1EA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528C5-F873-4655-915B-680981AD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76BEE-B592-4824-9D9A-1FB4C679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E59C5-CA5B-4158-AF75-8461CF9E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9A3E1-4D2F-4249-AC35-43AEF6FC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D8CD1-B622-48C0-8547-54BE95CB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1C434-01A1-490E-A340-FE1DA296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25683-553C-4B6C-ABBB-5C6FED2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87925-2186-4920-AB45-4790DEEC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7DC7B-29AB-4E15-8D8C-ABC2991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8DF4-4280-4081-9EDD-61D55EF1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26D3F-6D13-452B-9402-93B0F866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0B155-F660-482F-936A-4821DDB7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914E5-981C-4719-B41A-1087FB4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3A86F-9842-4149-B89D-75E513C8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EEA53-5BF3-474F-B094-411B90F6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C540-4F28-49F7-B141-AC918AB5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E0B2-4139-49BE-B7EF-A27A103F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D4F6-ADD8-4C1B-BDC8-7BA1E11B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B646-C6D9-4721-A678-E435EC43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04BE-5B14-44A3-8B27-2C7E566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517-B5EA-4DC2-9CD7-A645C4BD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603F-B602-4B42-ADDE-FC47981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C778-9179-4C60-BB1D-123A1FC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DD3E-A30C-46AE-BF58-33DF0864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2FE1-5481-412F-911E-01BA132C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C135-24BC-42C0-9EE9-9A6219F1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2E23-C9B3-49CE-A824-6C8B3AF3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75ACD-89E8-4318-ABAA-064D9985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2B9E-C085-410F-8B7D-96FF64D8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108E-9774-4712-8099-4B6040D8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F6EF-A0E6-49A2-88DE-12E4B925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4C3-FD84-44A9-BD0F-B46D8DB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FDB8-F16D-4539-B301-6601BB87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6E60F-5AAB-4F77-8084-15769CA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F1B0-E8DF-4B7A-94EF-EDA5AB98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CA35-D91F-4644-8ECF-80C8FE18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0579-E6C8-4B9E-9A33-E7CD34D4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BB49A-7ACF-463A-BEFF-4C15C15B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DECF-F5FA-463D-BE05-288E0455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C7F5-2307-4B64-A3DC-FB5BB936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7501-887F-45D8-8F50-E3FC4306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CCCE2-EFCD-42A5-B8DE-01E65C8E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1E3-392E-417F-8A3D-64D319C4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3072-BEEA-4513-B845-ED059BB3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7D91-81E3-4019-AB59-E8E6F308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8A1B-2365-4C4F-B349-A6265487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8A0D-1787-4138-BE01-BB1BC014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C1E5-3200-4F29-A345-0FA290B9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D845D-D67C-4E36-B6E2-8A5AF53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05C5-DE29-473F-9065-1A2AD91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D3DD4-CC6A-4A6C-90F4-E334BB03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78EF-E5D6-458C-836E-CD31D885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C3BA0-E94B-44FE-8994-6A4FA67C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D38-5AFC-4DA7-8AC7-31F364E2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E907-F8A1-4B1B-8AF4-C8C831D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E5D88-041B-487B-AE2E-3A64F331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36E82-566E-4EEE-A686-D6CB2617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6CF7-B7C9-4BD3-ACB9-F4E850CD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B0BDB-F295-4494-8B82-F0DF7092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01B3-E554-42F0-92A2-1179EE20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4D31-3CB6-4253-A4F5-A66086B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95E2-C28B-445C-945A-FA495CD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AB0E1-D34F-4FC8-B307-B46D598D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DCF96-EB93-426F-9EBC-742DD7AB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50D-A707-4898-BC19-70A8C2D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8E7E5-D215-44B4-B893-0E4899D5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6EF8A-6C62-41C2-AC01-39116254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A0895-632B-4437-9927-AE4EE156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55DB-6233-4E57-A157-4D7C74F4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AB25-C0CA-4C16-9D19-5E20B374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96866-FE31-4DE7-8B57-E5B98EA2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1A2F5-A84B-4919-A394-58B0E93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6EAF-24FB-41DD-90B9-EC9FE5C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F547-935C-46A9-93E8-CB760ACD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6499B-F10D-4BA3-957A-CA73AB4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706-2EDB-47BD-AB82-3DFDBFF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3C6A-02AD-40A2-B87D-4ACC26F4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0AA2D-F1BE-4059-94F3-5F56657F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CBD8-DFF4-41DF-B0B8-965E15E1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3DDD-0CC6-4DB4-9CC4-79F3572C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A8E16-F73A-4003-BCB4-935366CC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47DE-9BF5-4444-AEF7-947CA782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49C8-4A05-44C1-9E2C-1E652FDD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5971-3DEB-472A-8864-7F2FE6C9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754C-A4F4-4153-B6EE-AC609BCC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CA66B-B05B-4E1D-A944-D8BF0EF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76C-75C6-4A5A-B7EC-67A11CE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D2C6F-C8A1-427C-A51A-8F14F29D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38765-B537-4A83-9B33-92A0701D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53980-7FB0-4C67-91E0-15764A7E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26EFD-4940-4F17-B0BD-A4612C62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5337-70CC-44A5-A711-DDEC0A45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E18B8-9123-44F5-8062-51125B9D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F5CC-377A-4FDA-AC45-62C66CBA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7A29-3DD3-40F7-956E-A3C7C716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15B8-7C55-4C1A-B9E8-C1030304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C4DBD-B122-48D1-8352-13FFCBCA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EDF-6A15-4365-9E00-32A98FD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B8395-57F5-4E17-9EED-AE4CBD95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F225-5E77-483D-B03A-E14AEFA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67C3-D7A4-4CDE-82CC-8AC1594D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93D28-A4C3-4F9E-95B1-9CD019AC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48898-F526-4821-A507-CE6A8672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FCF94-94D1-406B-8643-49095686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11E7-4CAD-4162-B26C-5D32BFAB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C17CF-1258-4A70-9CB5-7642B4C4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AC73D-9AEB-4E39-BACB-E29400A0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41579-75DA-4F48-A713-58D8D6E0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C0E4-068E-43C5-BBE1-3B546642FA35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6943-9637-4FD5-A067-AB5E829254A6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3B2-3166-4D79-9E36-F578C2747393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820-85DD-4D2C-8FCD-A60279AF054B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8FA-C476-4182-B075-12337A6371DD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EB36-2F43-4178-A6E2-9BBAE836E91D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7C69-A427-4D44-9973-08DCEE6AE052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19AF-8C7E-4809-9D50-6E5777535019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E3B-FA15-4AE1-8FF7-A3784FFC7AC3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D3BA-77B4-4270-BA24-65F97A0F3FF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DF0C-DB6D-4FE8-911E-F227E8F6623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9302-CBEF-4597-90B2-D54D1863DDC3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SECTION 9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88c"/>
                </a:solidFill>
                <a:latin typeface="Georgia"/>
              </a:rPr>
              <a:t>Factoring Sums and Differences</a:t>
            </a:r>
            <a:endParaRPr b="0" lang="en-US" sz="42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Sums and Differences of Cube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–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For general odd powers…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–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… -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… +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ind the fourth roots of 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-  16 =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+ 4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i , x = -2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 , x = 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– 6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ver the set of polynomial with rational coefficient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(x – 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4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16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over the set of polynomial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completely over the set of polynomials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 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(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– y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+ y 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605 – 606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4 - 7, 11 - 19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18:38Z</dcterms:created>
  <dc:creator>Laura Helbing</dc:creator>
  <dc:description/>
  <dc:language>en-US</dc:language>
  <cp:lastModifiedBy>Laura Helbing</cp:lastModifiedBy>
  <dcterms:modified xsi:type="dcterms:W3CDTF">2013-04-19T18:53:53Z</dcterms:modified>
  <cp:revision>12</cp:revision>
  <dc:subject/>
  <dc:title>Factoring Sums and Differences</dc:title>
</cp:coreProperties>
</file>