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95E-C0C5-4BFC-B960-2DE548D8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E1B-0B94-4A2D-9045-6BEC6B56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D3E-F92C-46E3-A4C8-46E0C616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9EA-ECBF-4EBE-9D53-4D5C95FA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3667-6646-4897-81C9-E1188431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22A2-52AD-4479-888D-390E5328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CA80-ADD8-4F0A-9685-AB4D6361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589E-270C-45D6-8544-0E4F3DF0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5309-1D54-457A-968C-495E1349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D99A-9566-48F9-B273-AA44C4E4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198D-0690-4B24-ADA2-D579B3D5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800-A45B-4330-BD81-16729F5E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EDBF-D5F5-410A-BB8E-C73D1B22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CC77-71CF-435E-B4EF-E9DD1332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BEBD-F76B-4854-B12B-0286BEA4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A277-9E0A-4244-B42F-A4395E8F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8A7A-1DBF-4899-9D74-CC4E6E8B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4654-7654-4D84-AA70-633736D6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CB535-222D-45C7-87A5-363189A0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8EFE5-8479-464D-9B80-B8362473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F3C3-3EC9-45A0-9101-1AF30AD0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015FE-BA60-44EF-ACAB-928EA1F2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DCB-40FD-4F0A-A7C9-BE5E9EE8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3C65-9443-41EB-A0CA-E5422CAE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C3EBB-E28C-419E-8022-7D1395F0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44981-B783-4B62-8793-FB4422EC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7FD92-A5A1-4BB7-A510-F49AA397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5EA99-4689-44C5-ABC4-8783A056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820A9-AB87-4C9C-AD4D-4D2181F1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B7CFE-DE0A-4D7E-A8C4-8CD3628C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7E3DB-F880-4BAD-8DE6-31F8236E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54B2F-3FE9-4F1E-A8EC-B77A04AB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F2BA1-5590-424A-A4BD-FCA8AA16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FB2-23D8-4DA8-A75C-A2C3B545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1F5A2-07EA-4030-9392-C31A2725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8B6D3-8228-476F-A131-A57D4F9B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7CC43-CFB4-4880-ADF5-A7096688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89416-32F5-49E4-939E-D643EFCF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23173-CC07-41F4-B388-E7931C38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27E81-AEBF-4C07-9209-214B2C14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2001E-871C-49A0-9C72-88EE4476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5C88B-05CA-4958-985F-0A7A93BF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DE27C-5E50-4C25-B161-B6005C7F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0CC35-D210-44BD-8B86-6A59ED29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24F-73F1-4EFC-9C9D-2AF5F942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C9E90-F154-4CA5-8CCB-AAF20BA7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DFFEA-9901-4EC4-BBB3-48B05DF4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589CC-AACF-4461-836D-1368C7F2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099A5-BE75-4E66-8186-5A7DCD4D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139CF-5D44-41EC-80AB-D8E3B45E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37C96-B3DD-41C6-A069-F3436DAF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5DEF6-69C0-4E7D-9905-0900A892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8B0A4-76C3-451D-A095-7774F0A4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62C60-3075-486E-B9D9-8129539E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CE34C-486E-4894-8F2A-1943955E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0A5-7318-4215-8370-23EF9B4E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D2FBE-E1B5-4B4A-B031-72AF9C75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F691C-C807-4A13-9536-A7B37750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F319B-88A9-4426-9C4E-A85A661D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39D71-4AA1-49B8-B26B-760A9821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7DB2C-5683-4A2D-A513-428B5B3E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0A116-C2C1-45C8-AD17-1778A8D2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EC948-1650-4D13-BE70-090AF74A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1EDB2-9421-4EEF-A542-C5BEA37D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9F1F0-A8AE-4680-867C-3E00C1CB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5A1D1-2E07-4B87-B57D-3333A42D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707-BD58-4AB3-B924-0244A564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8F822-76F6-4810-A9E5-9FA0453A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321C4-91AC-4353-8D4E-AC6D40AD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46DF3-6933-40FC-806E-8A760ABD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70523-5C5C-4AEF-BB56-49106CC7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D69E0-D309-401C-98D9-B7C63E6C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D6442-BB04-42C5-9FA6-020DEAA2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FE8E8-48A2-4533-8645-CBD4E06B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BA06D-39F3-4DD5-8F3B-C8436203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80316-B2E4-48D4-91F1-33DF08A8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41A11-F5B4-4D1A-A500-E6E980AE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9DE-104A-41BA-B15B-E3DA6AE5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E2C14-F436-4942-9809-52FA24FA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7CC2E-B6A4-40E4-A073-86FD79A0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FAB31-81D8-4A22-BF41-0AA6E515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94847-93D9-44A2-9FCC-33D72F86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BAC6E-C0E7-498E-9AD0-CB1945E1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171F2-CA92-4EFD-9373-6FB5C2D7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E1FDB-40B3-40B8-956E-F5218529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AD559-2E93-4EED-BD5F-82E1B322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91D94-72B6-48EC-9EAA-1F132116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F061C-0691-4D75-8B25-0C90D9DA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760-49DE-49AF-9F1D-0D3B0FA7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89A0C-046E-4B27-9A43-50474F52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7FF58-2F99-43EF-A958-FD43768B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DF159-9E82-423D-BCE9-B5CBC9B9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39F7E-135C-48AE-83A5-E1CF3CFE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BBC65-458E-49C0-A1EA-6678777C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9C6D2-73D2-44DB-9739-2D06A3C3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79019-B40F-4F22-94F8-64E8AF2A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F314-2D51-4736-9DD0-2128B787C03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42CE-04DA-4D81-BEA8-A3516D8CF0C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8F78-56B6-4199-8D4D-79C068B769A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0FF3-EC7D-4204-A6F6-466BF7DDEFE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846D-C2EB-4B90-97DA-652F2DEAE8C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A531-9EDE-482D-8296-0F6157F583B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9462-B19E-4777-9B2E-2A983003E01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AB01-13EB-42FA-A414-F06C9F33AAF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87440" y="1749600"/>
            <a:ext cx="846756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9.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der the equation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8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68t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ify that 2i is a solu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+ 8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68(2i)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0 +-136i +-32 + 136i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8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. Find the remaining solutions and their multiplic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- 2i  so x + 2i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4  divide throug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x – 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5x – 3) (x + 4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3/5, x = -4, x = 2i, x = -2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-231840" y="-152280"/>
            <a:ext cx="846792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ind a polynomial of smallest degree that has real coefficients and zeros i + 1 and 3i + 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hange them: 1 + i and 1 + 3i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o also 1 – i and 1 – 3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(x – (1+i))(x - (1-i)) (x – (1+3i)) (x - (1-3i)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(x -1+i)(x-1+i)(x-1-3i)(x-1+3i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– 4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+ 16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- 24x + 2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 Unicode"/>
              </a:rPr>
              <a:t>Pages 600 – 601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 Unicode"/>
              </a:rPr>
              <a:t>4 - 14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-262080" y="-85680"/>
            <a:ext cx="8498160" cy="9032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0" y="68544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undamental Theorem of Algebra: Every polynomial of degree n ≥ 1 with complex coefficients has at least one complex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icity: has a zero repeated more than o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mple zero: is not repe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g.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9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9x + 14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+ 7) (x + 2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0 (mult. 2), x =7 (simple) , x = 2 (simp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225360" y="444600"/>
            <a:ext cx="7705800" cy="1341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2"/>
          <a:srcRect l="12502" t="10001" r="69377" b="67005"/>
          <a:stretch/>
        </p:blipFill>
        <p:spPr>
          <a:xfrm>
            <a:off x="1219320" y="1841400"/>
            <a:ext cx="63244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mber of zeros of a polynomial:  A polynomial of degree n with complex coefficients has exactly n complex zeros, if multiplicities are count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p(x) be a polynomial of degree n ≥ 1 with real coefficients. The graph of p(x) can cross any horizontal line y = d at most n tim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ind all the solutions and their multiplicities to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2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+ 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– 6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(2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+ x – 6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(2x – 3)(x + 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0 (mult. 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3/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-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rcRect l="12502" t="12000" r="68751" b="65002"/>
          <a:stretch/>
        </p:blipFill>
        <p:spPr>
          <a:xfrm>
            <a:off x="295200" y="380880"/>
            <a:ext cx="8163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d a polynomial of degree 4 that has simple zeros -4 and .125 and 3i with multiplicity 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x + 4)(x – 1/8)(x – 3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x + 4)(8x – 1)(x – 3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(31 – 48i)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(-76 – 186i)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(279 +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4i)x + 3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graph of a polynomial function y = f(x) has 4 points in common with the x axis and 6 points in common with the line y = 5.  What can be said about the degree of f(x)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gree is at least 6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(x) is a polynomial with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 rea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efficients.  If the nonreal number z = a + bi is a zero of p(x), then its complex conjugate z = a – bi is also a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*note: only the imaginary part switches sig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57:06Z</dcterms:created>
  <dc:creator>Laura Helbing</dc:creator>
  <dc:description/>
  <dc:language>en-US</dc:language>
  <cp:lastModifiedBy>Laura Helbing</cp:lastModifiedBy>
  <dcterms:modified xsi:type="dcterms:W3CDTF">2011-04-18T00:51:17Z</dcterms:modified>
  <cp:revision>85</cp:revision>
  <dc:subject/>
  <dc:title>Nonreal zeros of polynomials with Real Coefficients</dc:title>
</cp:coreProperties>
</file>