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2CB-F3AD-4421-ACC8-E9220AF0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698-116D-4BF6-A83B-7E1A473E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6E3-D19E-4F9B-BD62-9981981B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797-52A0-4B8F-BA6A-700A6B9C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ADB9-66E7-43A1-B13B-23AFA4F7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2464-49FC-43A1-8407-73B5A0C7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5910-2245-461D-A46B-E317ED7F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31F6-2D1B-44BF-9738-B55DB95B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53A5-4C62-4E5D-8C11-91D4017E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7DEA-1E3E-4A4D-A968-E204346E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053C-3E63-4C08-90CF-6C4AA232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D78-7E0E-4507-93FD-64661D29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4CBF-6503-4F6D-A4DC-E106668E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9301-5E8E-4142-A24A-5E88537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6560-1520-4DDE-B20E-CDBE5E9E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B11C-A0A8-4E8E-A914-30C9214D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E852-13E2-4DD7-A970-08B46165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91A09-AE7F-4845-BC10-5F8EEF4A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E81D8-6A6E-4FF5-A460-7306C665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6FF7-A9C8-4F5A-8F71-B803B4A8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F905-E304-4687-88AE-31F0B845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A247-5E65-495A-ACED-DA60558F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775-B9A9-4BD1-9714-1C944CC2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2AAD-FEE0-476C-940D-553CB341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45C16-0AD7-4CD8-A0CB-88FB3F9D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1FCD-1942-46AA-8B92-96CA181D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7C5D-FB1E-4794-AA76-48EC0C05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09BF-6197-49F1-9DF9-69A8114B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B90A-2E6C-4BDE-8873-0CCF195A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4A242-1426-4977-8228-CBF536ED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3B5A0-347A-4AC3-9837-816AABE6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B2FF-AF40-4A57-9D44-490563AE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889AA-B094-40C2-91D0-105D7CB7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A05-D42E-4D0E-B0E7-11D956F8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FD0F9-7FED-4FC2-AEAF-20D09920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2C732-37BC-4E75-831D-0E74C62B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81D9-5B53-4397-994A-A58097A4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A86A-9AAA-4988-9D14-47DCF244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A4971-F089-41E4-8ECF-9286D0D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60DF-D0E7-43D6-8DF5-43D2A845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2585C-02B6-4C9D-A864-549663AA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08B10-78AC-47B5-AADD-4D891E21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55344-18AF-4B20-875F-873CE7D4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9B707-EE8A-4F96-A5CF-53F6C7EF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10C-5FBE-4410-95EF-738D183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ABD3-1353-44F4-A0E4-555B4AF4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411D8-5065-4982-8B32-366C5272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5BB5B-2AF1-4E02-BF69-22509631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3ABB4-A5F7-41D6-BFC9-C7C0935D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6A12D-86D8-49F6-BEB7-72800F14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C197F-9259-479C-A6FA-EDA3BCA5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42974-B8DE-4D71-B9CE-25096E7E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ABB6A-F172-43C1-82AC-90C9BB1A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852E4-BDC3-4C2A-8735-3AA60CF2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AA013-B172-4DFC-9772-C586459C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47F-5C9C-4665-8B88-7345F44E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97897-9176-42D4-96AC-39DAB179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F2F6F-BDA6-4891-9511-43B907E1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10E68-3388-4359-B47F-5B9974F3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7774-15C3-4EB2-96F5-5780FF8F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A5133-7ECC-4CA1-9E1B-5DC184C2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BBFD-5AA0-4D2B-906A-96973910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183C1-3098-45B8-B91D-B8F8318A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B399E-214F-48B1-8B3D-C1AFC2D3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CBAB8-540E-4268-B17E-35DA4FAA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96137-F687-4C29-8A43-942CF88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57A-3C4C-4BBE-B2C8-4C159C54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EFDBA-D559-4858-8664-AE0CBBB0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5D0BD-32E2-41E9-BFD8-D1709141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A1603-1907-41D3-B28D-9375C262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38018-F279-4303-95BD-126C3E13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04829-8A8E-4ACA-AE55-A34BE1C9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1DB82-3D91-42BF-9880-408B509A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8DAF2-CA50-43A4-B1E2-D7362DA4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E8C1-1557-4A59-BEF7-B8A8426F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7F98B-054F-43BF-A70C-E67787C7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4DF0C-83BD-4CA1-B6E5-7A01AF01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D7C-6A66-4B6A-B0F5-ADB6159B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1B011-6CD6-4008-AA87-C6438795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9E4E0-319D-4BB0-A7DC-E26F7D50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827DD-C10F-4EF6-AEB9-6F2E69A8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99389-E66E-4540-BE85-AF4EF64D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14E49-8125-4A33-AB05-70E17A63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CB83B-143B-40C0-A9F1-25224035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24271-DBD0-4A33-BB0F-A6731B24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2D6B8-1B22-4DD2-8499-198DB1D3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6D906-3605-4B4D-965C-8110DBA9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E3A68-50E0-43CD-AAEA-D780764C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926-597B-45FE-9154-D553E0D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2423C-8C34-4C6C-AD53-C3E629A1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781E2-DD6A-4C35-970C-C4A0364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B448-0825-41B1-BAA6-8DD0729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B3DC-733C-4683-A839-6545B954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19BC-355A-43FD-8C48-2FF0ECDC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2A426-D3A7-4FC8-BE67-793A91C5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F0032-4221-402F-BC8F-DD58C9B8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0E9B-2F8F-4F5C-A6DD-4A9F1BCB23D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1610-125E-4468-9C88-311E516B096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6784-B1B6-48DE-8A63-F202F96960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06E4-9368-43A6-95D2-FE78F5A17CD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32D9-62F1-45C2-8EC2-85B1148A39E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7F17-1BE5-4CD0-BA89-02025ED2CFD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1A6-3717-498F-97CD-9952D4EBC64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F293-8875-4945-96FB-217F9B2049D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87440" y="1749600"/>
            <a:ext cx="8467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9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der the equatio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8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t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ify that 2i is a solu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+ 8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(2i)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 +-136i +-32 + 136i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8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Find the remaining solutions and their multiplic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- 2i  so x + 2i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4  divide th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x – 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5x – 3) (x + 4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3/5, x = -4, x = 2i, x = -2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-231840" y="-152280"/>
            <a:ext cx="846792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a polynomial of smallest degree that has real coefficients and zeros i + 1 and 3i + 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hange them: 1 + i and 1 + 3i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o also 1 – i and 1 – 3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– (1+i))(x - (1-i)) (x – (1+3i)) (x - (1-3i)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-1+i)(x-1+i)(x-1-3i)(x-1+3i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– 4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+ 16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- 24x + 2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Pages 600 – 601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4 - 14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262080" y="-85680"/>
            <a:ext cx="8498160" cy="903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0" y="6854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undamental Theorem of Algebra: Every polynomial of degree n ≥ 1 with complex coefficients has at least one complex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icity: has a zero repeated more than o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mple zero: is not repe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g.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 + 14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+ 7) (x + 2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0 (mult. 2), x =7 (simple) , x = 2 (simp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25360" y="444600"/>
            <a:ext cx="7705800" cy="1341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2"/>
          <a:srcRect l="12502" t="10001" r="69377" b="67005"/>
          <a:stretch/>
        </p:blipFill>
        <p:spPr>
          <a:xfrm>
            <a:off x="1219320" y="1841400"/>
            <a:ext cx="63244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zeros of a polynomial:  A polynomial of degree n with complex coefficients has exactly n complex zeros, if multiplicities are coun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p(x) be a polynomial of degree n ≥ 1 with real coefficients. The graph of p(x) can cross any horizontal line y = d at most n tim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nd all the solutions and their multiplicities t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– 6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 – 6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 – 3)(x +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0 (mult.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-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rcRect l="12502" t="12000" r="68751" b="65002"/>
          <a:stretch/>
        </p:blipFill>
        <p:spPr>
          <a:xfrm>
            <a:off x="295200" y="380880"/>
            <a:ext cx="8163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a polynomial of degree 4 that has simple zeros -4 and .125 and 3i with multiplicity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x – 1/8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8x – 1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31 – 48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-76 – 186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(279 +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4i)x + 3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raph of a polynomial function y = f(x) has 4 points in common with the x axis and 6 points in common with the line y = 5.  What can be said about the degree of f(x)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gree is at least 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(x) is a polynomial with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 rea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efficients.  If the nonreal number z = a + bi is a zero of p(x), then its complex conjugate z = a – bi is also a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note: only the imaginary part switches sig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57:06Z</dcterms:created>
  <dc:creator>Laura Helbing</dc:creator>
  <dc:description/>
  <dc:language>en-US</dc:language>
  <cp:lastModifiedBy>Laura Helbing</cp:lastModifiedBy>
  <dcterms:modified xsi:type="dcterms:W3CDTF">2011-04-18T00:51:17Z</dcterms:modified>
  <cp:revision>85</cp:revision>
  <dc:subject/>
  <dc:title>Nonreal zeros of polynomials with Real Coefficients</dc:title>
</cp:coreProperties>
</file>