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BAF6-E1F2-43F2-8057-28978371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3C5-08EF-42DB-BFF9-CE5013E8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FA8C-D2EE-481E-B691-27BFF7E0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CB47-AE8B-4DE9-AFCC-D5BC6716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5B23-115C-4739-8D2C-1E1FE56A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EBC0-CFF4-4718-B2B5-11171265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6849-8092-4577-9656-FEAC2FAC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A5B0-50C0-4321-B3BF-B4FB8738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7D9D-FE7A-4FBB-BDDF-E2FEFF84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6B38-4D90-4882-80CA-535AA9CE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04F7-A164-488C-936A-5263A855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EA70-8E18-416E-B617-BF29DFEE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C901-99F4-4919-A7C0-A8D0A897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90BA-A488-4E7C-BE30-E58E3C8D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633E-7765-4859-9B02-B1CC5E8D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392D-21AB-4D13-9358-BBAA449D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1920-813C-445F-83BB-529845A7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A1860-4F02-44A0-9913-A98EF662A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31BFE-92ED-4994-BEFE-38F6BC7D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30976-BA35-4DBD-A3F7-00AC725C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65102-718C-4B51-9A92-05A8E7D5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383E5-60DE-456C-9266-52F2B557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74CC-E50C-4885-B468-881B586D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2E46C-148B-44C2-9C29-0E51F8B7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CEF94-E265-4B0D-BDFE-C2030AC6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CF9E6-C36B-45C8-A431-11658616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8DBDE-247B-474B-9CC6-B204F38F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695EB-BA07-4F02-B445-481013E8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BE52A-CF75-433B-8001-239115B0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FB27E-AB44-4477-A3CB-06F93D15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76A2D-2FE7-43A1-A60B-5753FD7B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7C066-2BA9-461C-BCEA-0F5B6D84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FAD02-F236-4D16-9D42-DFDBB7D9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2889-BBD0-42E0-9497-C5A6BA6B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E3B89-45AC-4721-844F-F7F20604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2BBB6-C19A-4369-B51A-8E0FDFD6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5F65D-14E0-46D0-B711-74FCC190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E67B4-DAFC-40C9-9611-8804CDEA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882FF-B0A7-4728-AD22-F00E73D2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6156E-A6D3-4AC2-9B15-6D75C0D4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76978-DA18-4EA7-B6CD-2905CC30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B2FC0-83E8-4CA9-BB85-E2AD837E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74274-33FE-403A-9C9C-103E4880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20EC8-56CE-4EDD-865A-97BAD72D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7685-2043-4E94-B9D6-4E7BE277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98423-A2A5-4EBC-9859-0DF44A61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3E7C5-7426-4A98-9341-FBA89C20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DE79C-3D88-4CD9-8E51-F9B19C42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9D27C-B404-4FFF-9062-49BD39AE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8C1A0-718E-4E62-A01D-866FF0E2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E86DE-7A5A-4A35-A72A-575B061C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A41EE-49F5-44D8-8E84-AABB3001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FFFD7-7CCD-4A09-B2DB-895E0656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773B3-120F-479C-AE32-D1E3E093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5A66F-64A5-4310-BA66-FDFB7B47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859D-61B1-489F-B1C9-BD5DAA97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8E244-504E-4BE4-8720-CCAC6731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1632D-9BAE-4350-9AF8-AE2FC16C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11224-D852-4488-BFB5-A662D9B3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19F34-BAF9-4DC6-9DAE-1034B92E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A66DD-2E5A-4EE3-B339-E69B2A84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BA2EE-84E3-4921-8217-7EAB060C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3FD63-E9F8-404A-AF47-EFCBB909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7E8B6-643B-4728-B36D-CDDD3E80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4D181-F0FC-4248-864D-C5E90F90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43EA0-F999-4FDC-A4EC-0AEF2C29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A7F5-C6CF-444E-9CE8-60E5E1C9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32BCE-AA55-44E0-BF04-716D01CC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09FD6-1C8B-46C9-9EFC-C5D886B6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9FD2E-7FBB-423D-AF73-1E809502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4FDAD-9560-4199-801F-EF25C68C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4DCC1-90BE-4D90-89D1-BC97F4D6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290A5-2C74-438D-9F85-1DA95BA8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7B7B3-4920-480E-88B3-A5C33D2C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6E38D-62CB-4460-AFC0-123CE2F1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D8B74-A7B6-4DC2-B08D-EEA7E57B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4F5D7-E3FA-43BD-8DE2-42A12354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A262-5A15-4354-AF90-9E968AC8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7E13F-8BEF-4994-A4C1-B247A970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944F1-9941-4BC9-9BBA-0DF7E660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E96FB-B00C-42B8-8F81-5AD44DA1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DA1A8-F594-4A3A-A9F1-E36D61EC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8195B-390F-4F8A-A7F2-BDBB464B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859C1-29D4-4B3E-AF35-9EB1B4E5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94E70-30FB-4540-BCAE-2F3DECEE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FCC96-B35E-4FDE-AC89-56CB50B0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D3271-D19A-437D-A8EA-42E0F5AC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943E0-73B4-4154-A83E-7F4DA112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A1F1-9417-4323-8B1F-8A5799A6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E9379-2E70-4D93-9E8A-177B5B82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69751-2518-41B6-A472-FCED5469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C2F2B-BE50-47E7-BFF2-D7A59DA0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59DD9-127F-4F81-8AB3-F670626D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0AA82-F58B-4909-8BA1-17F6E12B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FA3C2-5D10-4767-AD34-9100FCA3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2F997-C8CD-4308-8E5E-097C92B2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FFD3-F06C-4D17-92EA-B8BAB9D1084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3E65-0D14-4EF8-9805-BFB6DFFABDF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E374-4BA3-4925-B4CC-77CDFEE70CC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8C55-1BBA-49BB-A83F-E03CD969206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7BB2-95B4-44E8-AC98-EA11BA17B83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81FD-A7DF-47EC-BDF5-9A362B8123E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5C88-4F81-4E4F-AEF2-9E56456C22C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0541-CE6C-4814-878A-F121F391021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487440" y="1749600"/>
            <a:ext cx="846756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Lesson 9.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ider the equation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t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17t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8t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68t = 4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rify that 2i is a solu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(2i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17(2i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+ 8(2i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68(2i) = 4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80 +-136i +-32 + 136i = 4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8 = 4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. Find the remaining solutions and their multiplicit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- 2i  so x + 2i 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4  divide throug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17x – 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5x – 3) (x + 4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3/5, x = -4, x = 2i, x = -2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-231840" y="-152280"/>
            <a:ext cx="846792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3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0" y="14810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Find a polynomial of smallest degree that has real coefficients and zeros i + 1 and 3i + 1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Change them: 1 + i and 1 + 3i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So also 1 – i and 1 – 3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(x – (1+i))(x - (1-i)) (x – (1+3i)) (x - (1-3i)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(x -1+i)(x-1+i)(x-1-3i)(x-1+3i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– 4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+ 16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- 24x + 20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Lucida Sans Unicode"/>
              </a:rPr>
              <a:t>Pages 600 – 601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Lucida Sans Unicode"/>
              </a:rPr>
              <a:t>4 - 14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-262080" y="-85680"/>
            <a:ext cx="8498160" cy="9032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0" y="68544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undamental Theorem of Algebra: Every polynomial of degree n ≥ 1 with complex coefficients has at least one complex zer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ltiplicity: has a zero repeated more than o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mple zero: is not repea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g. 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9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14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9x + 14)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x + 7) (x + 2)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0 (mult. 2), x =7 (simple) , x = 2 (simpl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225360" y="444600"/>
            <a:ext cx="7705800" cy="1341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Picture 5" descr=""/>
          <p:cNvPicPr/>
          <p:nvPr/>
        </p:nvPicPr>
        <p:blipFill>
          <a:blip r:embed="rId2"/>
          <a:srcRect l="12502" t="10001" r="69377" b="67005"/>
          <a:stretch/>
        </p:blipFill>
        <p:spPr>
          <a:xfrm>
            <a:off x="1219320" y="1841400"/>
            <a:ext cx="632448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umber of zeros of a polynomial:  A polynomial of degree n with complex coefficients has exactly n complex zeros, if multiplicities are count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 p(x) be a polynomial of degree n ≥ 1 with real coefficients. The graph of p(x) can cross any horizontal line y = d at most n tim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ind all the solutions and their multiplicities to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2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5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+ 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– 6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(2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+ x – 6)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(2x – 3)(x + 2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 = 0 (mult. 3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 = 3/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 = -2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rcRect l="12502" t="12000" r="68751" b="65002"/>
          <a:stretch/>
        </p:blipFill>
        <p:spPr>
          <a:xfrm>
            <a:off x="295200" y="380880"/>
            <a:ext cx="816300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6840" y="16002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nd a polynomial of degree 4 that has simple zeros -4 and .125 and 3i with multiplicity 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 x + 4)(x – 1/8)(x – 3i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 x + 4)(8x – 1)(x – 3i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8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(31 – 48i)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(-76 – 186i)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(279 +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4i)x + 3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graph of a polynomial function y = f(x) has 4 points in common with the x axis and 6 points in common with the line y = 5.  What can be said about the degree of f(x)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degree is at least 6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(x) is a polynomial with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 real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efficients.  If the nonreal number z = a + bi is a zero of p(x), then its complex conjugate z = a – bi is also a zer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**note: only the imaginary part switches sig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3:57:06Z</dcterms:created>
  <dc:creator>Laura Helbing</dc:creator>
  <dc:description/>
  <dc:language>en-US</dc:language>
  <cp:lastModifiedBy>Laura Helbing</cp:lastModifiedBy>
  <dcterms:modified xsi:type="dcterms:W3CDTF">2011-04-18T00:51:17Z</dcterms:modified>
  <cp:revision>85</cp:revision>
  <dc:subject/>
  <dc:title>Nonreal zeros of polynomials with Real Coefficients</dc:title>
</cp:coreProperties>
</file>