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A024-361C-487A-B1AA-F685895BB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A886-A795-4ADD-8512-EA16ADD94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646-4FF5-4224-8406-56BDEC56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B02-168A-4385-9D25-B363414E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68DD-50D7-4F7F-8613-4E0B784E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118-1DE5-4DF1-AA6A-A472E48C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769-5E89-41D3-AC68-6541A669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DAF-AEAE-4259-A1F6-5BD07B44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B55E-8E35-4283-909F-850140FF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242-335C-4F39-84D6-A776DA16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FFC9-1416-4324-81AF-7DD628C2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1EC-3893-4542-95D9-DCAB182D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2B1A-9B83-4EF8-887B-0D3F911E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A89B-1FF8-4D57-B213-C5E2535A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DE91-7A7A-4931-9F08-4533350EFAB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560" y="1341000"/>
            <a:ext cx="774216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Complex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87200" y="1943280"/>
            <a:ext cx="74451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19340d"/>
                </a:solidFill>
                <a:latin typeface="Arial"/>
              </a:rPr>
              <a:t>Lesson 9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Remind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Complex number: a + bi 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a is the real part and b is the imaginary 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Conjugate of a + bi is a – 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(a + bi)(a – bi) = a</a:t>
            </a:r>
            <a:r>
              <a:rPr b="0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 + b</a:t>
            </a:r>
            <a:r>
              <a:rPr b="0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3357720" y="4714920"/>
                <a:ext cx="196200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Write the square roots of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Without using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Using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2357280" y="3143160"/>
                <a:ext cx="37054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2441520" y="4784760"/>
                <a:ext cx="33958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13880"/>
            <a:ext cx="82440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Let w = 1 – 2i and z = 6 + 9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Express each of the following in a + bi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w +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b. w – 3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c. w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d. z</a:t>
            </a:r>
            <a:r>
              <a:rPr b="1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2000160" y="2357280"/>
                <a:ext cx="19368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1857240" y="3500280"/>
                <a:ext cx="40356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6215040" y="3571920"/>
                <a:ext cx="30718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5"/>
              <p:cNvSpPr txBox="1"/>
              <p:nvPr/>
            </p:nvSpPr>
            <p:spPr>
              <a:xfrm>
                <a:off x="1143000" y="4786200"/>
                <a:ext cx="278604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3929040" y="4863960"/>
                <a:ext cx="242892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6715080" y="4786200"/>
                <a:ext cx="17496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1000080" y="5715000"/>
                <a:ext cx="3014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3571920" y="6192720"/>
                <a:ext cx="3286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0"/>
              <p:cNvSpPr txBox="1"/>
              <p:nvPr/>
            </p:nvSpPr>
            <p:spPr>
              <a:xfrm>
                <a:off x="6500880" y="5857920"/>
                <a:ext cx="24001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Factor x</a:t>
            </a:r>
            <a:r>
              <a:rPr b="1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 + 9 over the se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Polynomials with complex coeffic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x</a:t>
            </a:r>
            <a:r>
              <a:rPr b="1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 + 9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x</a:t>
            </a:r>
            <a:r>
              <a:rPr b="1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 = 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x = 3i, -3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(x – 3i) (x + 3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82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Express                      in a + bi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1571760" y="857160"/>
                <a:ext cx="170964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3"/>
              <p:cNvSpPr txBox="1"/>
              <p:nvPr/>
            </p:nvSpPr>
            <p:spPr>
              <a:xfrm>
                <a:off x="0" y="2857680"/>
                <a:ext cx="1709640" cy="16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928880" y="2928960"/>
                <a:ext cx="191772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5"/>
              <p:cNvSpPr txBox="1"/>
              <p:nvPr/>
            </p:nvSpPr>
            <p:spPr>
              <a:xfrm>
                <a:off x="4429080" y="2786040"/>
                <a:ext cx="394020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285920" y="5200560"/>
                <a:ext cx="248760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5072040" y="5200560"/>
                <a:ext cx="274644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Solve 2x</a:t>
            </a:r>
            <a:r>
              <a:rPr b="0" lang="fr-FR" sz="3200" spc="-1" strike="noStrike" baseline="30000">
                <a:solidFill>
                  <a:srgbClr val="19340d"/>
                </a:solidFill>
                <a:latin typeface="Arial"/>
              </a:rPr>
              <a:t>2 </a:t>
            </a: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+ 5x + 4 = 0 over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Set of complex numbers and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All nonreal solutions in a + bi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Quadratic equ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3"/>
              <p:cNvSpPr txBox="1"/>
              <p:nvPr/>
            </p:nvSpPr>
            <p:spPr>
              <a:xfrm>
                <a:off x="500040" y="4786200"/>
                <a:ext cx="223848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3029040" y="5000760"/>
                <a:ext cx="203832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6056280" y="3960720"/>
                <a:ext cx="207648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6"/>
              <p:cNvSpPr txBox="1"/>
              <p:nvPr/>
            </p:nvSpPr>
            <p:spPr>
              <a:xfrm>
                <a:off x="6199200" y="5389560"/>
                <a:ext cx="207648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Pages 594 – 59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2 – 26 (evens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22:29:21Z</dcterms:created>
  <dc:creator>Mediac</dc:creator>
  <dc:description/>
  <dc:language>en-US</dc:language>
  <cp:lastModifiedBy>Laura Helbing</cp:lastModifiedBy>
  <dcterms:modified xsi:type="dcterms:W3CDTF">2011-04-19T19:01:28Z</dcterms:modified>
  <cp:revision>24</cp:revision>
  <dc:subject/>
  <dc:title>Presentation Name</dc:title>
</cp:coreProperties>
</file>