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DB1-6CF7-44C1-97C4-194E4639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4179-BD85-4BCA-AC60-AFBAB491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34E-6D4B-4DED-9296-56904FBB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564-BD3E-402A-B894-9F324C45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9AF2-5EBB-4A7E-8625-782350E0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70EC-2145-4832-912E-395A4E78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822F-F315-4837-B7FF-619AA1F7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8101-D654-4E3F-BEC1-99D0F293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E0A0-3CA6-4BAA-B9AC-37FE7DA8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FDCE-B5EE-4926-A4FB-D2E33B59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1477-27C4-4016-9EE4-88F81E3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586-127B-4AD9-87B4-09A4992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A010-68DC-4AEC-B871-59D3089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FC72-4CD5-49C7-B02B-02DA574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CD63-15FE-422F-A20C-8C776596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C5FC-78E5-448D-A420-5E1AB350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EF07-3E47-4F47-B510-93182AFE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D57AF-012F-434B-9BA0-FDE77E04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14DA1-2611-4A60-A05D-E56695E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324BE-E37E-4C46-9767-C4758DAB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7A7FA-3E1A-4683-8B83-1399B861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C7E87-2F0C-4B7A-AB3A-987ECE29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2C6-3775-465E-9E5E-FB5D0ECA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89CB2-C6D1-4966-9A63-3839B02A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7B9C7F-21F5-43B0-A921-3EA1A5D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01A8D-4CF3-4876-B830-84A243C0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7D9B3-9957-4B9E-9EF1-2DF8EC3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77FA7-E176-4FFB-835A-CE373B3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365DE-DC6E-480F-8DB0-9C90629F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11A08-4931-4181-AC6F-B65729AD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069D3-A59C-49A3-89EE-36B8D8CC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EB912-237B-44F7-921A-6E409FA6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A8DED-0189-4CC5-9F2C-D5EA83AF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F2F-3E94-4290-81BD-96C587AF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4CD74-9A4B-4B37-9197-FA1475EC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E07D-61CF-4DEC-AACC-A01D8C44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CA26A-E20F-434A-8C09-3DDF21DE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A78B1-DD79-4DF9-97AA-4F2A108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0614-287F-4CFF-805B-E327E954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F4236-131A-44AD-B1B9-A94041C0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408E5-3A17-443D-9691-98DD460D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630DD-8F1B-433A-B741-6103D6E7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5A2FC-223D-44E1-9933-E575E160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F92-B749-4188-8826-23845A5C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33C-9C54-40E1-8E1D-2629542F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763-4233-453A-B37A-FB94D451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8EF-4D12-4656-9B74-13FBC4A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BD8-AB80-41CF-8118-8E31519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CBA1-5897-46E9-8C21-6EBFE801101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9773-4D3C-438F-8316-3E57A9E9750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97D-600B-4A1C-B6D2-1CA97B6E14D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E65-37F6-4F45-BE92-5EB6D70FEC3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Factor Theorem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9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orem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560" y="2286000"/>
            <a:ext cx="88390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 Theorem: For a polynomial f(x), a number c is a solution to f(x) = 0 iff (x – c) is a factor of f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ivalence Theore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(x – c) is a factor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f(c) =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 is an x-intercept of the graph of y=f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c is a zero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 the remainder when f(x) is divided by (x-c) is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43000"/>
            <a:ext cx="82296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actor 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By first finding one zero of the polynomial by graphing and then dividing to find the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When I graph, it is easy to see 3 is a zer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  ÷ 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5x – 2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 (3x – 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(3x – 2)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 equation for a polynomial function p with zeros 2, - 4, and 4/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 (x + 4)(x – 4/7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(x + 4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2x – 8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56x –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8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64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587 – 588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5 – 13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2:31:41Z</dcterms:created>
  <dc:creator>Laura Helbing</dc:creator>
  <dc:description/>
  <dc:language>en-US</dc:language>
  <cp:lastModifiedBy>Laura Helbing</cp:lastModifiedBy>
  <dcterms:modified xsi:type="dcterms:W3CDTF">2011-04-19T19:01:42Z</dcterms:modified>
  <cp:revision>14</cp:revision>
  <dc:subject/>
  <dc:title>The Factor Theorem</dc:title>
</cp:coreProperties>
</file>