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9DF-128F-44D7-97F3-B903505A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5EF-86A4-44C2-A3A3-288260FB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F86-8AE6-4DD1-83D1-CF3B889A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AF3-079A-4B74-9E27-FBBEB8C7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BF53-7D08-4A80-9DF8-192D96C1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7842-E8A4-4154-8862-8BDB908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76BF-D460-41D9-98C5-8EDE72EC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D023-4CE1-44D9-AE55-79243ED4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7DA7-F608-4D06-ADC2-814978E6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355-71FE-4EE1-992B-793CA611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3F7A-6209-4453-8480-9C336B9E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4E3-6CF3-40AC-88B0-A7C9DFAD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F422-2133-4A3C-AF51-F090DE0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708E-D1CF-4599-B095-E51DCACF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7E3E-38FF-4AD6-8168-F7F88055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18F8-8EB5-42BE-A0F1-64295AD5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A595-A5BD-4AE6-9A5F-F61AE4B7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E8092-AB3D-4814-B4AA-8A189FBC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EDC16-AB05-4AC9-A8DF-4CECCB9A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B1B62-1816-4884-8F1E-F881669A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EA0E3-0E89-41F3-A046-DB97B4BB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31995-A03B-4B56-ADA5-0FCA08D2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556-2569-4348-85BD-660825F3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80BDF-6CC8-4AF1-BD73-77D63C48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AD6BD-C245-4572-A9EF-DAE8CB71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A3400-69A4-4FCA-AB06-2F0087A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77640-B4CC-4D8F-900A-F5F149D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C2877-4C3C-4554-AF63-F43FEE17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14161-D55D-4937-8B0E-DF4EED49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FCB94-81E2-4E2E-80D6-C938CF5B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883D-77C2-4958-8E54-BFF3EAB0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0431-9692-4DF1-8966-DBB97B90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2FEA3-FEA6-4DF9-9C56-BEB0B818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2ED-6D70-4138-9B43-704FBE5E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EF7A-E9F7-4862-BEB4-9E139783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984B-B9AD-4897-8F0E-A2A1BF2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54DB-C4FB-4770-979D-27819BA2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E8DD-2D88-4318-BF2F-D2F27189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4EAC3-6064-467A-847F-C656168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8A0B-BB6F-4DC4-A376-09DC8407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B02B-8713-47D7-A041-6EB3FB90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4F07-33B8-4877-BFA9-68684B94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3691-83F9-4AC1-912E-89577F3A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638-2003-47D5-92CA-249F11D7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204-A5FC-4B43-A1F8-53D4ADD4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2BD-CBBC-4E6C-B786-AC23F236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B6A-CD60-469C-AD8A-7E2AA02B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116-6073-4540-8781-B36EA389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E22D-019C-444A-9CF3-E1F9492586A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4824-13C8-440E-93C8-9F04932AFFC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3518-9C03-4F1E-8B7E-E2AD4E8B858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A3AC-A349-4FBE-9C2B-759D5EEB850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Factor Theorem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9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orem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560" y="2286000"/>
            <a:ext cx="88390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tor Theorem: For a polynomial f(x), a number c is a solution to f(x) = 0 iff (x – c) is a factor of f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ivalence Theore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(x – c) is a factor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f(c) =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 is an x-intercept of the graph of y=f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c is a zero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. the remainder when f(x) is divided by (x-c) is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43000"/>
            <a:ext cx="82296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actor 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By first finding one zero of the polynomial by graphing and then dividing to find the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When I graph, it is easy to see 3 is a zer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  ÷ 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5x – 2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 (3x – 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(3x – 2)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 equation for a polynomial function p with zeros 2, - 4, and 4/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 (x + 4)(x – 4/7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(x + 4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2x – 8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56x –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8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64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587 – 588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5 – 13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2:31:41Z</dcterms:created>
  <dc:creator>Laura Helbing</dc:creator>
  <dc:description/>
  <dc:language>en-US</dc:language>
  <cp:lastModifiedBy>Laura Helbing</cp:lastModifiedBy>
  <dcterms:modified xsi:type="dcterms:W3CDTF">2011-04-19T19:01:42Z</dcterms:modified>
  <cp:revision>14</cp:revision>
  <dc:subject/>
  <dc:title>The Factor Theorem</dc:title>
</cp:coreProperties>
</file>