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8C0-A3B0-489E-A2AC-87748400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2A5-BB24-4734-B306-289AB8E5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A9B-D0C5-4FCD-A03A-3F4A9A45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75E-157D-4E3C-A3B8-A93AFE72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CBF-C0F4-4E34-9D20-D24C0695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B887-A11D-4999-8C2B-C4963217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F7F0-6B9D-4561-997E-A31B29CF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162A-B79A-470B-8B5A-74C3BA8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38FA-BF70-43C6-9EAA-A8CDBB0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0E46-77A7-4340-8846-AB145C1E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45C-E08F-4044-A3B1-4AE8F95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7C9-A1B7-4C46-8C4C-79A47C9D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89AE-0316-41E8-8CFE-C57EEC4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7DAA-A940-4DC8-991C-DAAB0EA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A202-28AB-47E7-9115-995858A4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B48-6A3E-434E-812F-38C0DD87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5C10-96EB-4749-A9A3-CFFB511D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4CCCF-F221-4A90-9087-C01115C0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A76C6-EB61-45A0-8CF8-E361677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34B27-894B-4743-A17C-8D8D9C43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85051-4A48-4CA8-AC9B-7D3A9E4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911E0-5455-4221-A9DB-125F9013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357-6988-42DC-99EA-0E0D083B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EBBC1-1C03-45AC-B75D-41E65B2B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CF0F6-BE5B-40BB-AD65-1E97740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20EC07-15A7-40DE-BEF1-4B5FC141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25404-FC6E-4135-9458-0700CA0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81425-ACA6-45BA-BD0A-DBE3A462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CFD07-BC7A-4674-A52F-7E766324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7B476-4E91-4490-8636-D46279C7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7975-1456-4D04-A954-3D61ADE4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38B9C-D238-4DD8-8BFB-805E5E04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797D-4572-4892-93F8-C7791470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7CF-5B52-4B6E-95CE-AFCDD9FD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44DA-5D03-4A56-A1BA-B44B9312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305C-0C17-45F7-A50A-5A7BACD6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C2192-F3B7-4FA4-BB4B-E4300446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58412-A7DC-4445-A114-7AA262B4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1EAB-2DD2-4CF9-B7C0-39EA0C5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1B65-2B93-4816-8FE8-F81421C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64209-84EC-4985-8ACD-95220EAA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7DA41-5C2F-43D9-ADB6-59E3FA1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346D-F635-4BD0-86EA-9E61F93FB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ECB-A06E-42EF-8C96-A948AB51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A35-C9E8-425A-A1F6-EAD838EE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56B-C8BE-4D46-A9BA-70D2D493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889-14C8-4A2C-A82E-4EFBB55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7A3-53D3-456F-A04D-70F4ACF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4860-D17F-4C87-8357-12E8957E7B4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CA9F-C462-41C7-81D8-6D966AAF9E9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91AC-3542-46FE-B686-82D025056B1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1ACA-8381-4F72-A848-78707C37593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Factor Theorem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9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orem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560" y="2286000"/>
            <a:ext cx="88390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Theorem: For a polynomial f(x), a number c is a solution to f(x) = 0 iff (x – c) is a factor of f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 Theore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(x – c) is a factor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f(c) =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 is an x-intercept of the graph of y=f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c is a zero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 the remainder when f(x) is divided by (x-c) is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actor 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By first finding one zero of the polynomial by graphing and then dividing to find the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When I graph, it is easy to see 3 is a zer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  ÷ 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5x – 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 (3x – 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(3x – 2)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 equation for a polynomial function p with zeros 2, - 4, and 4/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 (x + 4)(x – 4/7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(x + 4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2x – 8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56x –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8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64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587 – 58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5 – 13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31:41Z</dcterms:created>
  <dc:creator>Laura Helbing</dc:creator>
  <dc:description/>
  <dc:language>en-US</dc:language>
  <cp:lastModifiedBy>Laura Helbing</cp:lastModifiedBy>
  <dcterms:modified xsi:type="dcterms:W3CDTF">2011-04-19T19:01:42Z</dcterms:modified>
  <cp:revision>14</cp:revision>
  <dc:subject/>
  <dc:title>The Factor Theorem</dc:title>
</cp:coreProperties>
</file>