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854-D07D-46A5-ADBA-3FE40E2C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2DD-CD33-4139-87DF-AB1C2F89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D7F-6D20-40C4-9612-8511289A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05E-2A60-42D9-8E0A-1D185CF3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E3FF-53A9-476D-8DBE-02E136EB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166C-3B67-4A0F-921A-44B8CECE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96F4-0310-48E7-A948-74F9363A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B616-1BB2-41BA-A855-3AFA051C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9D26-48F6-4738-BCF0-3DD76827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D7CA-DEA7-4B3D-B851-2ACD478A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9AA3-594A-48D0-B34A-3811DCEC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2D1-DCA2-4E20-9075-A438D62E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1F8C-D12A-45FF-9DC2-FA376322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FBAA-C468-4CF0-AF94-3448B5FA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FAE4-818D-4D21-A87F-703D5AB6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2FB4-54AC-4AA9-9706-443CD7BC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C117-9040-4A29-BC74-15DE9A1B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481E2-4833-4356-BADA-759F65FB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470A1-0C71-4A2B-BB93-DA975717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9CBFA-A2DF-420C-A0A6-1A8DC966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0EA19-3E4C-4E7C-ADD9-08CDBFE4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78C9B-9480-4AFF-B56B-5A11995B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491-CB1E-42A3-AE46-DF99F123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14235-7042-4413-A980-7D3DFF3F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13B72-3DA9-4408-A23D-5340D45E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04E3C-1F30-4108-84BF-8173AE7E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69522-A74B-4B1A-BDC8-C144705B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408DA-06D1-4334-B804-51C65A83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6F996-8B4E-46AC-A880-BDEE7829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94AA7-0CA8-4D6C-9501-4A7C1B1B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EF633-E143-4EC7-BC40-20DA54CF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333C8-0C9A-430A-859C-8371A1B1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8D6B6-1C21-475C-835B-32BADC41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F8E-2ED7-4464-AEE8-08C152AC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17823-7803-4FA9-BFF8-318E8994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0411-0117-46C3-8B68-56092EA5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28184-CE41-4C22-AC7D-422E3A2B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E4682-A181-4ACC-A65A-F4C47CA9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E76E9-5722-4208-BF7C-32DA896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1863-41A3-4333-A0E2-1509203A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83045-4967-46BB-88CA-47BCE1F9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F7378-85F2-45C2-B7BA-BE225C1C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1DB1B-0BF0-4236-A3A3-C14FF3F0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E0C-749C-4B8B-8725-0E3B1A5C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F83-1DB1-44F3-AE1E-8AEB616B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621-AAF5-4F0E-90BB-32349AE1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5FD-FFDC-4222-B866-424F163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3DD-CD5F-48BE-ACAA-034B1850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EBF6-2A39-4164-A724-79FBAC55E4C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66A3-C37F-43B0-B4A3-763277EF22D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0177-E2B7-4C13-8585-99F07A5A0EE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988B-F842-4365-B931-552C6163B3F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Factor Theorem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9.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orem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560" y="2286000"/>
            <a:ext cx="88390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tor Theorem: For a polynomial f(x), a number c is a solution to f(x) = 0 iff (x – c) is a factor of f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quivalence Theorem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. (x – c) is a factor of f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. f(c) = 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 is an x-intercept of the graph of y=f(x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. c is a zero of f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. the remainder when f(x) is divided by (x-c) is 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43000"/>
            <a:ext cx="82296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Factor 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41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+ 13x + 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By first finding one zero of the polynomial by graphing and then dividing to find the oth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When I graph, it is easy to see 3 is a zer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41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+ 13x + 6  ÷ (x – 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5x – 2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(4x + 1) (3x – 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(4x + 1)(3x – 2)(x – 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an equation for a polynomial function p with zeros 2, - 4, and 4/7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 – 2) (x + 4)(x – 4/7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 – 2)(x + 4)(7x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 2x – 8)(7x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1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56x –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8x + 3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1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64x + 3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587 – 588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5 – 13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2:31:41Z</dcterms:created>
  <dc:creator>Laura Helbing</dc:creator>
  <dc:description/>
  <dc:language>en-US</dc:language>
  <cp:lastModifiedBy>Laura Helbing</cp:lastModifiedBy>
  <dcterms:modified xsi:type="dcterms:W3CDTF">2011-04-19T19:01:42Z</dcterms:modified>
  <cp:revision>14</cp:revision>
  <dc:subject/>
  <dc:title>The Factor Theorem</dc:title>
</cp:coreProperties>
</file>