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2035-5C95-4F2B-B1BA-57566DD4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91D5-8479-48D6-A21A-935225F5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C6BB-1BD7-4AE7-BD35-A4864805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6684-D2B5-405F-8937-9FB5CC72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9970-A6E6-4BE5-B61F-9DCFF775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7D7B-679F-42B4-AE74-794EF769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80C1-3213-4391-AAF1-C1F92E7F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8E85-894E-49A2-8A84-DFEB3161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18DF-30AB-41A4-9CF1-26504C74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682E-98C7-4817-ACBE-0B309D7F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73FA-A223-4780-BEAA-FF72CFB0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108F-E66E-42A1-8A00-B4FF6B63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BBA4-DC9C-49EF-8F0E-86D2F3E5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F720-EB82-4132-A89F-62269770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F332-3C1F-4758-8BCB-01E6B771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B997-8C06-4581-9A9B-8ED55070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4D8F-6DEB-463E-ACBC-76B053FD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D383-648A-4C42-9A6B-98E4AD2A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C6F0-F38B-4FF6-856E-798BBB01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C6D9-4825-49AF-8E70-C65867B9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66B7-5022-424B-A79B-AB55C3D2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149C-A7DB-48CD-B14C-5A6B1C19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8AA7-9ADB-4A7E-9675-FA32D4BD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EBFE-1F01-4A2B-96DD-E4A0705A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97AA-E137-4330-849E-D48D410ECC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1FC6-76F1-4742-B8DC-7E48DE322E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lynomial Division and the Remainder Theor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tion 9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523880" y="5105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Multiply x + 2 by 1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20"/>
          <p:cNvGrpSpPr/>
          <p:nvPr/>
        </p:nvGrpSpPr>
        <p:grpSpPr>
          <a:xfrm>
            <a:off x="3886200" y="2743200"/>
            <a:ext cx="3238560" cy="2755800"/>
            <a:chOff x="3886200" y="2743200"/>
            <a:chExt cx="3238560" cy="2755800"/>
          </a:xfrm>
        </p:grpSpPr>
        <p:graphicFrame>
          <p:nvGraphicFramePr>
            <p:cNvPr id="242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5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7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9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51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2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4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6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8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9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60" name="Object 14"/>
            <p:cNvGraphicFramePr/>
            <p:nvPr/>
          </p:nvGraphicFramePr>
          <p:xfrm>
            <a:off x="6705720" y="2743200"/>
            <a:ext cx="41904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61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05720" y="274320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63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4" name="Object 16"/>
          <p:cNvGraphicFramePr/>
          <p:nvPr/>
        </p:nvGraphicFramePr>
        <p:xfrm>
          <a:off x="6324480" y="5562720"/>
          <a:ext cx="723960" cy="291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5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5562720"/>
                    <a:ext cx="723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Line 17"/>
          <p:cNvSpPr/>
          <p:nvPr/>
        </p:nvSpPr>
        <p:spPr>
          <a:xfrm>
            <a:off x="6248520" y="5943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7" name="Object 18"/>
          <p:cNvGraphicFramePr/>
          <p:nvPr/>
        </p:nvGraphicFramePr>
        <p:xfrm>
          <a:off x="6705720" y="6019920"/>
          <a:ext cx="342720" cy="279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68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05720" y="6019920"/>
                    <a:ext cx="3427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9"/>
          <p:cNvSpPr/>
          <p:nvPr/>
        </p:nvSpPr>
        <p:spPr>
          <a:xfrm>
            <a:off x="1600200" y="5791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21"/>
          <p:cNvSpPr/>
          <p:nvPr/>
        </p:nvSpPr>
        <p:spPr>
          <a:xfrm>
            <a:off x="4343400" y="5334120"/>
            <a:ext cx="1828800" cy="3808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22"/>
          <p:cNvSpPr/>
          <p:nvPr/>
        </p:nvSpPr>
        <p:spPr>
          <a:xfrm>
            <a:off x="3657600" y="6095880"/>
            <a:ext cx="2895480" cy="76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133720" y="5486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The remainder is –1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4" name="Group 20"/>
          <p:cNvGrpSpPr/>
          <p:nvPr/>
        </p:nvGrpSpPr>
        <p:grpSpPr>
          <a:xfrm>
            <a:off x="3886200" y="2743200"/>
            <a:ext cx="3276720" cy="3556080"/>
            <a:chOff x="3886200" y="2743200"/>
            <a:chExt cx="3276720" cy="3556080"/>
          </a:xfrm>
        </p:grpSpPr>
        <p:graphicFrame>
          <p:nvGraphicFramePr>
            <p:cNvPr id="275" name="Object 3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6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2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3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84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5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6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7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9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1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93" name="Object 14"/>
            <p:cNvGraphicFramePr/>
            <p:nvPr/>
          </p:nvGraphicFramePr>
          <p:xfrm>
            <a:off x="6705720" y="2743200"/>
            <a:ext cx="41904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94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05720" y="274320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96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Object 16"/>
            <p:cNvGraphicFramePr/>
            <p:nvPr/>
          </p:nvGraphicFramePr>
          <p:xfrm>
            <a:off x="6324480" y="5562720"/>
            <a:ext cx="723960" cy="2919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98" name="Object 16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324480" y="5562720"/>
                      <a:ext cx="72396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Line 17"/>
            <p:cNvSpPr/>
            <p:nvPr/>
          </p:nvSpPr>
          <p:spPr>
            <a:xfrm>
              <a:off x="6248520" y="5943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300" name="Object 18"/>
            <p:cNvGraphicFramePr/>
            <p:nvPr/>
          </p:nvGraphicFramePr>
          <p:xfrm>
            <a:off x="6705720" y="6019920"/>
            <a:ext cx="342720" cy="2793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01" name="Object 18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705720" y="6019920"/>
                      <a:ext cx="3427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2" name="Line 19"/>
          <p:cNvSpPr/>
          <p:nvPr/>
        </p:nvSpPr>
        <p:spPr>
          <a:xfrm>
            <a:off x="5105520" y="5715000"/>
            <a:ext cx="1447560" cy="4572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1295280" y="37339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quotient is 2x² - x +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22"/>
          <p:cNvSpPr/>
          <p:nvPr/>
        </p:nvSpPr>
        <p:spPr>
          <a:xfrm flipV="1">
            <a:off x="3048120" y="2971800"/>
            <a:ext cx="2209680" cy="1295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143000" y="12193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Also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6" name="Object 4"/>
          <p:cNvGraphicFramePr/>
          <p:nvPr/>
        </p:nvGraphicFramePr>
        <p:xfrm>
          <a:off x="4495680" y="1447920"/>
          <a:ext cx="2913120" cy="996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95680" y="1447920"/>
                    <a:ext cx="291312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4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9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7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9" name="Content Placeholder 2"/>
          <p:cNvSpPr/>
          <p:nvPr/>
        </p:nvSpPr>
        <p:spPr>
          <a:xfrm>
            <a:off x="106668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p(x) = -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0x – 25  b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+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(x) -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x – 5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2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p(x) = -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8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(x) -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x +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(x) = -2x – 7 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3809880" y="4952880"/>
                <a:ext cx="210672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mainder Theor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polynomial f(x) of degree ≥ 1 is divided by x – c, the remainder is the constant f(c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3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p(x) be defined by p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x – 11.  Find the remainder when p(x) is divided by x – 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– c = x – 3 so c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mainder is p(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3) = 2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8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 – 11 = 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Pages 581 - 58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1, 2, 7 - 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981080" y="1981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ivide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³ + 3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1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4" name="Object 0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23"/>
          <p:cNvSpPr/>
          <p:nvPr/>
        </p:nvSpPr>
        <p:spPr>
          <a:xfrm>
            <a:off x="1447920" y="32767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+ 2 is the divis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3048120" y="43434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quotient will be he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Line 25"/>
          <p:cNvSpPr/>
          <p:nvPr/>
        </p:nvSpPr>
        <p:spPr>
          <a:xfrm flipV="1">
            <a:off x="3124080" y="3504960"/>
            <a:ext cx="685800" cy="2286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Line 26"/>
          <p:cNvSpPr/>
          <p:nvPr/>
        </p:nvSpPr>
        <p:spPr>
          <a:xfrm flipV="1">
            <a:off x="4495680" y="3048120"/>
            <a:ext cx="1067040" cy="1295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5791320" y="41911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2x³ + 3x² - x + 1 is the divid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28"/>
          <p:cNvSpPr/>
          <p:nvPr/>
        </p:nvSpPr>
        <p:spPr>
          <a:xfrm flipH="1" flipV="1">
            <a:off x="5638680" y="3580920"/>
            <a:ext cx="914400" cy="6858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Rectangle 1027"/>
          <p:cNvSpPr/>
          <p:nvPr/>
        </p:nvSpPr>
        <p:spPr>
          <a:xfrm>
            <a:off x="1447920" y="16765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First divide the first term of the dividend,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³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(the first term of the divisor)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Object 1028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030"/>
          <p:cNvGraphicFramePr/>
          <p:nvPr/>
        </p:nvGraphicFramePr>
        <p:xfrm>
          <a:off x="5486400" y="2743200"/>
          <a:ext cx="54612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7432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1043"/>
          <p:cNvSpPr/>
          <p:nvPr/>
        </p:nvSpPr>
        <p:spPr>
          <a:xfrm>
            <a:off x="1066680" y="28954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is gives 2x². This will be the first term of the quoti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1044"/>
          <p:cNvSpPr/>
          <p:nvPr/>
        </p:nvSpPr>
        <p:spPr>
          <a:xfrm flipV="1">
            <a:off x="3352680" y="2895120"/>
            <a:ext cx="1981440" cy="304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371600" y="32004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Now multiply 2x² by x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5"/>
          <p:cNvGraphicFramePr/>
          <p:nvPr/>
        </p:nvGraphicFramePr>
        <p:xfrm>
          <a:off x="4724280" y="3657600"/>
          <a:ext cx="139716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657600"/>
                    <a:ext cx="13971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6"/>
          <p:cNvGraphicFramePr/>
          <p:nvPr/>
        </p:nvGraphicFramePr>
        <p:xfrm>
          <a:off x="5486400" y="2743200"/>
          <a:ext cx="54612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27432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7"/>
          <p:cNvGraphicFramePr/>
          <p:nvPr/>
        </p:nvGraphicFramePr>
        <p:xfrm>
          <a:off x="5486400" y="4191120"/>
          <a:ext cx="54612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4191120"/>
                    <a:ext cx="5461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Line 8"/>
          <p:cNvSpPr/>
          <p:nvPr/>
        </p:nvSpPr>
        <p:spPr>
          <a:xfrm>
            <a:off x="4648320" y="4114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1447920" y="4114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3276720" y="3733920"/>
            <a:ext cx="1371600" cy="152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3429000" y="4343400"/>
            <a:ext cx="1905120" cy="76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95280" y="38098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Bring down the next term, -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6" name="Group 21"/>
          <p:cNvGrpSpPr/>
          <p:nvPr/>
        </p:nvGrpSpPr>
        <p:grpSpPr>
          <a:xfrm>
            <a:off x="3886200" y="2743200"/>
            <a:ext cx="3174840" cy="1790640"/>
            <a:chOff x="3886200" y="2743200"/>
            <a:chExt cx="3174840" cy="1790640"/>
          </a:xfrm>
        </p:grpSpPr>
        <p:grpSp>
          <p:nvGrpSpPr>
            <p:cNvPr id="127" name="Group 20"/>
            <p:cNvGrpSpPr/>
            <p:nvPr/>
          </p:nvGrpSpPr>
          <p:grpSpPr>
            <a:xfrm>
              <a:off x="3886200" y="2743200"/>
              <a:ext cx="3174840" cy="1257480"/>
              <a:chOff x="3886200" y="2743200"/>
              <a:chExt cx="3174840" cy="1257480"/>
            </a:xfrm>
          </p:grpSpPr>
          <p:graphicFrame>
            <p:nvGraphicFramePr>
              <p:cNvPr id="128" name="Object 4"/>
              <p:cNvGraphicFramePr/>
              <p:nvPr/>
            </p:nvGraphicFramePr>
            <p:xfrm>
              <a:off x="3886200" y="3124080"/>
              <a:ext cx="3174840" cy="584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9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886200" y="3124080"/>
                        <a:ext cx="3174840" cy="584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0" name="Object 5"/>
              <p:cNvGraphicFramePr/>
              <p:nvPr/>
            </p:nvGraphicFramePr>
            <p:xfrm>
              <a:off x="4724280" y="3657600"/>
              <a:ext cx="1397160" cy="343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1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24280" y="3657600"/>
                        <a:ext cx="1397160" cy="3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2" name="Object 6"/>
              <p:cNvGraphicFramePr/>
              <p:nvPr/>
            </p:nvGraphicFramePr>
            <p:xfrm>
              <a:off x="5486400" y="2743200"/>
              <a:ext cx="546120" cy="343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3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486400" y="2743200"/>
                        <a:ext cx="546120" cy="3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34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5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137" name="Object 9"/>
          <p:cNvGraphicFramePr/>
          <p:nvPr/>
        </p:nvGraphicFramePr>
        <p:xfrm>
          <a:off x="6127920" y="4222800"/>
          <a:ext cx="53316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27920" y="4222800"/>
                    <a:ext cx="5331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Line 19"/>
          <p:cNvSpPr/>
          <p:nvPr/>
        </p:nvSpPr>
        <p:spPr>
          <a:xfrm flipV="1">
            <a:off x="3581280" y="3580920"/>
            <a:ext cx="2743200" cy="8384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066680" y="2666880"/>
            <a:ext cx="266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Now divide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, the first term of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the diviso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3886200" y="2743200"/>
            <a:ext cx="3174840" cy="1809720"/>
            <a:chOff x="3886200" y="2743200"/>
            <a:chExt cx="3174840" cy="1809720"/>
          </a:xfrm>
        </p:grpSpPr>
        <p:graphicFrame>
          <p:nvGraphicFramePr>
            <p:cNvPr id="143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6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8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0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2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3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4" name="Object 10"/>
          <p:cNvGraphicFramePr/>
          <p:nvPr/>
        </p:nvGraphicFramePr>
        <p:xfrm>
          <a:off x="6172200" y="2743200"/>
          <a:ext cx="53352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2743200"/>
                    <a:ext cx="5335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Group 24"/>
          <p:cNvGrpSpPr/>
          <p:nvPr/>
        </p:nvGrpSpPr>
        <p:grpSpPr>
          <a:xfrm>
            <a:off x="3581280" y="3505320"/>
            <a:ext cx="1752840" cy="914400"/>
            <a:chOff x="3581280" y="3505320"/>
            <a:chExt cx="1752840" cy="914400"/>
          </a:xfrm>
        </p:grpSpPr>
        <p:sp>
          <p:nvSpPr>
            <p:cNvPr id="157" name="Line 20"/>
            <p:cNvSpPr/>
            <p:nvPr/>
          </p:nvSpPr>
          <p:spPr>
            <a:xfrm>
              <a:off x="3581280" y="3962520"/>
              <a:ext cx="17528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 flipV="1">
              <a:off x="3581280" y="3505320"/>
              <a:ext cx="3812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11430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hich gives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23"/>
          <p:cNvSpPr/>
          <p:nvPr/>
        </p:nvSpPr>
        <p:spPr>
          <a:xfrm flipV="1">
            <a:off x="3505320" y="3047760"/>
            <a:ext cx="2819160" cy="19047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371600" y="449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Multiply –x by x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19"/>
          <p:cNvGrpSpPr/>
          <p:nvPr/>
        </p:nvGrpSpPr>
        <p:grpSpPr>
          <a:xfrm>
            <a:off x="3886200" y="2743200"/>
            <a:ext cx="3174840" cy="1809720"/>
            <a:chOff x="3886200" y="2743200"/>
            <a:chExt cx="3174840" cy="1809720"/>
          </a:xfrm>
        </p:grpSpPr>
        <p:graphicFrame>
          <p:nvGraphicFramePr>
            <p:cNvPr id="164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9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73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4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6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7" name="Object 11"/>
          <p:cNvGraphicFramePr/>
          <p:nvPr/>
        </p:nvGraphicFramePr>
        <p:xfrm>
          <a:off x="5486400" y="4648320"/>
          <a:ext cx="127008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86400" y="4648320"/>
                    <a:ext cx="12700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2"/>
          <p:cNvGraphicFramePr/>
          <p:nvPr/>
        </p:nvGraphicFramePr>
        <p:xfrm>
          <a:off x="6324480" y="5257800"/>
          <a:ext cx="266760" cy="24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0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257800"/>
                    <a:ext cx="2667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13"/>
          <p:cNvSpPr/>
          <p:nvPr/>
        </p:nvSpPr>
        <p:spPr>
          <a:xfrm>
            <a:off x="5562720" y="5105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44792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4343400" y="4724280"/>
            <a:ext cx="990720" cy="152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3429000" y="5257440"/>
            <a:ext cx="2286000" cy="152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447920" y="43434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Bring down the next term, 1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7" name="Object 12"/>
          <p:cNvGraphicFramePr/>
          <p:nvPr/>
        </p:nvGraphicFramePr>
        <p:xfrm>
          <a:off x="6324480" y="5257800"/>
          <a:ext cx="266760" cy="24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257800"/>
                    <a:ext cx="2667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Group 19"/>
          <p:cNvGrpSpPr/>
          <p:nvPr/>
        </p:nvGrpSpPr>
        <p:grpSpPr>
          <a:xfrm>
            <a:off x="3886200" y="2743200"/>
            <a:ext cx="3174840" cy="2362320"/>
            <a:chOff x="3886200" y="2743200"/>
            <a:chExt cx="3174840" cy="2362320"/>
          </a:xfrm>
        </p:grpSpPr>
        <p:graphicFrame>
          <p:nvGraphicFramePr>
            <p:cNvPr id="190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1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3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7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99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0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2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04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206" name="Object 15"/>
          <p:cNvGraphicFramePr/>
          <p:nvPr/>
        </p:nvGraphicFramePr>
        <p:xfrm>
          <a:off x="6629400" y="5181480"/>
          <a:ext cx="419040" cy="317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7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29400" y="5181480"/>
                    <a:ext cx="419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Line 20"/>
          <p:cNvSpPr/>
          <p:nvPr/>
        </p:nvSpPr>
        <p:spPr>
          <a:xfrm flipV="1">
            <a:off x="3429000" y="3580920"/>
            <a:ext cx="3429000" cy="1295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1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43000" y="37339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ivid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1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the divisor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1" name="Object 14"/>
          <p:cNvGraphicFramePr/>
          <p:nvPr/>
        </p:nvGraphicFramePr>
        <p:xfrm>
          <a:off x="6705720" y="2743200"/>
          <a:ext cx="41904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2743200"/>
                    <a:ext cx="419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Group 21"/>
          <p:cNvGrpSpPr/>
          <p:nvPr/>
        </p:nvGrpSpPr>
        <p:grpSpPr>
          <a:xfrm>
            <a:off x="3886200" y="2743200"/>
            <a:ext cx="3174840" cy="2755800"/>
            <a:chOff x="3886200" y="2743200"/>
            <a:chExt cx="3174840" cy="2755800"/>
          </a:xfrm>
        </p:grpSpPr>
        <p:graphicFrame>
          <p:nvGraphicFramePr>
            <p:cNvPr id="214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6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7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9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1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23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4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6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28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0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32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33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4" name="Text Box 19"/>
          <p:cNvSpPr/>
          <p:nvPr/>
        </p:nvSpPr>
        <p:spPr>
          <a:xfrm>
            <a:off x="1219320" y="5486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hich gives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Group 26"/>
          <p:cNvGrpSpPr/>
          <p:nvPr/>
        </p:nvGrpSpPr>
        <p:grpSpPr>
          <a:xfrm>
            <a:off x="3962520" y="3581280"/>
            <a:ext cx="2209680" cy="1752840"/>
            <a:chOff x="3962520" y="3581280"/>
            <a:chExt cx="2209680" cy="1752840"/>
          </a:xfrm>
        </p:grpSpPr>
        <p:sp>
          <p:nvSpPr>
            <p:cNvPr id="236" name="Line 22"/>
            <p:cNvSpPr/>
            <p:nvPr/>
          </p:nvSpPr>
          <p:spPr>
            <a:xfrm flipV="1">
              <a:off x="3962520" y="3581280"/>
              <a:ext cx="75960" cy="10670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>
              <a:off x="3962520" y="4648320"/>
              <a:ext cx="2209680" cy="6858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Line 25"/>
          <p:cNvSpPr/>
          <p:nvPr/>
        </p:nvSpPr>
        <p:spPr>
          <a:xfrm flipV="1">
            <a:off x="3276720" y="3123720"/>
            <a:ext cx="3581280" cy="2590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09:42:59Z</dcterms:created>
  <dc:creator>Berry</dc:creator>
  <dc:description/>
  <dc:language>en-US</dc:language>
  <cp:lastModifiedBy>Laura Helbing</cp:lastModifiedBy>
  <dcterms:modified xsi:type="dcterms:W3CDTF">2011-04-14T18:09:34Z</dcterms:modified>
  <cp:revision>22</cp:revision>
  <dc:subject/>
  <dc:title>Dividing polynomials</dc:title>
</cp:coreProperties>
</file>