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6AAD-D4D5-4A94-9319-14EF8CC62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FE76-08B0-4F57-8500-8256D2A07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D144-0F38-44F9-9C1A-7B1342C46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440A-5BC2-40F5-8A56-3A494515F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5119-CE1F-40C6-9B74-E634336CE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C61D-288B-4481-AABC-61D732D6A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9812-5AA2-4735-A17B-1442595A0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7E38-DE80-434A-A06C-30655C244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3CB9-1494-49C4-8FB4-EAD73155B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CC88-5B06-4242-9F30-FA8F08FC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22D6-A362-48FB-B00C-F0A1B0FA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9A30-8958-40A9-836D-249DFA13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10171-6565-4C02-A5D2-9534CFC4C26D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8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57a144"/>
                </a:solidFill>
                <a:latin typeface="Calibri"/>
              </a:rPr>
              <a:t>Finding Polynomial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170000"/>
            <a:ext cx="6400800" cy="52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57a144"/>
                </a:solidFill>
                <a:latin typeface="Calibri"/>
              </a:rPr>
              <a:t>Section 9.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58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57a144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40976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8800" spc="-1" strike="noStrike">
                <a:solidFill>
                  <a:srgbClr val="57a144"/>
                </a:solidFill>
                <a:latin typeface="Calibri"/>
              </a:rPr>
              <a:t>Pages 574 – 575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8800" spc="-1" strike="noStrike">
                <a:solidFill>
                  <a:srgbClr val="57a144"/>
                </a:solidFill>
                <a:latin typeface="Calibri"/>
              </a:rPr>
              <a:t>1 - 13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0" y="1199880"/>
            <a:ext cx="8686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Determine if y is a polynomial function of x of degree less than 5.  If so, find an equation of least degree for y in terms of 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1st diff   24     80    196   396   704   1144    174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2</a:t>
            </a:r>
            <a:r>
              <a:rPr b="0" lang="fr-CA" sz="3200" spc="-1" strike="noStrike" baseline="30000">
                <a:solidFill>
                  <a:srgbClr val="57a144"/>
                </a:solidFill>
                <a:latin typeface="Calibri"/>
              </a:rPr>
              <a:t>nd</a:t>
            </a: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 diff         56     116   200  308    440    59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3rd diff             60      84     108   132   15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4th diff                   24      24      24      2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4920" y="0"/>
          <a:ext cx="8381880" cy="990720"/>
        </p:xfrm>
        <a:graphic>
          <a:graphicData uri="http://schemas.openxmlformats.org/drawingml/2006/table">
            <a:tbl>
              <a:tblPr/>
              <a:tblGrid>
                <a:gridCol w="931680"/>
                <a:gridCol w="930240"/>
                <a:gridCol w="932040"/>
                <a:gridCol w="931680"/>
                <a:gridCol w="930240"/>
                <a:gridCol w="932040"/>
                <a:gridCol w="931680"/>
                <a:gridCol w="930240"/>
                <a:gridCol w="93204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1199880"/>
            <a:ext cx="8686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Determine if y is a polynomial function of x of degree less than 5.  If so, find an equation of least degree for y in terms of 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So, 4th degree polynomial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Plug in ordered pairs to graphing calcul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Quart re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Y = x</a:t>
            </a:r>
            <a:r>
              <a:rPr b="0" lang="fr-CA" sz="3200" spc="-1" strike="noStrike" baseline="30000">
                <a:solidFill>
                  <a:srgbClr val="57a144"/>
                </a:solidFill>
                <a:latin typeface="Calibri"/>
              </a:rPr>
              <a:t>4</a:t>
            </a: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 + 3x</a:t>
            </a:r>
            <a:r>
              <a:rPr b="0" lang="fr-CA" sz="3200" spc="-1" strike="noStrike" baseline="30000">
                <a:solidFill>
                  <a:srgbClr val="57a144"/>
                </a:solidFill>
                <a:latin typeface="Calibri"/>
              </a:rPr>
              <a:t>2</a:t>
            </a: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 +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04920" y="0"/>
          <a:ext cx="8381880" cy="990720"/>
        </p:xfrm>
        <a:graphic>
          <a:graphicData uri="http://schemas.openxmlformats.org/drawingml/2006/table">
            <a:tbl>
              <a:tblPr/>
              <a:tblGrid>
                <a:gridCol w="931680"/>
                <a:gridCol w="930240"/>
                <a:gridCol w="932040"/>
                <a:gridCol w="931680"/>
                <a:gridCol w="930240"/>
                <a:gridCol w="932040"/>
                <a:gridCol w="931680"/>
                <a:gridCol w="930240"/>
                <a:gridCol w="93204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0" y="1199880"/>
            <a:ext cx="8686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Determine if y is a polynomial function of x of degree less than 5.  If so, find an equation of least degree for y in terms of 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1st diff    20           20         -28      -124      -26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2</a:t>
            </a:r>
            <a:r>
              <a:rPr b="0" lang="fr-CA" sz="3200" spc="-1" strike="noStrike" baseline="30000">
                <a:solidFill>
                  <a:srgbClr val="57a144"/>
                </a:solidFill>
                <a:latin typeface="Calibri"/>
              </a:rPr>
              <a:t>nd</a:t>
            </a: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 diff         0             -48         -96         -14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3rd diff            - 48           -48          -4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14400" y="285840"/>
          <a:ext cx="6519960" cy="990360"/>
        </p:xfrm>
        <a:graphic>
          <a:graphicData uri="http://schemas.openxmlformats.org/drawingml/2006/table">
            <a:tbl>
              <a:tblPr/>
              <a:tblGrid>
                <a:gridCol w="932040"/>
                <a:gridCol w="930240"/>
                <a:gridCol w="931680"/>
                <a:gridCol w="932040"/>
                <a:gridCol w="930240"/>
                <a:gridCol w="931680"/>
                <a:gridCol w="93204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0" y="1199880"/>
            <a:ext cx="8686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Determine if y is a polynomial function of x of degree less than 5.  If so, find an equation of least degree for y in terms of 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So 3rd degree polynomial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Plug in ordered pairs to graphing calcul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cubic re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Y = -x</a:t>
            </a:r>
            <a:r>
              <a:rPr b="0" lang="fr-CA" sz="3200" spc="-1" strike="noStrike" baseline="30000">
                <a:solidFill>
                  <a:srgbClr val="57a144"/>
                </a:solidFill>
                <a:latin typeface="Calibri"/>
              </a:rPr>
              <a:t>3</a:t>
            </a: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 + 6x</a:t>
            </a:r>
            <a:r>
              <a:rPr b="0" lang="fr-CA" sz="3200" spc="-1" strike="noStrike" baseline="30000">
                <a:solidFill>
                  <a:srgbClr val="57a144"/>
                </a:solidFill>
                <a:latin typeface="Calibri"/>
              </a:rPr>
              <a:t>2 </a:t>
            </a: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+2x + 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14400" y="285840"/>
          <a:ext cx="6519960" cy="990360"/>
        </p:xfrm>
        <a:graphic>
          <a:graphicData uri="http://schemas.openxmlformats.org/drawingml/2006/table">
            <a:tbl>
              <a:tblPr/>
              <a:tblGrid>
                <a:gridCol w="932040"/>
                <a:gridCol w="930240"/>
                <a:gridCol w="931680"/>
                <a:gridCol w="932040"/>
                <a:gridCol w="930240"/>
                <a:gridCol w="931680"/>
                <a:gridCol w="93204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627280" y="415800"/>
            <a:ext cx="605952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57a144"/>
                </a:solidFill>
                <a:latin typeface="Calibri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627280" y="1409760"/>
            <a:ext cx="605952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There exists a polynomial formula of degree 4 for the sum of the cubes of the integers from 1 to n.  Find that formul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627280" y="415800"/>
            <a:ext cx="605952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57a144"/>
                </a:solidFill>
                <a:latin typeface="Calibri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627280" y="1409760"/>
            <a:ext cx="605952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S = 1 , so 1</a:t>
            </a:r>
            <a:r>
              <a:rPr b="0" lang="fr-CA" sz="3200" spc="-1" strike="noStrike" baseline="30000">
                <a:solidFill>
                  <a:srgbClr val="57a144"/>
                </a:solidFill>
                <a:latin typeface="Calibri"/>
              </a:rPr>
              <a:t>3 </a:t>
            </a: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=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S = 2, so 2</a:t>
            </a:r>
            <a:r>
              <a:rPr b="0" lang="fr-CA" sz="3200" spc="-1" strike="noStrike" baseline="30000">
                <a:solidFill>
                  <a:srgbClr val="57a144"/>
                </a:solidFill>
                <a:latin typeface="Calibri"/>
              </a:rPr>
              <a:t>3</a:t>
            </a: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 = 8  + 1 = 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S = 3, so 3</a:t>
            </a:r>
            <a:r>
              <a:rPr b="0" lang="fr-CA" sz="3200" spc="-1" strike="noStrike" baseline="30000">
                <a:solidFill>
                  <a:srgbClr val="57a144"/>
                </a:solidFill>
                <a:latin typeface="Calibri"/>
              </a:rPr>
              <a:t>3</a:t>
            </a: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 = 27 + 9 = 3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S = 4, so 4</a:t>
            </a:r>
            <a:r>
              <a:rPr b="0" lang="fr-CA" sz="3200" spc="-1" strike="noStrike" baseline="30000">
                <a:solidFill>
                  <a:srgbClr val="57a144"/>
                </a:solidFill>
                <a:latin typeface="Calibri"/>
              </a:rPr>
              <a:t>3</a:t>
            </a: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 = 64 + 36 = 1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S = 5, so 5</a:t>
            </a:r>
            <a:r>
              <a:rPr b="0" lang="fr-CA" sz="3200" spc="-1" strike="noStrike" baseline="30000">
                <a:solidFill>
                  <a:srgbClr val="57a144"/>
                </a:solidFill>
                <a:latin typeface="Calibri"/>
              </a:rPr>
              <a:t>3</a:t>
            </a: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 = 125 + 100 = 22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627280" y="415800"/>
            <a:ext cx="605952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57a144"/>
                </a:solidFill>
                <a:latin typeface="Calibri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626920" y="1409760"/>
            <a:ext cx="628812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S = 5, 225=625a+125b+25c+5d+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S = 4, 100= 256a+64b+16c+4d+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S = 3, 36 = 81a + 27b + 9c + 3d + 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S = 2, 9 = 16a + 8b + 4c + 2d + 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S = 1 , 1 = a + b + c + d + 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2"/>
              <p:cNvSpPr txBox="1"/>
              <p:nvPr/>
            </p:nvSpPr>
            <p:spPr>
              <a:xfrm>
                <a:off x="3809880" y="4330800"/>
                <a:ext cx="317520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158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57a144"/>
                </a:solidFill>
                <a:latin typeface="Calibri"/>
              </a:rPr>
              <a:t>A Few Formulas to know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40976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Tetrahedral numb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Triangular number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1828800" y="2038320"/>
                <a:ext cx="408636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4191120" y="3562200"/>
                <a:ext cx="1746000" cy="12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15:41:51Z</dcterms:created>
  <dc:creator>Laura Helbing</dc:creator>
  <dc:description/>
  <dc:language>en-US</dc:language>
  <cp:lastModifiedBy>Laura Helbing</cp:lastModifiedBy>
  <dcterms:modified xsi:type="dcterms:W3CDTF">2011-04-13T18:09:56Z</dcterms:modified>
  <cp:revision>13</cp:revision>
  <dc:subject/>
  <dc:title>PRESENTATION  NAME</dc:title>
</cp:coreProperties>
</file>