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E49-7A5C-43C7-8B18-893AB8B2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5D2-BACC-41C5-A9B2-4495E2D6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542-A359-4310-A6C6-CAE97E29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B3E-3FDF-4259-BC0A-A67C6D65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695-AF0C-414E-ADD6-589081C5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3EA-7AFB-49EA-869E-84A2CAB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527-CFC3-4577-ADB9-A5800E1E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7CA-5D30-4FD4-85CD-0BE4CD25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8EA-403D-4094-B6CF-E194D289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005-3A51-49B2-89B7-6053C6E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A1E-2970-4B6A-8752-4A5E814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149-38BE-4FA8-BB60-DA556DC6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4B18-CCFA-487D-B5D7-B0677126FE2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Finding Polynomial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57a144"/>
                </a:solidFill>
                <a:latin typeface="Calibri"/>
              </a:rPr>
              <a:t>Section 9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Pages 574 – 57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1 -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24     80    196   396   704   1144   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56     116   200  308    440    5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 60      84     108   132   1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4th diff                   24      24      24     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, 4th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Quart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3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 20           20         -28      -124      -2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0             -48         -96         -1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- 48           -48          -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 3rd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cubic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-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6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+2x +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here exists a polynomial formula of degree 4 for the sum of the cubes of the integers from 1 to n.  Find that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so 1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so 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8  + 1 =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so 3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27 + 9 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so 4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64 + 36 =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so 5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125 + 100 = 2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6920" y="1409760"/>
            <a:ext cx="62881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225=625a+125b+25c+5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100= 256a+64b+16c+4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36 = 81a + 27b + 9c + 3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9 = 16a + 8b + 4c + 2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1 = a + b + c + 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3809880" y="4330800"/>
                <a:ext cx="3175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A Few Formula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etrahedral numb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riangular numb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828800" y="2038320"/>
                <a:ext cx="4086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4191120" y="3562200"/>
                <a:ext cx="17460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41:51Z</dcterms:created>
  <dc:creator>Laura Helbing</dc:creator>
  <dc:description/>
  <dc:language>en-US</dc:language>
  <cp:lastModifiedBy>Laura Helbing</cp:lastModifiedBy>
  <dcterms:modified xsi:type="dcterms:W3CDTF">2011-04-13T18:09:56Z</dcterms:modified>
  <cp:revision>13</cp:revision>
  <dc:subject/>
  <dc:title>PRESENTATION  NAME</dc:title>
</cp:coreProperties>
</file>