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D08-26A1-4827-ADB3-2FECFAD0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A18-56F1-4BC5-93AF-F7AC9CD3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F5D-AC80-41A2-BA77-A3FAC893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324-F694-4309-9D73-254E4896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24D-263A-4C0D-93E7-C117308C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E8F-00DE-4E4D-A6AA-3D5376B3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2E8-8E32-4B55-B037-70A3402E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1B3-2893-4CDB-B6BB-4DF70E90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A93-B7FA-439F-ADA3-6A012C11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DFC-E7B3-42D0-AA6E-D58151B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746-93AF-45B3-A584-3E5B3E00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253-915C-4210-BADC-B68C191A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2319-7122-4E71-A5F3-9311E383FD9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Finding Polynomi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57a144"/>
                </a:solidFill>
                <a:latin typeface="Calibri"/>
              </a:rPr>
              <a:t>Section 9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Pages 574 – 57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1 -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24     80    196   396   704   1144   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56     116   200  308    440    5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 60      84     108   132   1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4th diff                   24      24      24     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, 4th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Quart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3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 20           20         -28      -124      -2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0             -48         -96         -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- 48           -48          -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 3rd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cubic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-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6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+2x +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here exists a polynomial formula of degree 4 for the sum of the cubes of the integers from 1 to n.  Find that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so 1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so 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8  + 1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so 3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27 + 9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so 4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64 + 36 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so 5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125 + 100 = 2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6920" y="1409760"/>
            <a:ext cx="62881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225=625a+125b+25c+5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100= 256a+64b+16c+4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36 = 81a + 27b + 9c + 3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9 = 16a + 8b + 4c + 2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1 = a + b + c + 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809880" y="4330800"/>
                <a:ext cx="3175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A Few Formula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etrahedral nu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riangular numb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828800" y="2038320"/>
                <a:ext cx="4086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91120" y="3562200"/>
                <a:ext cx="17460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41:51Z</dcterms:created>
  <dc:creator>Laura Helbing</dc:creator>
  <dc:description/>
  <dc:language>en-US</dc:language>
  <cp:lastModifiedBy>Laura Helbing</cp:lastModifiedBy>
  <dcterms:modified xsi:type="dcterms:W3CDTF">2011-04-13T18:09:56Z</dcterms:modified>
  <cp:revision>13</cp:revision>
  <dc:subject/>
  <dc:title>PRESENTATION  NAME</dc:title>
</cp:coreProperties>
</file>