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CF3A-B54C-427A-8740-94518660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E396-7112-48A3-8D82-5955F12B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838-AA39-49E7-8A6C-640DDFA6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2A8C-E327-4AF4-8FCD-919529C1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FEB4-E9C1-48C5-916C-55A78A11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3DF7-95C3-41A2-A054-ED5A42F8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BA5D-61C4-422D-96F9-5F29F360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E62B-A095-4EB9-A25F-2DDB5A67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44BF-082A-423F-9A92-50522792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247E-6BBD-4DB4-90C6-E1C07837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7A4F-E19E-4335-A09F-9DED92EB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0609-06D6-49E2-8EDF-38389734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2A09-27CD-403B-8AEF-2412B8E68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phs of Polynomial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sson 9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560" y="16761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imum Val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eme Max (or absolute) : largest value in i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ve max (or local): highest value in an area (Inflection poi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mum Val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eme Min : smallest value in i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ve min: lowest value in an area (Inflection poi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 All extreme points are relative point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eros or roots of the polynomial function: all of the values of x where p(x)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837720"/>
            <a:ext cx="9144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raph: p(x) = -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+ 4x + 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zero can you identify from the grap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stimate the other zeros to the nearest tent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ver what interval(s) is it positi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ver what interval(s) is it negati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662280" y="2057400"/>
            <a:ext cx="67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-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444120" y="3429000"/>
            <a:ext cx="236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-1.3 , 2.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933480" y="4572000"/>
            <a:ext cx="307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-1.3 &lt; x &lt; -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4583520" y="4648320"/>
            <a:ext cx="195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x &gt; 2.3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455920" y="6027840"/>
            <a:ext cx="289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-1 &lt; x &lt; 2.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oximate (to the nearest hundredth) the coordinates of the relative maximum point of the function p from example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836800" y="3886200"/>
            <a:ext cx="303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(1.15, 6.08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Pages 567 – 568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1 – 4, 7 – 1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0:35:42Z</dcterms:created>
  <dc:creator>Laura Helbing</dc:creator>
  <dc:description/>
  <dc:language>en-US</dc:language>
  <cp:lastModifiedBy>Laura Helbing</cp:lastModifiedBy>
  <dcterms:modified xsi:type="dcterms:W3CDTF">2011-03-21T01:14:49Z</dcterms:modified>
  <cp:revision>4</cp:revision>
  <dc:subject/>
  <dc:title>Graphs of Polynomial Functions</dc:title>
</cp:coreProperties>
</file>