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D84-6DF4-4F85-A4DE-7C6D8D76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E13-9924-4436-A690-D8BF5D75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EED-8416-47B5-B201-5E52078C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9CC-CEDE-4454-B16E-CFDCD32E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602-2044-4765-A731-A8699848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D85-2043-41AF-9937-7E607CD7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E652-AF6A-4AA7-A754-7D660BBA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0D4-B560-4472-9A3E-C7D619DC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86F-9ABD-4F44-B20F-1A0F600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1C4-8381-402B-BA97-ED8D2039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E28-3C05-4BAF-BFEC-4618C51F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D9D-129A-4B07-8A7B-562BE9E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923D-C12F-44A0-A534-B59F93789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s of Polynom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ax (or absolute) : larg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ax (or local): high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in : small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in: low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ll extreme points are relative poin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os or roots of the polynomial function: all of the values of x where p(x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aph: p(x) = 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+ 4x +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zero can you identify from the grap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imate the other zeros to the nearest tent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posi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662280" y="2057400"/>
            <a:ext cx="6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444120" y="3429000"/>
            <a:ext cx="23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,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933480" y="457200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&lt; x &lt; 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83520" y="4648320"/>
            <a:ext cx="195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x &gt; 2.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55920" y="6027840"/>
            <a:ext cx="28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 &lt; x &lt;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e (to the nearest hundredth) the coordinates of the relative maximum point of the function p from example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836800" y="388620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(1.15, 6.08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567 – 568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1 – 4, 7 – 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35:42Z</dcterms:created>
  <dc:creator>Laura Helbing</dc:creator>
  <dc:description/>
  <dc:language>en-US</dc:language>
  <cp:lastModifiedBy>Laura Helbing</cp:lastModifiedBy>
  <dcterms:modified xsi:type="dcterms:W3CDTF">2011-03-21T01:14:49Z</dcterms:modified>
  <cp:revision>4</cp:revision>
  <dc:subject/>
  <dc:title>Graphs of Polynomial Functions</dc:title>
</cp:coreProperties>
</file>