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073-5DC8-4BF2-80C6-3CDDA8ED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5EB-6D1F-4AA6-BC6F-B46389DD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43E-24AC-4B1D-B610-3B0D1636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489-C4CD-4B5F-9F02-F1924C18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62C-933E-4020-B628-C363CF55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094-0BAA-4CF4-9F03-C2351E03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2FB-4983-4727-8E00-EB193A2D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AB9-ED40-427C-9970-3F9B4CB0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0BE-964F-4EDD-9CDA-85D79791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42D-EE23-47DA-A821-E4DE299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6EC-9ECE-4FF2-8170-9C0E04C3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377-D9F6-4FEC-AB1E-A8E431D4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F3BC-6D08-4449-BDC7-22029A057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s of Polynomial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ax (or absolute) : larg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ax (or local): high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in : small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in: low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All extreme points are relative poin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ros or roots of the polynomial function: all of the values of x where p(x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aph: p(x) = 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+ 4x +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zero can you identify from the grap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stimate the other zeros to the nearest tent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posi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662280" y="2057400"/>
            <a:ext cx="6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444120" y="3429000"/>
            <a:ext cx="236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,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933480" y="4572000"/>
            <a:ext cx="30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&lt; x &lt; 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583520" y="4648320"/>
            <a:ext cx="195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x &gt; 2.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455920" y="6027840"/>
            <a:ext cx="289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 &lt; x &lt;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ximate (to the nearest hundredth) the coordinates of the relative maximum point of the function p from example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836800" y="388620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(1.15, 6.08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567 – 568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1 – 4, 7 – 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0:35:42Z</dcterms:created>
  <dc:creator>Laura Helbing</dc:creator>
  <dc:description/>
  <dc:language>en-US</dc:language>
  <cp:lastModifiedBy>Laura Helbing</cp:lastModifiedBy>
  <dcterms:modified xsi:type="dcterms:W3CDTF">2011-03-21T01:14:49Z</dcterms:modified>
  <cp:revision>4</cp:revision>
  <dc:subject/>
  <dc:title>Graphs of Polynomial Functions</dc:title>
</cp:coreProperties>
</file>