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18C-9688-4A21-A6FA-28ABBDB7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204-FBF8-4E80-A359-5CAE03F6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E11-A37F-4419-A03D-6A6ED958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6DB-487B-4CBC-9590-8605EFA3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A58-9693-4299-B269-3288D66A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A2C-1EB4-4F3E-B446-9CD2AC10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9D0-65DC-4A3C-A79C-CAAC96A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87B-3E3E-49E3-BCA9-10E8FF8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7C2-04AF-485D-A28D-9B130299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299-265E-4BC8-8023-9179620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9E4-049C-47D6-B2E5-215210B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1E4-CE32-4831-983E-9E051F2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9B6-79C2-4346-9F87-B26C99DB7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s of Polynom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ax (or absolute) : larg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ax (or local): high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in : small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in: low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ll extreme points are relative poin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os or roots of the polynomial function: all of the values of x where p(x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aph: p(x) = 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+ 4x +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zero can you identify from the grap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imate the other zeros to the nearest tent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posi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662280" y="2057400"/>
            <a:ext cx="6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444120" y="3429000"/>
            <a:ext cx="23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,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933480" y="457200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&lt; x &lt; 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83520" y="4648320"/>
            <a:ext cx="195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x &gt; 2.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55920" y="6027840"/>
            <a:ext cx="28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 &lt; x &lt;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e (to the nearest hundredth) the coordinates of the relative maximum point of the function p from example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836800" y="388620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(1.15, 6.08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567 – 568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1 – 4, 7 – 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35:42Z</dcterms:created>
  <dc:creator>Laura Helbing</dc:creator>
  <dc:description/>
  <dc:language>en-US</dc:language>
  <cp:lastModifiedBy>Laura Helbing</cp:lastModifiedBy>
  <dcterms:modified xsi:type="dcterms:W3CDTF">2011-03-21T01:14:49Z</dcterms:modified>
  <cp:revision>4</cp:revision>
  <dc:subject/>
  <dc:title>Graphs of Polynomial Functions</dc:title>
</cp:coreProperties>
</file>