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52A-4665-4442-90F0-67A51664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6D7-739D-453D-9F70-75071166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D43-6FBE-4375-BB69-80CEF006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CBD-3030-46B6-B751-9D9C2A5A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A6D-2A84-4D67-8831-EE51C77D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EA4-98FD-48B4-BC1A-3D424363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ADF-BFB1-47BC-A29F-3F9743E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4E5-D32D-48EE-87BE-2FC9C1CB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E6E-9011-4430-A10F-6878F46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B0E-F09B-4D4A-8667-4DBC76F1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3FC-B119-4B3D-84EC-49B5FE6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722-F168-4A72-B130-1158D30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F373-52FB-408B-8292-1438A1B7E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nomial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-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4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x +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term: term with the largest ex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gree of polynomial: exponent (s) of leadi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coefficient: coefficient in front of leading term (could be nega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andard form: exponents are going dow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89440" y="220968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x</a:t>
            </a:r>
            <a:r>
              <a:rPr b="1" lang="en-US" sz="44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736800" y="36576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975760" y="5486400"/>
            <a:ext cx="5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– 3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1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gree of polynomi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coeffic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01320" y="22096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x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y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51000" y="4038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2240" y="56386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can earn .5% compounded each month, paid at the end of the month.  If you deposit $100 on Ja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$150 on Feb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$125 on March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nothing else for the rest of the year.  How much will be in the account on Jan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the next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6560" y="4724280"/>
            <a:ext cx="89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5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25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480" y="5410080"/>
            <a:ext cx="54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6.17 + 158.46 + 131.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33080" y="614988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$396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radius R of a circle is increased by 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.  Express the area of the enlarged circle as a polynomial in r and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. Give the degree of the polynomi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174760" y="4038480"/>
            <a:ext cx="44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A =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(R+ r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26680" y="4724280"/>
            <a:ext cx="35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2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r +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736800" y="61498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Pages 560 – 56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 – 6, 11 – 12,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5 -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22:40Z</dcterms:created>
  <dc:creator>Laura Helbing</dc:creator>
  <dc:description/>
  <dc:language>en-US</dc:language>
  <cp:lastModifiedBy>Laura Helbing</cp:lastModifiedBy>
  <dcterms:modified xsi:type="dcterms:W3CDTF">2013-04-02T19:04:49Z</dcterms:modified>
  <cp:revision>12</cp:revision>
  <dc:subject/>
  <dc:title>Polynomial Models</dc:title>
</cp:coreProperties>
</file>