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071-DEAA-4FD7-83F2-48BA96EB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2B6-3A82-4888-86EA-3BE7D599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E06-6AB7-4EAC-BB16-F3A6D831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5B4-3661-4C8E-BF33-80A62432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0F9-A804-4838-9C01-4D00893B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0F5-2798-478A-A1EC-B1112DE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EF8-B5D9-40B5-886C-2292CEE4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2540-48E7-4939-9F6F-265F9933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A9D2-1080-4277-835C-A3BA56F7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F68-909A-4A71-B0D8-E8E1FA3D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DEC-4212-4BE4-8017-216AA3CD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DF7-72FC-4353-999C-DE724B80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AF04-80C1-4620-801C-EB2B4DDF4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nomial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-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4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x +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term: term with the largest expo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gree of polynomial: exponent (s) of leading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coefficient: coefficient in front of leading term (could be nega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andard form: exponents are going dow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89440" y="2209680"/>
            <a:ext cx="9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x</a:t>
            </a:r>
            <a:r>
              <a:rPr b="1" lang="en-US" sz="44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736800" y="36576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975760" y="5486400"/>
            <a:ext cx="5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– 3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1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gree of polynomi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coeffic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001320" y="22096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x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y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51000" y="40384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432240" y="56386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can earn .5% compounded each month, paid at the end of the month.  If you deposit $100 on Ja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$150 on Feb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$125 on March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nothing else for the rest of the year.  How much will be in the account on Jan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the next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06560" y="4724280"/>
            <a:ext cx="89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5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1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25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08480" y="5410080"/>
            <a:ext cx="54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6.17 + 158.46 + 131.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33080" y="6149880"/>
            <a:ext cx="18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$396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radius R of a circle is increased by 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.  Express the area of the enlarged circle as a polynomial in r and 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. Give the degree of the polynomi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174760" y="4038480"/>
            <a:ext cx="44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A =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(R+ r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26680" y="4724280"/>
            <a:ext cx="351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2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r +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736800" y="61498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Pages 560 – 56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 – 6, 11 – 12,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5 - 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1:22:40Z</dcterms:created>
  <dc:creator>Laura Helbing</dc:creator>
  <dc:description/>
  <dc:language>en-US</dc:language>
  <cp:lastModifiedBy>Laura Helbing</cp:lastModifiedBy>
  <dcterms:modified xsi:type="dcterms:W3CDTF">2013-04-02T19:04:49Z</dcterms:modified>
  <cp:revision>12</cp:revision>
  <dc:subject/>
  <dc:title>Polynomial Models</dc:title>
</cp:coreProperties>
</file>