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E4A-2C4A-4CAC-96E0-2B9D8AC0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FC3-C498-4858-8DC8-32E1E330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86E-D8E0-488D-A958-1C8351C9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A84-3F75-402A-9A18-8DB2FB82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863-768A-4243-90F9-33F32092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5D2-9006-4CBB-9745-8C294D37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A88-611C-4CA0-827B-16CCC563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FE2-1462-4B6E-9C87-322883A5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0295-2976-423E-9485-5CA45C53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755-3AD7-4039-9E40-69A2EF3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2CE-82BB-41B0-B684-4F92762A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E44-EA8B-4409-9BE8-FC87EFA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6862-064B-40D9-B4D0-C8D271FA6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nomial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-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4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x +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term: term with the largest ex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gree of polynomial: exponent (s) of leading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coefficient: coefficient in front of leading term (could be nega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andard form: exponents are going dow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89440" y="220968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x</a:t>
            </a:r>
            <a:r>
              <a:rPr b="1" lang="en-US" sz="44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736800" y="36576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975760" y="5486400"/>
            <a:ext cx="5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– 3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1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gree of polynomi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coeffic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001320" y="22096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x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y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51000" y="40384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432240" y="56386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can earn .5% compounded each month, paid at the end of the month.  If you deposit $100 on Ja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$150 on Feb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$125 on March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nothing else for the rest of the year.  How much will be in the account on Jan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the next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06560" y="4724280"/>
            <a:ext cx="89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5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1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25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08480" y="5410080"/>
            <a:ext cx="54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6.17 + 158.46 + 131.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33080" y="6149880"/>
            <a:ext cx="18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$396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radius R of a circle is increased by 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.  Express the area of the enlarged circle as a polynomial in r and 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. Give the degree of the polynomi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174760" y="4038480"/>
            <a:ext cx="44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A =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(R+ r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26680" y="4724280"/>
            <a:ext cx="35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2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r +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736800" y="61498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Pages 560 – 56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 – 6, 11 – 12,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5 -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1:22:40Z</dcterms:created>
  <dc:creator>Laura Helbing</dc:creator>
  <dc:description/>
  <dc:language>en-US</dc:language>
  <cp:lastModifiedBy>Laura Helbing</cp:lastModifiedBy>
  <dcterms:modified xsi:type="dcterms:W3CDTF">2013-04-02T19:04:49Z</dcterms:modified>
  <cp:revision>12</cp:revision>
  <dc:subject/>
  <dc:title>Polynomial Models</dc:title>
</cp:coreProperties>
</file>