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6DF-1F6B-4CF7-B46E-BD764818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251-6291-494F-902D-DEC868B8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C18-321D-4270-BCF6-5A88C1FE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671-8125-4FE5-8E91-2D459D3C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0E3-E376-4730-9398-C42B070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C97-69F7-4536-A522-F2095246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DA3-711F-400C-BA80-2F15427D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8DA-2048-4565-99F0-9D1C007C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733-AA9B-48A2-8163-EAE53AE3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11F-8538-4669-A834-CC03FACD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C3F-DAD2-493E-A970-9791DA63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D0E-6572-4664-9BED-ED478D23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4C16-45CD-417E-A41F-2F4A6C82D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lynomial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-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4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x +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term: term with the largest expo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gree of polynomial: exponent (s) of leading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coefficient: coefficient in front of leading term (could be nega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andard form: exponents are going dow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89440" y="2209680"/>
            <a:ext cx="9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x</a:t>
            </a:r>
            <a:r>
              <a:rPr b="1" lang="en-US" sz="44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736800" y="36576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975760" y="5486400"/>
            <a:ext cx="5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– 3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1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gree of polynomi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coeffic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001320" y="220968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x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y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51000" y="40384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432240" y="56386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se you can earn .5% compounded each month, paid at the end of the month.  If you deposit $100 on Ja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$150 on Feb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d $125 on March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nothing else for the rest of the year.  How much will be in the account on Jan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the next y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06560" y="4724280"/>
            <a:ext cx="89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5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1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25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0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08480" y="5410080"/>
            <a:ext cx="54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6.17 + 158.46 + 131.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133080" y="6149880"/>
            <a:ext cx="18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$396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radius R of a circle is increased by 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.  Express the area of the enlarged circle as a polynomial in r and 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. Give the degree of the polynomi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174760" y="4038480"/>
            <a:ext cx="44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A =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(R+ r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326680" y="4724280"/>
            <a:ext cx="351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2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r +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736800" y="61498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Pages 560 – 56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 – 6, 11 – 12,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5 - 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1:22:40Z</dcterms:created>
  <dc:creator>Laura Helbing</dc:creator>
  <dc:description/>
  <dc:language>en-US</dc:language>
  <cp:lastModifiedBy>Laura Helbing</cp:lastModifiedBy>
  <dcterms:modified xsi:type="dcterms:W3CDTF">2013-04-02T19:04:49Z</dcterms:modified>
  <cp:revision>12</cp:revision>
  <dc:subject/>
  <dc:title>Polynomial Models</dc:title>
</cp:coreProperties>
</file>