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DB4-5485-4864-A8E9-43CAC06F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2CA-6A7B-4BDC-B858-D3F91363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FAF-B833-4E1C-9261-BCCA8AF8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623-D31C-4677-A8EF-DE7231FF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9C88-3586-4069-92A3-906DD077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0C0D-08A8-48A3-B1AC-3BAB6912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E198-6E36-46EE-8862-1BCBB6CD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B614-FD13-4856-80D8-123BC279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E7BE-0EE9-49D3-820E-AEA2AAC8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31D2-6A68-4A09-B219-EF1D0D57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B5F2-B2C4-4C82-83A6-6AB89113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C67-52FF-49F5-ACDD-B67D7061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A35C-71C5-4C4D-B656-4B19D8C7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02A8-3901-4D3F-931A-80377E1E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1BAB-8F52-4A59-9BB0-225AF085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162A-4F89-4632-A209-400F0530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18A3-F430-477D-952F-3DF55030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A514E-5927-4985-9417-EC79B169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3CC72-1143-4B1B-911D-FCB267BB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8C1A9-EA27-4060-A8A7-17D7DA9E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9000D-CB88-445D-B5A6-C4DF158F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8CEFB-4EC7-4D0B-AD8F-52FCF31F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FA6-E064-49D2-ACB6-7C401E5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63658-EFF1-4503-B9FB-C2AD1097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0DF95-9564-4E46-91BC-629A2EA5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F0ACB5-73FC-45B2-803E-CAF60D3E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3B938-D486-4824-AB74-D00D2AE7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D3CB0E-F840-49E2-8D23-FCB49BFB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13876-93E5-4BED-91AB-AED730B3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0E196-5733-4416-A302-1BAB3EC0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DE06A-80EE-4144-81AD-0833E6E5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C00E3-394C-4872-9F75-1A8BC087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201606-7C31-4805-97B8-ED4DFEAB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583-AA02-4357-AE91-0DF5E81C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6B76C-5F62-4E2C-BC90-4551DD68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C88CF-DDC7-4FCE-9695-08398CF5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7E586-8AAF-4F26-91FD-D705AF6A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CEE3D-CD42-4609-AC1B-C3ACED02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20A887-B848-41AC-A0B6-90F1518E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6B0C83-2A0B-4D16-854B-277E40BC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BFA3C-FA9D-497E-A9B2-77A06FD9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E11FE-E2D6-4228-99B5-7A3204FF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168D0F-0B82-4539-8479-B10880E2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F554E-5506-4C9D-9EB4-53B16CF7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0BB-EF9F-4556-9DCD-F3C0C787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93BF0-B295-4F5A-B456-2D6727D9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66193F-FF43-4C0D-900A-EEC54AAB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6A19B-281B-49FC-A353-05041F03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F5FDE-80C4-4933-A261-2D0083F8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5CCDA-0333-4A47-B48F-63398659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CDC95-2807-40BF-AA17-177EE4E2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7A454-0C38-41DF-9607-6871F615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3B4FD0-3132-49AC-BAA2-05CFD9C8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F4D11-56FB-4857-A779-CD19B6F6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0453E-CE37-41F0-AE80-85BB9804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886-271A-4990-A82B-248F7F73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602669-2778-4B27-B402-570A0A52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4027E-643A-4101-A4A3-A99C8AC5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9EC92-F5DE-4150-A4C4-998902C0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FB69B-2858-4781-8C3C-5DAFC4BA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62207-A3F2-4C58-8205-06246B73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952C9-1433-41C4-AC45-39D1D80B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B978D-8C0C-4929-8689-44B8BB62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AFDAE-C984-4807-B8CB-D84CCAAB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30E7E-CF8E-4607-BB68-BB470B73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C641A-2344-46DA-81AF-DA758A1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A3C-98F9-45A9-A87C-F97CB53A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20DD0-E235-4EB3-8876-BD2E7535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27C71-C5E8-46A4-B4E6-43A6E5E1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3D5F-EEAA-4ABE-B07B-6AE4D96D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24C6AE-3A0A-4F8F-9584-72422A2D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27E00-C27F-4938-943A-F438C198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F9AB6-89B3-4FA4-84FB-10F08259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23DA2-7490-427C-B77F-5597D304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E1D0F-9769-4EE2-809F-0397E7A8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1A02DD-8F22-42D6-BC58-C13AD77F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A2071-D1B4-4F23-AEEF-E9790200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389-932E-41FB-8BD5-6AA216AB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864A0-2515-4E64-8B8A-64EA3F6E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AA101-76F2-4166-B880-40B871D8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0E393-B938-4EBF-85C4-902EE740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02F16-6843-4088-A412-12EC1C66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FDF90A-145F-4551-8FA0-1907A004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466A9-2535-48E4-9B28-F02E2B84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F2D56-81B2-4918-8FBD-22ACEBE5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18D30-5940-488C-90C9-F838BFAA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FF3FE-9F83-41A0-B4C5-FA98B90F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34ABF-1B9A-43EB-AE98-CE025095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B19C-6085-41AC-A203-9C398C7E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886CE-2C2D-4837-9E5B-5761D29D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E398B-F709-447D-8353-29E983B4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CF559-0D0C-4539-8E6D-97EE33F9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112F8-C1FB-4893-8C50-3FFC99BB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83901-A4E3-4752-BA2E-6633DA5A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924E8-FD18-4BF3-B768-96CFBFF6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ACF4-0B57-41FF-88F7-59351871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5776-F034-4FAC-ACDA-9EBEE842A0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6204-4BDE-4551-96E9-3074B2C4555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3538-7BFA-4B26-948D-80AEA338726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853E-288C-45CD-B9F2-8667D0025C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8DF9-D724-4444-8C16-BB1BF084FA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E4AA-88E6-4FD2-A7C4-12260BCBF9CB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025A-C63E-41FC-8BD8-94409888E86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7522-CF51-4B86-9A70-3EA00BF2B4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DESIGNING SIMULATION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7.7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y Hall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w Cen MT"/>
              </a:rPr>
              <a:t>Break up into teams of 2 and complete the activity on page 464.  Fill in the chart for number 5, and answer questions  6 and 7.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Simulation: a way to test the results of an experiment without actually conducting the experiment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Trial: each repetition of the experimen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e Carlo Simula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determine how it will be simulate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Define what constitutes a single trial and what data will be record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Specify the number of trials that will be run and how the estimated answer will be obtain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**very helpful – p. 874 (random numbers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BEGIN AT ANY NUMBER(not beginning)!!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Four darts are thrown randomly at a coordinate plane and the quadrants are recorded.  It is desired to simulate the probability that all 4 darts land in at most 2 quadrants.  Design a simulation with 50 trials to estimate this probability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Sample: roll two dice, 1 – 4 stand for quadrants.  Re-roll if it lands on 5 or 6.  Roll die 4 times – record answer.  Repeat 50 tim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Explain how to use a table of random numbers to simulate the trials in Example 1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Take the numbers in pairs.  If the number is between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0 – 2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1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25 – 4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2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50 – 7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3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75 – 9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4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3233520" y="4267080"/>
            <a:ext cx="64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Look at 8 numbers.  Record resul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Repeat 50 time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un the simulation mentioned in example 2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I began my random number at row 23, column 10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4, 1,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3, 1,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4, 4, 1, 4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3702960" y="42670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18 / 50 = .36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3128760" y="4952880"/>
            <a:ext cx="54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Theoretical probability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3739320" y="594360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/16 + ¼ + 1/16 = 3/8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Page 469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3, 4, 6 – 8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(skip 8 b)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0:08:29Z</dcterms:created>
  <dc:creator>Laura Helbing</dc:creator>
  <dc:description/>
  <dc:language>en-US</dc:language>
  <cp:lastModifiedBy>Laura Helbing</cp:lastModifiedBy>
  <dcterms:modified xsi:type="dcterms:W3CDTF">2011-02-23T00:38:05Z</dcterms:modified>
  <cp:revision>3</cp:revision>
  <dc:subject/>
  <dc:title>Designing Simulations</dc:title>
</cp:coreProperties>
</file>