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5BD7-F3EF-41FC-947A-6453350B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FD5F-3229-4D78-92BB-4C3A5A8E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E516-466C-4B5C-B1F5-225DD258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9476-0550-464C-92C3-B194AED2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CB7B-5ED7-494E-9EDB-B86285BA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992D-62B2-4B0F-8B54-6CE526E2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D198-059A-4AA4-AC63-AB44B746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4C66-1D98-4C79-9152-ADE8EF6E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3126-6AAF-48AB-8C87-9679EF12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9A86-B7F2-409E-93C1-874E964E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CB0D-1D88-4BE5-A05C-45757B2C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309A-4368-4A48-AE18-BD2AE6B9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207D-1647-4CCD-AE0A-9DEB5426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3A79-7042-45E7-81A3-F700C3D6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DE71-5B2E-4205-9B41-B93143BF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56D0-DF8B-4151-9270-93567B578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4A0C-43F4-48FD-BCAA-0AC920D1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92F805-0F6C-4607-8201-5B78B95A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94D073-8383-4493-88F0-DF334942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E5E4B-A82E-4370-BC60-CE106FDD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E2A953-ED7C-4A44-9853-E0AB0A5F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7A6C1C-8748-44B8-BC57-7E67169D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5989-D198-4FC9-B426-20202BB7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3CD01-4119-49FA-A9B6-52060F92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160738-5E1C-4508-9D90-61A769FD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671A66-9E6F-4384-943A-D2E7810E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F63A6-977E-4A9D-9120-0A7E31A1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033046-3AE6-46FE-ABF5-03CBEE0A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B14B6-D44E-41E0-8336-57024765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7C3C79-BD9F-4CA3-9205-0025F317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AF210D-0CA7-470E-97CF-6A1FD3ADF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3649B8-B087-4776-B281-C99B11BD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F542F9-D834-4FB3-BAF7-2CB4738B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A300-60DC-40E8-97E0-A675FCD2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CE04C5-F4DA-4551-A5F6-00DDE7E4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D3CC71-F4AF-44FB-8C0F-DC7BDFBE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699149-9734-4656-8E14-7D7CF4B8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B5DAAB-8D51-4232-BABF-5D73B111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4FE0AF-0EE3-416E-91EA-A917A119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38A9A7-1410-4E12-A8AA-F901AD86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3E5D05-7606-41F2-8897-180F4259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A38588-F474-4D3E-9FF4-9EA004074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377102-990C-40C8-BC78-F41632AB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25165C-A437-4DE8-9B72-7EB23644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8A06-2251-4BFA-A4B1-1983D069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2AD438-BAA7-4A58-B841-8F50537B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291548-3619-453D-AE3D-506A9594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C01B65-3902-4252-9B69-885B1EB2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0BF7DF-32BC-4346-BC6F-52345D2D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4B9E2C-92C6-4A3C-BAE3-4791A506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96CC59-B777-49B7-B79F-A596F4B3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ABB447-EA8D-4A29-A7BC-4796B4D6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533246-2E5D-429B-B617-7D5DDDEB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FE460B-5284-45F6-AB48-52ACC862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02F7BF-054D-4F90-A383-7AF73C19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3E7A-FEBF-4254-9757-D7253DA7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7F135E-FAFA-4F81-B3B4-C83988A2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65032-6D76-4834-AD4A-EDE2DD53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EAE95-4E5A-4BC9-92F6-06363C83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8CC81-5CBF-4269-BA6A-2C4E3AE0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DE7D1-4AD9-4112-8E04-EDADF6FF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D9FC1-779E-4B10-B99B-AC22500A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0F5C2-3721-4951-AE7C-F5A321BB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589CA-EEA8-4167-B321-44E54EF6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A6EFC-DE2B-42D2-A16F-87757128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694A5-4D37-46ED-9123-D6AE5B97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FE89-39F8-4E59-AC19-66E51B24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53A26-EB76-4122-99A1-16DAF4E3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26BFC-68BA-4809-8E84-866BB1E7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469EE-FBD2-421D-A726-A31603C4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48C297-3FDB-4A3E-9EE7-3026DE65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821AE5-2A03-48DC-A2E6-860BAC22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48E29B-6CB8-43C7-8C0E-96CFDE5D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81F4B9-DF5A-4C4C-A991-26CC2E32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D2E831-28B9-4948-86A9-9EDB8DCA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45A1F0-5CC1-431E-A35F-B22D0408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5CACB9-6840-4D32-97D8-5FDF90B0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1121-9299-4901-8ECE-BEC065C3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887824-CB3F-4EE9-9EE6-2B86F21F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DDFFB6-3A41-4891-89EB-1C0EF9BC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39D8B0-49EB-43F9-8543-ED0A76A3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24B17C-C7AE-45ED-A6FD-1BAC5CEE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B326C8-DCE2-4C0F-B82B-93CB3DAB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14C8C-9884-4B67-91F8-35A2709A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1EEAD-64E2-4F6E-B432-35E0E27C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D62AB-5382-4251-A64E-566CFC8B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7E36B-9B46-4B91-AFDB-38E957BA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882B2-9912-470D-8387-123B260E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B25C-C3A0-4666-97A9-F93D9733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4A8EC-111C-4C31-BCAC-90454EFF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A9810-C009-4073-A061-1E1DDE56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C3664-B8D0-4163-9ADF-F2CB418F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91785-FB05-4431-ADA4-0A2735B6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F711B-2941-40D4-8CDD-9C84FDB4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7859F-C933-4D25-99D6-DB9BCE80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5FF8E-9786-4E21-92AD-3F1DE8B5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69CA-9CEB-4ACF-9834-1C704624D61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D071-5C8B-45DA-80A9-830861409FB6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2F40-35D8-48D3-A38B-484C3446DC7B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C156-19BF-4414-B116-80DA86D5368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0081-AEA1-4F3F-A75C-E85A075466C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87CD-7702-47AF-ADF1-A1FF1B7B7F05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BECF-F2BE-4326-8FE4-B9C7473E98E4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0279-4F48-4C35-AC94-988C5EEBBC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DESIGNING SIMULATION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ction 7.7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ty Hall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w Cen MT"/>
              </a:rPr>
              <a:t>Break up into teams of 2 and complete the activity on page 464.  Fill in the chart for number 5, and answer questions  6 and 7.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efini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Simulation: a way to test the results of an experiment without actually conducting the experiment.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Trial: each repetition of the experimen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te Carlo Simula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1. determine how it will be simulated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2. Define what constitutes a single trial and what data will be recorded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3. Specify the number of trials that will be run and how the estimated answer will be obtained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**very helpful – p. 874 (random numbers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BEGIN AT ANY NUMBER(not beginning)!!!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1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Four darts are thrown randomly at a coordinate plane and the quadrants are recorded.  It is desired to simulate the probability that all 4 darts land in at most 2 quadrants.  Design a simulation with 50 trials to estimate this probability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Sample: roll two dice, 1 – 4 stand for quadrants.  Re-roll if it lands on 5 or 6.  Roll die 4 times – record answer.  Repeat 50 times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2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Explain how to use a table of random numbers to simulate the trials in Example 1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Take the numbers in pairs.  If the number is between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0 – 24 </a:t>
            </a:r>
            <a:r>
              <a:rPr b="1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quad 1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25 – 49 </a:t>
            </a:r>
            <a:r>
              <a:rPr b="1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quad 2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50 – 74 </a:t>
            </a:r>
            <a:r>
              <a:rPr b="1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quad 3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75 – 99 </a:t>
            </a:r>
            <a:r>
              <a:rPr b="1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quad 4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3233520" y="4267080"/>
            <a:ext cx="641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Look at 8 numbers.  Record result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Repeat 50 times!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3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Run the simulation mentioned in example 2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I began my random number at row 23, column 10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1, 4, 1, 3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1, 3, 1, 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4, 4, 1, 4 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TextBox 3"/>
          <p:cNvSpPr/>
          <p:nvPr/>
        </p:nvSpPr>
        <p:spPr>
          <a:xfrm>
            <a:off x="3702960" y="42670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18 / 50 = .36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3128760" y="4952880"/>
            <a:ext cx="54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Theoretical probability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TextBox 6"/>
          <p:cNvSpPr/>
          <p:nvPr/>
        </p:nvSpPr>
        <p:spPr>
          <a:xfrm>
            <a:off x="3739320" y="5943600"/>
            <a:ext cx="42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1/16 + ¼ + 1/16 = 3/8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omewo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w Cen MT"/>
              </a:rPr>
              <a:t>Page 469</a:t>
            </a:r>
            <a:endParaRPr b="0" lang="en-US" sz="8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w Cen MT"/>
              </a:rPr>
              <a:t>3, 4, 6 – 8</a:t>
            </a:r>
            <a:endParaRPr b="0" lang="en-US" sz="8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w Cen MT"/>
              </a:rPr>
              <a:t>(skip 8 b)</a:t>
            </a:r>
            <a:endParaRPr b="0" lang="en-US" sz="8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0:08:29Z</dcterms:created>
  <dc:creator>Laura Helbing</dc:creator>
  <dc:description/>
  <dc:language>en-US</dc:language>
  <cp:lastModifiedBy>Laura Helbing</cp:lastModifiedBy>
  <dcterms:modified xsi:type="dcterms:W3CDTF">2011-02-23T00:38:05Z</dcterms:modified>
  <cp:revision>3</cp:revision>
  <dc:subject/>
  <dc:title>Designing Simulations</dc:title>
</cp:coreProperties>
</file>