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5D1B-95D3-496A-B2A9-ACB9FE31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63B7-F58E-4A71-8746-4CDB398B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C3A-8139-4F3B-B90D-2EB364A0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82BC-BE37-430B-A0A0-0668DAC7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7642-4024-4226-8022-A656880E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A70C-D797-4425-B018-FB477FC0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7DCE-F72F-4144-B429-B36AA87B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D62D-451D-48DD-BB8C-8DA633C1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F7CB-47F3-465F-8FD2-E390FCC5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9C78-645C-4001-B5A0-EB912857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2D5E-7C2D-4547-BDFD-2F4707B0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7186-A54D-49D4-B012-B95DE690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BB26-AB30-4CAE-9CD7-B413E395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06F0-8746-4878-94CD-B5FF5B6C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5FFD-E49F-4223-AE22-BCA40F59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1C44-333C-454D-9426-82EBB71B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69D1-8324-4B79-80B0-5A5A01BF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5599A0-5655-4D01-A84D-A00F263D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D1AAB-54E7-4B4F-9C12-5D24B683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492AF-A5BD-497B-B9FD-4A7777BA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D2B6C-6167-447F-8C50-A2F27B2F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26B41-C1A6-4AB6-AA1A-D241805C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D429-EBDB-438B-A089-5BA57EF6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E6012-06C9-4C6A-9E5B-A5CAA783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5FF08-3156-4232-AD42-83B30BCF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9CC6A-F459-4A2B-8089-47000BE4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BDF11-7AA6-4FA9-9FBE-70F720B8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3B301C-2C15-4FDE-BBC4-44962565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90FC4-04B3-4DE3-9080-0D0B6335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651FA-8B6B-46E4-BA75-1649703A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EC1A4C-1081-4C8B-8325-E0C8E7F0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7287F2-1F3A-4834-90C8-D0DD791B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6ABE9F-B9A3-4C1E-AB3A-2FF0A5D6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172E-BBE2-4459-AE1B-567545F6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1273EC-2C82-4C54-9146-E12A0EF2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5121D5-599D-44B0-87F5-7B14355C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71CA24-04CF-46E8-8FE5-15A90143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7564F8-38B1-4444-B16D-4131746F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71597C-A6BE-4802-930E-7EA16B21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6583C6-93BB-4F4C-8B05-CF876910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6A961C-409F-488B-82F4-2386A55F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10A44D-B648-4A1F-B0DC-060B8A26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BD0037-BBA4-458C-AFA8-ACEA2D69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3D6AD9-53D6-430C-AA9D-50D5A5F5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469-5D36-4B50-9294-7241665C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F232B1-7327-44CF-8983-64326E56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AC4BA-B16D-486D-9FEE-96D6A8B1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24BC4A-B9F9-4E3E-9A59-213DF4DE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2A6E1F-CBF4-444D-BB28-E9A26046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E3DEB5-EDE1-4E85-8C8A-7ED7463A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8EB044-AE64-4A79-8CAF-1094C6FF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F4DAE4-F64F-463D-94E2-E9610802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8F6095-7634-4D19-AC80-A8DA4559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39EE48-D8A3-4AF1-B71B-CF7939FC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8C0390-A4C2-493C-AD23-CB95D179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E9A-E2F5-4DF9-9205-CEE0CF36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B48993-BFB4-4DB8-B1C2-766EB85E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4E123-4E56-4DAD-88F9-8F0C7C76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D07AB-FE23-49D7-8172-597CBAF5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F33EF-9341-40D6-A07C-76FEE07A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F1B8E-9DF4-4CE3-A113-70BAB106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66BDF-A370-45B0-AE19-640FD22D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5BADC-3734-4A5D-AE72-4F8E7097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BC186-77FF-404A-BE7F-033116BE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C3766-0168-42B2-ABE6-5E58EB4C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40B34-280F-4E7C-9850-E0C005E0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33A0-FD84-44AD-B4F4-7C261CDB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90D0C-6D1C-4ADC-8EF1-655D6CA5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4BF2F-47C6-4AA7-A0D1-5276B39F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85209-5C4F-4F8D-AA5C-B2CE8370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7F47B8-0DB0-476C-8B26-653F9651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A21301-B6B7-4984-ABB9-034AC5AC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DD7DFC-9623-463B-A151-80F0603A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2153D3-879C-45E4-A295-C02046ED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3F685F-A4C0-4B05-84CB-F4A4AB2E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4F268F-DEBC-4715-928E-CBF6928D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045C57-14FA-404B-B8E8-402E3D73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BD30-D19A-4EB3-9A63-B601041B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3B6537-6CD2-4863-BA36-A9E510A5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8B53CF-6A46-4B4D-AC4D-5BC2549E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A63D3F-492F-4E92-9AD6-BCBB816E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75FD35-BC3D-4E11-8703-FF151079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0726F4-934B-4A4C-A8D8-1823739D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26D71-D169-42C3-99F7-EA3E07D9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15997-E917-443F-B065-070E9A3A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4D3EB-5AF9-4E2B-B1D8-074E8345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A8CBD-35B4-401F-B0AE-2BFAAC7D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81752-6A0E-4B21-8253-65719441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B5E-F1CC-42CC-B38B-0CD391E9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DE2F5-EB46-4055-94B1-9E391A37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F863B-D0CC-4186-B104-A49B7215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8FF2F-AE32-4ABC-B244-EADF144A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D4A90-B946-46C3-B122-04DA7185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46B14-280D-4C79-B570-33BF4AA4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74AA8-A27F-41E6-B50F-AC05C67F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0B2E3-9A2D-46A8-9636-391A4073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51D9-BC99-4AA7-8CEA-8FF7AE69F45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B744-B414-481C-9A76-A5E96129D926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5E0F-3D40-4543-908C-64AC7B003EE8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9644-6308-41AE-81EA-D572791CB1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1A84-E9FD-463D-9D9E-311C2C6E90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4965-C085-4792-9476-9370CF5ACEED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0CEA-C722-4BD0-B9C4-16A1026C3B23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BF2A-C9CD-45AF-99A3-92270EFCCED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DESIGNING SIMULATION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ction 7.7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y Hall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w Cen MT"/>
              </a:rPr>
              <a:t>Break up into teams of 2 and complete the activity on page 464.  Fill in the chart for number 5, and answer questions  6 and 7.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efini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Simulation: a way to test the results of an experiment without actually conducting the experiment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Trial: each repetition of the experimen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e Carlo Simula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1. determine how it will be simulated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2. Define what constitutes a single trial and what data will be recorded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3. Specify the number of trials that will be run and how the estimated answer will be obtained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**very helpful – p. 874 (random numbers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BEGIN AT ANY NUMBER(not beginning)!!!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1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Four darts are thrown randomly at a coordinate plane and the quadrants are recorded.  It is desired to simulate the probability that all 4 darts land in at most 2 quadrants.  Design a simulation with 50 trials to estimate this probability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Sample: roll two dice, 1 – 4 stand for quadrants.  Re-roll if it lands on 5 or 6.  Roll die 4 times – record answer.  Repeat 50 time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2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Explain how to use a table of random numbers to simulate the trials in Example 1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Take the numbers in pairs.  If the number is between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0 – 24 </a:t>
            </a:r>
            <a:r>
              <a:rPr b="1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quad 1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25 – 49 </a:t>
            </a:r>
            <a:r>
              <a:rPr b="1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quad 2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50 – 74 </a:t>
            </a:r>
            <a:r>
              <a:rPr b="1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quad 3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75 – 99 </a:t>
            </a:r>
            <a:r>
              <a:rPr b="1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quad 4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3233520" y="4267080"/>
            <a:ext cx="641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Look at 8 numbers.  Record result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Repeat 50 times!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3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un the simulation mentioned in example 2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I began my random number at row 23, column 10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1, 4, 1, 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1, 3, 1, 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4, 4, 1, 4 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3702960" y="42670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18 / 50 = .36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3128760" y="4952880"/>
            <a:ext cx="54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Theoretical probability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TextBox 6"/>
          <p:cNvSpPr/>
          <p:nvPr/>
        </p:nvSpPr>
        <p:spPr>
          <a:xfrm>
            <a:off x="3739320" y="5943600"/>
            <a:ext cx="42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1/16 + ¼ + 1/16 = 3/8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me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w Cen MT"/>
              </a:rPr>
              <a:t>Page 469</a:t>
            </a: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w Cen MT"/>
              </a:rPr>
              <a:t>3, 4, 6 – 8</a:t>
            </a: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w Cen MT"/>
              </a:rPr>
              <a:t>(skip 8 b)</a:t>
            </a: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0:08:29Z</dcterms:created>
  <dc:creator>Laura Helbing</dc:creator>
  <dc:description/>
  <dc:language>en-US</dc:language>
  <cp:lastModifiedBy>Laura Helbing</cp:lastModifiedBy>
  <dcterms:modified xsi:type="dcterms:W3CDTF">2011-02-23T00:38:05Z</dcterms:modified>
  <cp:revision>3</cp:revision>
  <dc:subject/>
  <dc:title>Designing Simulations</dc:title>
</cp:coreProperties>
</file>