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33A0-761E-43D4-B141-DF924A2C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2129-C5CE-44AE-96B2-5853F758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D621-CD9F-4C08-A62C-D6D18CEA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FF8A-A59B-416A-816B-D3C3CEFD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72AD-D231-4519-8C1E-93BC5DD2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1A7A-8812-4B3E-A4A2-E33E8903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A066-62BF-4E84-955E-EE3C3F8B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3374-8C4D-44F4-9832-469C153A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867F-A06E-4A6A-8D88-A452B533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37E9-439A-4632-9A18-DA51F9A1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E6E8-2BC6-46BF-B983-3B897458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258D-047A-4B10-B7B8-CAD73777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035E-FCF4-4D62-A962-B7310055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0E05-584F-4D96-949F-094C316E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7347-E7D1-49F9-87B7-CA8250AB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99DB-9C77-4692-ADA5-9BD32119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698B-6603-4E5B-923B-FA0FC0A9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D12070-3AAE-4EE8-A32A-AE8B206B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8B5436-444E-4A6A-AAF1-12858040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AD267-062B-406E-81F5-BAFE9963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DED46F-7153-42DF-A8DB-AB722B0F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601AB8-E67E-44CD-A106-D5EFD584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792A-1353-46F5-ACAE-BD9D8475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A46015-DCF6-4517-9045-A1807BD5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7BAC1-D7E3-4D5E-91A6-F344E4A4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63618B-C883-4044-B537-5B47B3F4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04B214-89EC-45E0-95E6-62587C2B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14265C-6D32-4BF5-8FF3-16C0E606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DDBDE-CC42-44F2-AAE3-03ACC781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04CBAE-A5BE-4D6F-A622-69EF9A1F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1C685E-908A-463E-A8B0-1C08101A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C1EE57-C015-45E9-A8B1-83D24C82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4E7E83-788B-46E6-9E9F-B14FCF9B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6251-4AFB-4F93-80D3-F778943E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A8137C-5C97-4146-8680-417E58B4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045111-CAA2-4AFE-ABE3-E5C584C0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554F04-033B-40CE-A1BE-F6541B12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5A2857-A295-4467-AC87-765137A3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2A7C2B-D1E8-48D6-AAAD-F4DF99BC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EA7622-DB41-4947-8F78-6B9925B2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454447-9C96-4023-9293-D77E36A6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09A80C-8B8D-44F0-BB76-03377BF4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134B30-4E5E-49EB-B5BE-BF1FCF34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0A0054-A4ED-4097-80DB-75E8B77B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B50A-2EBA-4780-877B-78B19F47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556B7B-F0AE-4628-86AA-7C0B21DD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3FB103-AC4C-4723-B254-EDE52F9E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442F5F-6096-4C57-9DE2-BE58F190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41F2EF-46B1-415A-BEAE-1C2F0F3D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211561-75F4-49BA-9717-80CF9E45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0A426A-A16E-4E37-9997-3CF027DD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54A11A-AD73-4637-A9BB-078133BB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321D20-26EA-4E15-8F9D-FB0BC395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94BEE3-9A98-46C2-B172-3DB07B80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1ABA10-6755-4315-9813-A946313C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F7E2-FCCE-4462-A465-2FD2E52A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A33160-1B1A-4BD3-AED0-A07854D9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3790F-DEDB-4084-A99C-A5D97B68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AF212-41A1-4AA4-AC0A-8B8163D6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84144-6B97-4C0A-9AB9-AE7DC52D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3CFBA-EAC2-44D8-B36C-8976CF08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57AC9-D06E-4A6B-B123-08D69436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C5037-1BA8-4E2E-BCB3-E619B87A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B473A-3788-4E0E-BEF8-0E6BF739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A56C9-FC8F-4DC1-8731-1BB6C742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2198B-10E6-4B12-9805-82EA8417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B18F-ED31-472B-A868-44D01E78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3A863-92A4-4010-8831-5DC06F9A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B22AC-4652-4118-BEBD-AED32DD9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747B5-7B08-44FE-AFC6-F4754B1D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F197F7-483D-4FF7-9A3C-9632ADD8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38FE7C-6968-4A31-8F85-B656C6AF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3F1FD5-2316-422B-AA86-F4E18B7D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647E5B-7542-404B-A587-155F5436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F189D4-6AA6-41E4-81A8-5A421D1B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C90076-4802-4AAE-A414-DF20FE90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64F782-D428-4DE6-B9AB-4D81B4A6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0D88-F8CB-4019-B3C0-98B18A1A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32A8F9-678D-48A7-8C5D-02B1B8C8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8CA19E-5B88-4635-8C67-E6BE7E7B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67EC7E-1A7A-453A-9BEA-B62954BF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A1F8A3-70CE-457A-A645-49F30DBC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CAA8C0-D184-4F4F-9B34-336AE31D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41344-CCCC-4F46-BB27-E81A0785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616B7-C5F9-4028-847B-44736967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3D41A-F069-4EF5-A5FE-93104B4F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1A508-6D87-4741-BA6F-3081070D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DCC1F-3A65-4720-A3A4-8F79F1E0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46D8-A705-493B-B2A0-A77C591C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A9331-9501-447E-A4DE-7AF7F73E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67CBA-B637-488E-AA0B-DCF268CB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CFFB7-64E2-4213-BA38-83A6CAC7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5AE74-1251-4FAB-B5C5-705F6299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4F12C-DE4E-4464-BC97-CD1671F2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B9CC6-5D44-4789-88FB-7384C259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856B2-81C5-4429-A5C1-52C6A75E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1E83-4D4F-4CE1-9B1B-0125888056A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BF49-09AF-4D69-9E3F-29FFF2D75C09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D522-893C-490D-A632-ED559E13970B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5F8E-17CE-44AC-8182-C78FC860DD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477B-6D06-497A-BAF8-5AFBDF1EA52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1BB4-940D-451B-B64B-D668F84947A9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C9F9-BB65-423C-AA12-83F9FB6A6D57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426B-2B5D-4441-88C1-82296EE851E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DESIGNING SIMULATION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ction 7.7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ty Hall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w Cen MT"/>
              </a:rPr>
              <a:t>Break up into teams of 2 and complete the activity on page 464.  Fill in the chart for number 5, and answer questions  6 and 7.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efini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Simulation: a way to test the results of an experiment without actually conducting the experiment.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Trial: each repetition of the experimen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te Carlo Simula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1. determine how it will be simulated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2. Define what constitutes a single trial and what data will be recorded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3. Specify the number of trials that will be run and how the estimated answer will be obtained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**very helpful – p. 874 (random numbers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BEGIN AT ANY NUMBER(not beginning)!!!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1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Four darts are thrown randomly at a coordinate plane and the quadrants are recorded.  It is desired to simulate the probability that all 4 darts land in at most 2 quadrants.  Design a simulation with 50 trials to estimate this probability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Sample: roll two dice, 1 – 4 stand for quadrants.  Re-roll if it lands on 5 or 6.  Roll die 4 times – record answer.  Repeat 50 times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2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Explain how to use a table of random numbers to simulate the trials in Example 1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Take the numbers in pairs.  If the number is between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0 – 24 </a:t>
            </a:r>
            <a:r>
              <a:rPr b="1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quad 1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25 – 49 </a:t>
            </a:r>
            <a:r>
              <a:rPr b="1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quad 2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50 – 74 </a:t>
            </a:r>
            <a:r>
              <a:rPr b="1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quad 3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75 – 99 </a:t>
            </a:r>
            <a:r>
              <a:rPr b="1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quad 4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3233520" y="4267080"/>
            <a:ext cx="641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Look at 8 numbers.  Record result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Repeat 50 times!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3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Run the simulation mentioned in example 2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I began my random number at row 23, column 10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1, 4, 1, 3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1, 3, 1, 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4, 4, 1, 4 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TextBox 3"/>
          <p:cNvSpPr/>
          <p:nvPr/>
        </p:nvSpPr>
        <p:spPr>
          <a:xfrm>
            <a:off x="3702960" y="426708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18 / 50 = .36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3128760" y="4952880"/>
            <a:ext cx="54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Theoretical probability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TextBox 6"/>
          <p:cNvSpPr/>
          <p:nvPr/>
        </p:nvSpPr>
        <p:spPr>
          <a:xfrm>
            <a:off x="3739320" y="5943600"/>
            <a:ext cx="42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1/16 + ¼ + 1/16 = 3/8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omewo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w Cen MT"/>
              </a:rPr>
              <a:t>Page 469</a:t>
            </a:r>
            <a:endParaRPr b="0" lang="en-US" sz="8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w Cen MT"/>
              </a:rPr>
              <a:t>3, 4, 6 – 8</a:t>
            </a:r>
            <a:endParaRPr b="0" lang="en-US" sz="8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w Cen MT"/>
              </a:rPr>
              <a:t>(skip 8 b)</a:t>
            </a:r>
            <a:endParaRPr b="0" lang="en-US" sz="8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0:08:29Z</dcterms:created>
  <dc:creator>Laura Helbing</dc:creator>
  <dc:description/>
  <dc:language>en-US</dc:language>
  <cp:lastModifiedBy>Laura Helbing</cp:lastModifiedBy>
  <dcterms:modified xsi:type="dcterms:W3CDTF">2011-02-23T00:38:05Z</dcterms:modified>
  <cp:revision>3</cp:revision>
  <dc:subject/>
  <dc:title>Designing Simulations</dc:title>
</cp:coreProperties>
</file>