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334-ADA1-4225-B320-C0F8D3D7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30A6-9780-4889-9D4A-061DCB69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6BBD-084A-4C3F-89D3-CF3F7F82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FDC1-534B-46A1-ACD2-71E0DBB7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FC1E-68ED-47C4-8F70-106B1522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CB54-AF4C-4D6C-809D-82FEE47E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17B0-B956-4F07-A948-B0944CB7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7ED3-D31A-4122-881C-EDE35E16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254D-529C-48C0-8BDB-08C5E933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5DE4-DB82-4FB2-9DCD-D8A16EEB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3EED-1E28-4E35-B58A-ED86139F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9A73-1941-4B66-8559-832940BF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5479-26A3-428F-8926-1F1659651B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Independent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08432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Section 7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99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499840" y="160020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Events A and B are independent events iff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3071880" y="2643120"/>
                <a:ext cx="56307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9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499840" y="164304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Imagine that a fair coin is tossed 4 times.  Let A = getting all heads and B = getting all tails.  Are A and B independent or dependent?  Why or why no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4"/>
              <p:cNvSpPr txBox="1"/>
              <p:nvPr/>
            </p:nvSpPr>
            <p:spPr>
              <a:xfrm>
                <a:off x="3286080" y="5369040"/>
                <a:ext cx="256068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2500200" y="4286160"/>
                <a:ext cx="56311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TextBox 5"/>
          <p:cNvSpPr/>
          <p:nvPr/>
        </p:nvSpPr>
        <p:spPr>
          <a:xfrm>
            <a:off x="6226200" y="5572080"/>
            <a:ext cx="273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pend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99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14720" y="1600200"/>
            <a:ext cx="692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Two normal dice are tossed.  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C = the sum is 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D = the first die shows a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Are C and D dependent or independ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4"/>
              <p:cNvSpPr txBox="1"/>
              <p:nvPr/>
            </p:nvSpPr>
            <p:spPr>
              <a:xfrm>
                <a:off x="3355920" y="5369040"/>
                <a:ext cx="241956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2478240" y="4286160"/>
                <a:ext cx="56768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∩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TextBox 5"/>
          <p:cNvSpPr/>
          <p:nvPr/>
        </p:nvSpPr>
        <p:spPr>
          <a:xfrm>
            <a:off x="6226920" y="557208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pend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278604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14720" y="0"/>
            <a:ext cx="692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A coach keeps records on the basketball team.  When a member shoots 2 free throws, 65% of the time the first free throw is made and 70% of the time the second free throw is made.  What percent of the time do both free throws need to be made in order for these events to be independ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3071880" y="5357880"/>
                <a:ext cx="2744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TextBox 5"/>
          <p:cNvSpPr/>
          <p:nvPr/>
        </p:nvSpPr>
        <p:spPr>
          <a:xfrm>
            <a:off x="6579720" y="5500800"/>
            <a:ext cx="133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2478240" y="4286160"/>
                <a:ext cx="56768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∩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1175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404040"/>
                </a:solidFill>
                <a:latin typeface="Calibri"/>
              </a:rPr>
              <a:t>Pages 454 – 455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404040"/>
                </a:solidFill>
                <a:latin typeface="Calibri"/>
              </a:rPr>
              <a:t>1 – 4, 8 -10,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404040"/>
                </a:solidFill>
                <a:latin typeface="Calibri"/>
              </a:rPr>
              <a:t>12 - 1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15:26:34Z</dcterms:created>
  <dc:creator>Eric</dc:creator>
  <dc:description/>
  <dc:language>en-US</dc:language>
  <cp:lastModifiedBy>Laura Helbing</cp:lastModifiedBy>
  <dcterms:modified xsi:type="dcterms:W3CDTF">2011-02-17T14:39:13Z</dcterms:modified>
  <cp:revision>11</cp:revision>
  <dc:subject/>
  <dc:title>PRESENTATION  NAME</dc:title>
</cp:coreProperties>
</file>