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D31-B30C-497D-A195-A15FC497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348-5A42-4E76-BE64-8E11072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122-3A93-40E8-9E22-B0EE98BC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568-7DF8-47A3-A8FD-3E8824D5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84A-9C14-4A05-9D69-FE49F42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252-A06B-4297-AB2A-3D2EB66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4F3-D53B-4EE4-B56D-7CE273B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FF7-68A3-4A39-B371-A7CF16F7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69A-2522-40A5-A16A-0292577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501-289F-47B1-9B43-2E8FAFCA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B0D-8B97-4267-A32A-5D0FBBE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AFC-BF18-48A4-9CD4-0A76AEA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17D-A21B-467C-BCC5-08CECA5BE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843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Secti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Events A and B are independent events if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071880" y="2643120"/>
                <a:ext cx="563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99840" y="164304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magine that a fair coin is tossed 4 times.  Let A = getting all heads and B = getting all tails.  Are A and B independent or dependent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86080" y="5369040"/>
                <a:ext cx="2560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00200" y="4286160"/>
                <a:ext cx="5631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TextBox 5"/>
          <p:cNvSpPr/>
          <p:nvPr/>
        </p:nvSpPr>
        <p:spPr>
          <a:xfrm>
            <a:off x="6226200" y="557208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14720" y="160020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Two normal dice are tossed. 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 = the sum is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 = the first die shows a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re C and D dependent or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3355920" y="5369040"/>
                <a:ext cx="2419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5"/>
          <p:cNvSpPr/>
          <p:nvPr/>
        </p:nvSpPr>
        <p:spPr>
          <a:xfrm>
            <a:off x="6226920" y="5572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27860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14720" y="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 coach keeps records on the basketball team.  When a member shoots 2 free throws, 65% of the time the first free throw is made and 70% of the time the second free throw is made.  What percent of the time do both free throws need to be made in order for these events to be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071880" y="5357880"/>
                <a:ext cx="2744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5"/>
          <p:cNvSpPr/>
          <p:nvPr/>
        </p:nvSpPr>
        <p:spPr>
          <a:xfrm>
            <a:off x="6579720" y="5500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175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 – 4, 8 -10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5:26:34Z</dcterms:created>
  <dc:creator>Eric</dc:creator>
  <dc:description/>
  <dc:language>en-US</dc:language>
  <cp:lastModifiedBy>Laura Helbing</cp:lastModifiedBy>
  <dcterms:modified xsi:type="dcterms:W3CDTF">2011-02-17T14:39:13Z</dcterms:modified>
  <cp:revision>11</cp:revision>
  <dc:subject/>
  <dc:title>PRESENTATION  NAME</dc:title>
</cp:coreProperties>
</file>