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0875-69EF-44DD-B418-7C819446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326-059C-48B4-9C72-10C3B5CB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F31-F7AA-468A-97CE-1AC06975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DCD-F5D0-4232-8EBA-59625E03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4FE-39CA-45C0-A727-E380BFC3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4EB-EE96-4BCF-B283-2F75515C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016-A1C9-404C-95C6-F3AA226A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5B7-770D-4382-AF94-B6E3BB7D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6E9-90E5-4E66-94D7-DFA21564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19CF-D448-43CA-A9D6-CE5C1C1C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954B-4548-46FD-9879-A2F50253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FA5-F0F4-445C-81BF-10B02B14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CE09-7E6D-49B9-B077-8BBA3C8FAA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Independen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08432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Section 7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99840" y="160020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Events A and B are independent events if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3071880" y="2643120"/>
                <a:ext cx="56307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99840" y="164304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magine that a fair coin is tossed 4 times.  Let A = getting all heads and B = getting all tails.  Are A and B independent or dependent?  Why or why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3286080" y="5369040"/>
                <a:ext cx="256068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2500200" y="4286160"/>
                <a:ext cx="56311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TextBox 5"/>
          <p:cNvSpPr/>
          <p:nvPr/>
        </p:nvSpPr>
        <p:spPr>
          <a:xfrm>
            <a:off x="6226200" y="5572080"/>
            <a:ext cx="273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14720" y="1600200"/>
            <a:ext cx="692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Two normal dice are tossed.  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C = the sum is 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D = the first die shows a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Are C and D dependent or independ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"/>
              <p:cNvSpPr txBox="1"/>
              <p:nvPr/>
            </p:nvSpPr>
            <p:spPr>
              <a:xfrm>
                <a:off x="3355920" y="5369040"/>
                <a:ext cx="24195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2478240" y="4286160"/>
                <a:ext cx="56768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∩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Box 5"/>
          <p:cNvSpPr/>
          <p:nvPr/>
        </p:nvSpPr>
        <p:spPr>
          <a:xfrm>
            <a:off x="6226920" y="557208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27860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14720" y="0"/>
            <a:ext cx="692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A coach keeps records on the basketball team.  When a member shoots 2 free throws, 65% of the time the first free throw is made and 70% of the time the second free throw is made.  What percent of the time do both free throws need to be made in order for these events to be independ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3071880" y="5357880"/>
                <a:ext cx="2744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TextBox 5"/>
          <p:cNvSpPr/>
          <p:nvPr/>
        </p:nvSpPr>
        <p:spPr>
          <a:xfrm>
            <a:off x="6579720" y="5500800"/>
            <a:ext cx="133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2478240" y="4286160"/>
                <a:ext cx="56768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∩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1175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404040"/>
                </a:solidFill>
                <a:latin typeface="Calibri"/>
              </a:rPr>
              <a:t>Pages 454 – 45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404040"/>
                </a:solidFill>
                <a:latin typeface="Calibri"/>
              </a:rPr>
              <a:t>1 – 4, 8 -10,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404040"/>
                </a:solidFill>
                <a:latin typeface="Calibri"/>
              </a:rPr>
              <a:t>12 - 1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15:26:34Z</dcterms:created>
  <dc:creator>Eric</dc:creator>
  <dc:description/>
  <dc:language>en-US</dc:language>
  <cp:lastModifiedBy>Laura Helbing</cp:lastModifiedBy>
  <dcterms:modified xsi:type="dcterms:W3CDTF">2011-02-17T14:39:13Z</dcterms:modified>
  <cp:revision>11</cp:revision>
  <dc:subject/>
  <dc:title>PRESENTATION  NAME</dc:title>
</cp:coreProperties>
</file>