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547-D987-4F73-A75E-EC97464B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4EF-2052-449D-97D2-889F2F88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1837F-45FC-4211-997C-B912CB1B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025AD5-DE53-415B-93B6-3E6A6C4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9163E-7010-4033-95FC-B7209922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2A778-53AE-47BD-93A9-5BD4AF9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46BC1F-7139-41D5-9B12-9E3E704D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EED29-0B07-44E4-824E-B6261C81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DC85D0-5A91-4B96-8596-200FEBB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DFF78D-79B4-4DF8-B5DF-9B26BBE0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A36894-089F-44B4-BBDC-6145DFCA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B53-77E2-47DE-998F-7A13B13E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955-916F-4785-9C65-7D4453E5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CB27B-2F57-4B88-A11F-22CB01FE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738C3-0AA8-498D-9A85-6B1C0206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DAB47-555B-46E8-9D0F-8B5FCABC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21721-FA7B-439D-85F6-A3E2DB4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87ECF-290A-4CED-B87B-D2E7F125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28E09-43D3-41EA-9C8F-822055DF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8ABE-C39A-4C11-96EB-9E23D66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D4F-130F-43F7-8DA1-501B414E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F408-2E00-4DF7-B405-1A701AD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56FDF-2D6E-494D-8CE5-2F96EDA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B5F70-1A5C-4096-9996-D722837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276CB-ACCE-4EAC-B19E-A5C5800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B8506-4EC4-4AED-AE9F-E2D1B91E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342C-29E2-4781-9A7F-44EDA0F0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F0E2-4C47-4A68-8001-A032CC2E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67D1-9B27-4778-BBA9-C34B4CA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AE65-EF07-4810-83BE-6DBF8817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006C-38B4-4BF2-9DC3-E16B87C8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4B9-50BF-45CA-9FE1-81163CA9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E74FF-06E3-45C8-A7E1-39F9BA4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A32A-CBAE-4F85-A26C-F789E7D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5D07-10FA-4596-8DE5-02FF1D1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D9F38-DAF5-4D36-9004-76B9CB3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7FCE-83A6-4CC5-A37C-B1B83EC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D119C-8F7B-4FE9-939B-544E4BE1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D6F2-D21B-463F-9F44-2E16FF3D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1DB8A-713D-48D5-AB96-692309A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15323-A1ED-480A-A353-9F1095A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8CDB2A-CCF6-4777-A82A-F79A1A97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C6E-65C8-4935-9637-7E744EB4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550FD-8244-4C03-AE2C-25620FB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E0339-AA23-4D11-BC23-56B2B49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6706C-762B-482B-86F6-6FA61461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F5577-3394-44D4-9C18-BE504E46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39524-D3E2-4228-8FD0-A1EF8A8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1C558-D361-4A30-AFE9-26D2EBD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933BE-A5DC-454F-BEFC-D68D2BC2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F7065-DE33-4098-94D2-9A739569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F9E1E-FA06-451E-92D5-A88EF83B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8BABE-05B3-4FFB-A46D-CDAA1715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3FF-093F-445A-9F7E-D028DDBD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10409-9020-4F80-B47A-6B5A3DE6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C9C5-F0FA-4D29-AD7D-1490909D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24CD2-D2D3-4137-A1B8-CD80866A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BEC0-1D1A-4F1C-B8AA-018DC198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A0719-4659-4F7E-8E87-E519384E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B1BE-40F8-469C-ADBA-3780BA0E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32F49-211B-4E30-A794-2528E652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C7BF-3FBF-4BC4-938C-AE34BF5A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34F0-53E0-42BD-B8B2-09FB0A13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A27B-7D51-447F-87EB-7532E469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51-9CD0-490A-B02F-D4408C5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D34C-BC00-4652-B9E0-26522F0F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88EC-69B2-4359-B54B-393FD15F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76E0-797F-4954-952C-1B337DE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5C9D6-2C4E-42BC-B28F-CE5555E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33B1-4C55-46DB-9D25-7EBCF5BB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36A8-B512-45A8-9298-98C631AA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FADD-61A5-4448-9F2C-6D21D74E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D532B-C606-43FB-A7E8-0EA72D5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7818-28F7-4CCE-A67A-5A6C8E52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F97B0-1142-49AF-96B3-06B2316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697-4377-46DD-9C46-A100D9A9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8B69-EB0F-49DD-8D8B-D9CFBF6C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62A0-A660-4373-9F21-3038DE25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6F78-A25C-4734-89C2-21144FFC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1D1A-FB19-4A28-95AC-E1B518C7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70CB-AC74-4A5E-9ECC-D17CCF3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C042-A2F8-4C5F-8B96-2F36345F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7D42D-BDDD-493B-AB7A-86BA7D7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A9F4C-5297-4668-A3E9-7DB4D224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4FC79-74B4-495C-A14D-B65CC4B4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585C-1EED-4CEB-989B-85F6E181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5BA-F19A-4198-A928-F7214C18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88952-883E-4B3A-885B-82E7B3CC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937F8-3BCA-4266-AAEE-2898A7CA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24C3-C7F0-4F48-ADAB-2ABAB8E9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86DA-AAE7-422F-92E0-77787DEF0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1C27-4537-4EC5-9816-1B1E0DB2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39FE05-D449-4205-BD55-C93248A9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9B460-2135-4C91-8495-77BE5B4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9962B-B910-42F7-8460-0810FA11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631792-138A-402A-8E92-64064B1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8C5A4F-F12E-4B49-A505-622E8FC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ED0-333D-4F8F-98DB-309CD01A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D1FDB-99DD-4EEE-AF14-2FF54DA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900AE-0E34-4BD7-9FAE-86AE54CF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2839EB-4EF3-4D68-A141-C075333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86367C-A431-4D47-B97E-C4A48CDB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F98BB0-8938-404C-AE0D-099E98D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F80DF-5D0C-4410-BD33-1BC73EE7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B1FFFE-B0BB-4A97-8FB9-71A97DD2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2E79A-9947-4E2A-B641-5ABDB377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3BA99-486F-47C0-8C71-86D5FAC1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8BB458-F37E-40EF-B869-95ED08A8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D1EF-DEDC-4342-A58B-F70EB4E703C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3AD1-14FD-4DB0-9BE4-ED22B953D2C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F676-EB66-4221-81A0-48320E51399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AA3E-D7FF-4371-8CD3-0C0CCA9A852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1165-425F-46E1-B2B2-AFAECCD7F50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FFAA-4D65-415C-A6ED-341A4AF9997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DA00-2758-494A-9BE2-354A117855B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8130-1398-4114-9690-0705529DEBB8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9A7D-190D-4310-8FBF-7E0171F7C07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773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 7.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242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97800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334800" y="96840"/>
            <a:ext cx="8712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6840" y="1646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: 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lling a jack or queen card from the deck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U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 general,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emind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U means un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eans inter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609480" y="4267080"/>
                <a:ext cx="8172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or 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1828800" y="5486400"/>
                <a:ext cx="828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f two fair dice are tossed, what is the probability that the sum is a 2 or a 3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utually Exclusive!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a or b) = P(a) + P(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36 + 2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3/36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= 1/12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3 of the 50 states include territory that lies west of the continental divide.  42 states include territory that lies east of the continental divide.  Is this possible?  Explain  your answe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0 = 13 + 42 – P(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∩ B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re, as long as 5 states include territory that lies both east and west of the continental divide (Mt, Wy, Co, NM, Al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ree fair coins are tossed.  What is the probability that NOT all the coins  show the same face?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sample space is 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(1 heads) + P(2 heads)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/8 + 3/8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/8 = ¾ = 75%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Use complementary events to answer the previous question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- P(3 heads)  - P(3 tails)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8 – 1/8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Rockwell"/>
              </a:rPr>
              <a:t>1 – 1/4 = ¾ =  75%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Pages 438 – 439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Rockwell"/>
              </a:rPr>
              <a:t>6 - 20</a:t>
            </a:r>
            <a:endParaRPr b="0" lang="en-US" sz="8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37:20Z</dcterms:created>
  <dc:creator>Laura Helbing</dc:creator>
  <dc:description/>
  <dc:language>en-US</dc:language>
  <cp:lastModifiedBy>Laura Helbing</cp:lastModifiedBy>
  <dcterms:modified xsi:type="dcterms:W3CDTF">2012-02-13T16:06:26Z</dcterms:modified>
  <cp:revision>79</cp:revision>
  <dc:subject/>
  <dc:title>Addition Counting Principles</dc:title>
</cp:coreProperties>
</file>