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08D-7C45-4614-804B-7AC0AD1E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BD4-3DDC-4CE2-A522-08BD7076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8843B8-6882-4BE9-92FF-A328F6E5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CF938F-C327-4B09-8EE0-5F43BC1F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0E015-E7C9-4235-A5C2-6F4E00AB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6B2B87-C06A-4992-968A-47D2670F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BCAE9-7389-4CB2-B78C-A30C249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93C6AF-E07A-4AA8-83C5-9C50919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C4808-E48C-4C9F-B8CB-D2C1242E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70BECA-F57F-4C2F-88D5-23A1F43C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A39C6-FF81-4C03-B9B5-34478F25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965-455B-4E54-86C7-0F092320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E56-2F47-4639-9574-F2B7B315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68210-2B95-4E2C-A860-4FD65CC3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28FC1-7381-4F31-9C7F-C2FD7B17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B7FC9-C378-41F3-A6F2-332DD7B3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F5267-445E-4F9B-9EBA-89EDFC6C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3457A-1217-498F-B1B7-BC56459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FC41E-7484-4EDC-A27A-0E72D2D8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93238-3E22-4083-BFAE-6C267FD5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2FA-8544-400D-AC38-3E828794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1F6A5-11C7-4BEF-A9E6-7D69C675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0519E-D730-499F-B04C-BAAABD53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FE6C-3B04-485D-845C-6656D54A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C9503-0AF1-427E-A015-29DD4BDB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86741-FCD4-4862-8554-21A89C81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C8F8-C7FE-4725-8EC6-8F8BC33D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B76E-D13D-4E07-95DB-2E4A3627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E0C2-80C1-47A1-8409-E1CFA4BB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58CE-5EE2-4149-B36F-71CA8F1B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B355-3A92-4962-A4BA-3FBF0E66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3BF-2491-46E9-97B8-C0C69C58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23A6-EC1A-4EC2-B702-02100CC7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61FA-7ED5-4EE0-94FC-B10D03A8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D4E2-F2FF-4F4F-9BA3-CB6C8DEE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751C-5781-4E91-BD66-0583B8D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8738-F05F-48F3-977E-7308BA0B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E415-B61C-4D75-B3F2-826D0879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C6E1-A9CC-4114-A02E-81AFB643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363F1-468E-4B58-AF79-D00F88C7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7F7FA-0A78-4FD9-9ABE-87B93D20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0423F-3C57-4B84-938B-C28D3504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10D-E7E6-4924-BEBD-AB959AAD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CB508-518A-4144-B3DD-17D9B1D7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EDB18-1FC3-447F-871A-D9049A9C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BD0CF6-B76A-4CB5-AC59-EDF1C25E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24BE1-FC2F-4145-A347-29FFF9E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F9BF1-FD58-4C02-8C45-9524438E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D8D1D-1186-4738-AA26-909F4179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B43D9-6551-4B51-9091-CC8DA082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E9652-A4D8-43B5-ABA2-51082FB5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62DDC-319C-498E-B972-010D2C92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9F065-A6CC-4106-B6B7-2F104DA2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C98-C820-4DA9-A7A2-5700637D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E922-1E64-4F0F-A78D-99895A47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FDC23-DA6C-4F27-B372-230234F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08E7-5500-4E4E-9C9D-45C5D8E0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92B71-DC6E-481D-A3BE-50E019DE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35B21-79CC-42A6-B7FC-E1BDAED6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58F5E-4229-476C-AF34-83576BD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7B15C-8B87-4B2F-8059-14E2091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17CC7-E596-4044-822F-308265E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9E45-F842-45DC-A572-F5ABD974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D4E63-140B-4001-B25C-3F4713E9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5FD-6FEA-4816-8677-97182769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5647-4CC1-422A-818C-8DCED13B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86DAD-1943-4FE0-8388-0F1179BD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C88DF-A898-470B-8E5A-286F2128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75C8-D2C4-4560-A46E-0FA469DC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C7E6-3FB5-4F34-93A3-40E23A01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28A26-A0C0-4876-81A7-8B328E79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ED5BB-E881-45BC-9352-2E203CCD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CD889-F61F-49E5-9947-B7248633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933C8-FFED-484B-9CAA-6373CF27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2401A-D31A-4685-ACFC-382B2C5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006-2E5B-4BE6-A812-1C17C8EC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63C9A-AF20-4517-AEB0-71F70114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0D253-C6D2-487F-8E1C-E5F30965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0E3D5-EFF2-466A-A50D-FB52E98A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5224-0FD4-4E7B-97B2-30F2123D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8A789-1DE8-4FB2-B363-6835EFB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61BA-B9F5-43DB-9CCE-3D9EB96E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60A14-9D38-4E0F-850A-7933C36B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E1362-3877-47C9-870C-949435EC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E698-E628-46A5-B934-076E46B7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FAF5F-2836-4495-A582-4D8E533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AE5-3B54-4355-9CC3-F171F01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52FA-A390-413E-ABBC-0955909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63F5B-7F83-4FFD-A1EA-8D443D6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4E3EE-DBC6-47C8-BA60-420264AA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E8412-4F76-4BBC-8FE1-82B13316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88138-69BF-45BB-9197-265BCA9F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BA7DC7-D875-455F-99F7-97470309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B32CBB-27B2-4CAD-93DE-E29AC725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325C8-E909-4670-A407-37F2116E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D3831-259C-44F2-98B2-FD9D9156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9BA83-2F84-4CC5-AEF2-A5AAADAA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F17-54A8-4E5C-955E-0F137A0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AE9A0F-7DB7-4CE3-A3AB-8D7D779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1F9093-AB75-40FC-9159-C6896D59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1D5D9C-9BF5-4D3B-B315-4A64381D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3CF32E-89FA-41AE-91D1-695EC4D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3B9D5-DE38-44F2-8207-B77D706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97B5E7-851F-4A88-BD9A-31668BA0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CA6D0-E361-44DD-8CFA-47D163C0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7781A-1420-4639-8B1B-F16885C5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9030A-D379-4F2E-897A-765F41D9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8063BD-68F3-4C62-BF72-ADC31270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5995-C8C7-4B75-B7CE-F3D8995105E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4AF6-B78A-4663-8F73-916E40F2866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8F7C-38ED-4EE9-919D-D433089D040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BE84-30AA-4F9C-BCDB-3607534C272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553D-778C-421C-B57E-41C7DF7CF19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955C-14F0-4C09-80D7-9C099F3F8D3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8068-7E58-402C-9815-BDB7CA02521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6E51-D7BC-4E05-BCBB-8B8CFD977EA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881A-FE0E-4B47-A2EF-0CB55E63F391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7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242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29400" cy="397800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334800" y="96840"/>
            <a:ext cx="8712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lling a jack or queen card from the dec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U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general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mind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U means un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s inter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609480" y="4267080"/>
                <a:ext cx="8172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or 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828800" y="5486400"/>
                <a:ext cx="82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two fair dice are tossed, what is the probability that the sum is a 2 or a 3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or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36 + 2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3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1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3 of the 50 states include territory that lies west of the continental divide.  42 states include territory that lies east of the continental divide.  Is this possible?  Explain  your answe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0 = 13 + 42 – P(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∩ 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re, as long as 5 states include territory that lies both east and west of the continental divide (Mt, Wy, Co, NM, Al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ee fair coins are tossed.  What is the probability that NOT all the coins  show the same fa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ample space is 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1 heads) + P(2 head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/8 + 3/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/8 = ¾ = 75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Use complementary events to answer the previous question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- P(3 heads)  - P(3 tails)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8 – 1/8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4 = ¾ =  75%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Pages 438 – 439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6 - 20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37:20Z</dcterms:created>
  <dc:creator>Laura Helbing</dc:creator>
  <dc:description/>
  <dc:language>en-US</dc:language>
  <cp:lastModifiedBy>Laura Helbing</cp:lastModifiedBy>
  <dcterms:modified xsi:type="dcterms:W3CDTF">2012-02-13T16:06:26Z</dcterms:modified>
  <cp:revision>79</cp:revision>
  <dc:subject/>
  <dc:title>Addition Counting Principles</dc:title>
</cp:coreProperties>
</file>