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1D3-AABA-4A8F-9294-D8A0B932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A545-A1AF-4878-B7A5-61B1F3E0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3E9421-FFD0-4812-821A-4E9E846E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2CDD2D-9660-40DC-8B75-09645DEA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996A61-D39D-49C1-A50C-D69FC3A4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589BDC-E1D1-4250-87AE-452869E7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5906DD-2252-4427-B7DB-6531B1EC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8D6BF8-1B3A-40DE-B769-CF5FCF03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1E8509-A7DF-4679-ACAF-29F8D2DB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006FDF-3CAB-4C42-BE48-DA4D6D3B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B47D09-315D-493A-AC65-077B7046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525-1690-4F72-94D2-FAF7D2C2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9EF-046D-4920-83B5-645C57DC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233C0-0A7E-49FB-AE51-16A2974F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C64F5-2584-48EF-9D4F-184058F8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663B4-E4B7-433D-BE56-5505B102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FF032-F827-412F-86BE-953079D8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6EF9B-046E-49AA-9389-A48A768A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CDAC7-89A2-4296-B404-B55E6151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55569-959D-400A-9074-F23F05EE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B1D-B617-454F-B1F1-5EA7D801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53F17-4E8A-447D-BFE7-DAB9B0E4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78F49-80B1-447F-974D-E5EDC3BF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B4CDE-A1D2-4061-BC71-82EE8EAF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3595A-4CB4-4A76-9F31-42555101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5EB2D-1B0B-4A78-8FC9-61092D65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52799-7D18-4A5A-ABBE-EE597F3B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740B5-5F2D-40F6-9134-02E39EBC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F43A7-AB0D-4B65-BBC5-601CB5D3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7F77C-188B-4D11-8F1A-946EC7A0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363AF-9AEC-4DFE-989F-80E31B31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84E-F516-453E-9183-8C771B29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17BD4-6E1C-42AC-A96B-C58C0794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D4022-A924-470C-A9F3-2654561F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85D41-8317-4B04-BECB-B18946F1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9AE0D-D04F-4DE2-8AB6-7D29C8E5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0A4AB-EEA5-4F88-822A-796378D1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35E44-E974-4376-B362-4474E08B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09FA6-C415-4F79-B529-97C368B1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23E070-BB65-48C4-A39B-94CF7E1E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712E6-21BE-415B-A7A0-20775DD2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C5EF95-4518-4877-A592-A842E71C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BF8D-8EAA-41B0-B306-836CAD31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3CB2B9-8526-4F22-ABD6-E349C70E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1F6FEC-3476-48A6-B44A-FCF0B09D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9F4576-BBC7-42E3-9C54-2F94BD8D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8A5FB2-0A1A-4FD7-BA09-1B0A322B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EBCDAA-2983-457A-A68B-7372F5F8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16B934-4CA0-4DDD-BEF2-3F58C2B5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1D06D7-2FD8-467F-9802-15E220B3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15E135-3A7F-4C09-B08C-A576A7C5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C7CAF7-E437-4CE6-B325-2441E09D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D54A4-B46A-4E83-A98E-A76C7470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39A9-E867-4307-9E9D-C8E40F17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7B383-BB6E-445A-806E-531233C1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1DFA6-0F48-4CE5-A834-4B057A17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3F49B-26F4-408D-B615-894D6807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527AC-8B8D-48D3-ADE0-E5CC18BA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3388F-B7F7-4770-A7F1-6BEC59DA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FB545-B78C-4F74-80FC-DD8F656B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C0476-9E86-4087-8F19-5313969B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DCFEC-EF6A-4F1E-A289-85CC766C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4DA33-A32D-47EC-985F-5B7DA479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B6E28-6CFF-44EF-9483-89DA1459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A66B-EAC5-4FC5-939A-41F9E0FE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488AA-B9E9-4182-BA38-968538A6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8C785-B5A5-425B-9944-D102FCB7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2D1C5-E151-4849-B50F-11D3EEA9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4F569-4C21-4E2D-A5F4-55B28259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5F9FC-BF21-4FEE-8A95-2D23AF44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299EB-6493-47D4-99DB-BC126257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1104B-56A8-45AF-95BD-4ADAC09C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851E3-794F-48E5-9B0F-D220A742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106D3-88AF-44F7-9E6B-9F5C564E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9D0AF-0732-424F-820F-3136B1CC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68B-3074-4A24-A27A-9E575869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08ACF-D094-490A-82F1-B100B260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1BC6E-C235-4AD8-9685-0D64EE2E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AF310-1E05-42AD-B312-2D6463EC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6390D-FC51-40F2-B636-27E18FDF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28A7C-9E08-4410-AD8D-65D32A61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D9953-A25A-4CBC-9D5F-C9DF816F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28072-DC6F-4CE9-9919-EE415977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6A3C9-2CAC-47CF-98FD-61DD8A59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2D1AD-67D4-4436-A10D-CF470650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FA096-561D-40BC-B63F-F38D1E3E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9F5D-5AD8-46E8-9E13-31608C50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5D112-939B-44A0-9ADF-AA48F68E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0A6CE-1512-44B4-906D-04BBD6DC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F5501-78BE-416C-8131-8BF15BC0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D4535-19F5-40FE-80FC-A780A122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5E8DC-A085-44A5-A546-266D122B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77D40C-340E-4FF4-A36C-3B4A807C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69883C-EFE2-4F7A-81F2-035BB67E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AB6B88-123E-43C9-AB6D-010FD8CB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D72B19-4ED5-4858-A4C5-17B4A6E2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433D32-1A62-4ED7-A957-245182B6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E32-047A-40A8-A573-DBDE8B3C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7AB1CD-DF26-4BFD-A75F-8DD3D3A2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E85FE9-2E8F-4460-A824-B19F3038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E453BC-DF90-4584-AF38-4DD6F334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5549C0-3440-48B6-8479-47305EDA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DE8A5E-73FA-43BD-8B11-7499C3DE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294306-9BB6-48F9-A2B8-38A61670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83F1C0-14FA-4216-A6EC-126E0835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F80BC6-AB01-4775-BE0B-FD9493E3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C9A798-40D6-495B-BCD5-78F6330E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D3EB75-F48A-4A79-9B7F-790B6570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7FDF-8FEC-4D6E-92A3-71813FE2161F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2257-2CCB-400F-BB09-123BAE4BDC4E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4E36-894B-4FE3-85F2-FCF4E7D65D2C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6C05-3B81-4349-A480-7AB31CB3D691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FC4E-C689-4F7B-B107-8202AC5E83F1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B41F-6EDB-4D27-9523-9DFF433DC912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E3F3-6273-48D4-818D-8F4C2B338805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22C1-659E-44A3-9EC3-B83358D39FD5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2939-1E8D-4C25-A87A-392C94CB8864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tion 7.2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242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629400" cy="3978000"/>
          </a:xfrm>
          <a:prstGeom prst="rect">
            <a:avLst/>
          </a:prstGeom>
          <a:ln w="0">
            <a:noFill/>
          </a:ln>
        </p:spPr>
      </p:pic>
      <p:pic>
        <p:nvPicPr>
          <p:cNvPr id="400" name="Title 1" descr=""/>
          <p:cNvPicPr/>
          <p:nvPr/>
        </p:nvPicPr>
        <p:blipFill>
          <a:blip r:embed="rId2"/>
          <a:stretch/>
        </p:blipFill>
        <p:spPr>
          <a:xfrm>
            <a:off x="334800" y="96840"/>
            <a:ext cx="87123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6840" y="1646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utually Exclusive: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ulling a jack or queen card from the deck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(a U b) = P(a) + P(b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general,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minde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U means un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eans interse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609480" y="4267080"/>
                <a:ext cx="81727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 or 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1828800" y="5486400"/>
                <a:ext cx="8287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f two fair dice are tossed, what is the probability that the sum is a 2 or a 3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utually Exclusive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(a or b) = P(a) + P(b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= 1/36 + 2/36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= 3/36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= 1/12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62440" indent="-262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3 of the 50 states include territory that lies west of the continental divide.  42 states include territory that lies east of the continental divide.  Is this possible?  Explain  your answe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0 = 13 + 42 – P(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∩ B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re, as long as 5 states include territory that lies both east and west of the continental divide (Mt, Wy, Co, NM, Al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ree fair coins are tossed.  What is the probability that NOT all the coins  show the same face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sample space is 8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(1 heads) + P(2 heads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/8 + 3/8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/8 = ¾ = 75%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Use complementary events to answer the previous question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1 - P(3 heads)  - P(3 tails)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1 – 1/8 – 1/8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1 – 1/4 = ¾ =  75%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ckwell"/>
              </a:rPr>
              <a:t>Pages 438 – 439</a:t>
            </a:r>
            <a:endParaRPr b="0" lang="en-US" sz="8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ckwell"/>
              </a:rPr>
              <a:t>6 - 20</a:t>
            </a:r>
            <a:endParaRPr b="0" lang="en-US" sz="8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37:20Z</dcterms:created>
  <dc:creator>Laura Helbing</dc:creator>
  <dc:description/>
  <dc:language>en-US</dc:language>
  <cp:lastModifiedBy>Laura Helbing</cp:lastModifiedBy>
  <dcterms:modified xsi:type="dcterms:W3CDTF">2012-02-13T16:06:26Z</dcterms:modified>
  <cp:revision>79</cp:revision>
  <dc:subject/>
  <dc:title>Addition Counting Principles</dc:title>
</cp:coreProperties>
</file>