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940-3BF6-48A0-96FD-B528FD27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978-5D2F-41EF-AF76-6D7B978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71B623-73B0-44FC-BB2F-23C348AB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54EC6-028E-4F3A-8588-AF826E3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0570F-577A-4E6C-AF16-90250C7B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60DE4C-74E8-4C30-B7A9-A229455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21EE6-EB8F-4D86-AB0F-715D1F5D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F1B0F-5051-46C9-9185-D53C3E78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945D9F-0466-421E-A404-647882F6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327FD-0DDB-4520-9658-8276F83F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A58CCB-47F2-477D-8913-A8030E47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4FC-918A-4609-9A6B-5F891076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A3C-050C-45FC-AA48-4C9355F4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19C96-8784-42B4-819F-8D6B2990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5FC72-4656-4306-BEE0-49F156C9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A495C-38BE-4AE5-8645-3820017A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6F05D-9180-4681-BB6C-9E25CCC9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A8129-441B-4025-8E26-C0CA2964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66C4F-02E5-4753-A204-9B6E5384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1CB90-D5A5-4C4E-B98E-CE3AEC93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C3F-B902-4049-B19D-C0EEDB98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E4F94-1875-4EDE-A5AE-39E2872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EF509-8E83-4829-A431-8D19E87E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BF0B9-6011-44D7-9150-C6CA92E6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1EE12-7756-42FC-B7D0-F531BFA8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D19E4-761D-405F-8671-6439E5D3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990E-5FD5-41A9-991A-621D5A66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5B53-574E-41FC-BA89-9E7B2180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370D-2739-40DA-B87B-EE74E5E8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9726B-F29A-4F30-89A3-608952B0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34898-1BBC-413D-8F45-88F152E1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1A1-302F-4B9E-A6F8-A3C19384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A6D88-19A1-4A1E-ACA3-1A2439E6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6944-1D65-4924-AE2C-B1F5C1C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EC23-4AAE-481C-821B-1F5EB7B1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A995-D023-4965-B76F-AAF2296F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A052-9932-46F0-9DF9-7F8FE60F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61A7-F78D-43DA-8678-EADD156A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45E1-56A5-4F2E-BDFE-8ED757EF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37280-ACAA-46F6-9709-E81B29B2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32E2C-F35C-457B-B210-0F70F875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ED137-36B7-4ADD-8B6D-395C1CAD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026-1926-4FFE-B820-B901007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AEFC2-BFB8-4677-8842-20508F8D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18F4C-AA60-45BB-876A-D9222EC2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9F6BD-5CCB-4A2C-80C5-5A453CF7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86BBB-FF1E-4090-8277-0C08B4B8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867EA-183D-46DF-BD5E-5BF5824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4AE89-DF14-4875-9A9B-951F2CD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0823E-B4B1-405F-A261-156F5B27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66859-8981-4C3B-ABB4-8E994066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ACDC1-7FC0-4581-8372-A74EB68E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81D2-F9FC-451D-978A-8C4FDA4C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8C8-F13B-44DC-A36C-ED8AFF24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DC9EE-441A-4CD2-8DE5-95C7F05C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8C292-CB41-41A7-82FB-DDD15BAC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8F1C8-3667-4C64-B62F-06E4F11F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5AC0-34B6-4EAB-B114-AED312EC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D2478-0225-41A4-8164-C3B44055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A38E-CF1D-4B03-8BDB-D562E39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64298-16EF-4012-82F3-CC74A32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F30BB-9795-4C63-A54A-F1E03FC6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4E605-7174-4623-A1C6-AB9A297A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01309-2EAC-4278-B33C-1F03EA93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FB9-87D0-4AAC-BF59-A19835E1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EC484-D2DA-4E37-AAFA-BDB7B741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E0CDD-A30D-4203-8322-F4064AA2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C59EE-DA36-4CCE-AFC7-226694DC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8057C-CE00-45DA-AA59-A26DD74F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8D763-92A5-49B5-AFA1-C233AA80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EC932-C969-4718-AB09-9AEE3927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0706-6CDA-4BCB-8605-467FB8EE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130F4-92D0-435C-BDC8-5DF8FED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233D3-1BF2-4F18-B0C5-7432D24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6FD51-6CA3-40CC-B4A5-8AB281AA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6B4-9E5B-47AC-AA88-896A6BD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932E2-F4D1-4DCC-8940-29D3AE3C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A3CDC-E568-4666-BA9D-9F89B6F9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B5DDB-823D-4464-8EC0-84D11A1E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5B6F8-8F23-4356-BD86-A9FA6F4D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22B14-C433-4265-B194-231D40C5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156A8-2D6F-4B86-A6A6-E915A665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0FBC6-30B8-458C-8B29-A95F6D37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508DC-CED1-48C3-A3DF-65BCBDF3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FEDC6-1940-4934-AE19-86F70E5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0609F-4BC3-4BFE-B559-95E6A294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22B-57DC-4884-AA44-AAA11DD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F7849-09CF-4049-BA16-01729E60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EBA90-267B-4176-ACE8-B9CF3A6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FF904-B940-461C-8600-3E6F58FE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0BA90-1233-4221-8C89-0A8F9BCD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5303F-E41D-4875-BA26-5B28D3A9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128A5E-7974-4388-A298-39C69801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53EF7-C805-44A6-BCCD-DEF09A9D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3FA42C-4E41-4A02-A5B8-53AFCFBA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EC0A1D-D6CC-4C83-9A9E-A7792CF1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9BB5E-BA9A-42AD-B7E1-E9307EBD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001-39A4-48C4-8135-A5880123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A261C2-B365-449F-867E-BA66AFCF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631507-16A6-4220-896C-7CEF2325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2647D-20BB-4036-AE5F-E38575E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D0E8A2-1777-4A7E-B843-5DFE60C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296BE5-F82E-4A90-A085-A16BC10D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B1816-F336-4C36-A98B-FC135B03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4BF92-D1EE-4EF2-A117-2300F7C2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7B45F9-A296-4806-A090-744F241B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AD1AEA-05F9-45AF-91F3-0E9C8A49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732434-B948-44C0-80A5-F13B4462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AEAA-931C-4660-9D57-6BFDAE6F214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4CFE-9A53-4997-8BB9-49DD84D96752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490B-D19B-409A-AA40-00BAB28653F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E310-72DE-4DFB-9A7A-D18037A0658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B0B3-DF4D-41AA-A534-126B6FC8BF1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06E9-EBED-4EB5-AD5E-20365C93C44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B993-1C86-4295-9558-DA7D3662FF6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C67C-B9E9-4FAE-882E-4083EB852A7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AA1B-3B09-4FDC-A7DD-83DC3994D7E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7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242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29400" cy="397800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334800" y="96840"/>
            <a:ext cx="8712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lling a jack or queen card from the dec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U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general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mind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U means un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s inter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609480" y="4267080"/>
                <a:ext cx="8172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or 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828800" y="5486400"/>
                <a:ext cx="82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two fair dice are tossed, what is the probability that the sum is a 2 or a 3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or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36 + 2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3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1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3 of the 50 states include territory that lies west of the continental divide.  42 states include territory that lies east of the continental divide.  Is this possible?  Explain  your answe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0 = 13 + 42 – P(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∩ 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re, as long as 5 states include territory that lies both east and west of the continental divide (Mt, Wy, Co, NM, Al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ee fair coins are tossed.  What is the probability that NOT all the coins  show the same fa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ample space is 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1 heads) + P(2 head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/8 + 3/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/8 = ¾ = 75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Use complementary events to answer the previous question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- P(3 heads)  - P(3 tails)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8 – 1/8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4 = ¾ =  75%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Pages 438 – 439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6 - 20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37:20Z</dcterms:created>
  <dc:creator>Laura Helbing</dc:creator>
  <dc:description/>
  <dc:language>en-US</dc:language>
  <cp:lastModifiedBy>Laura Helbing</cp:lastModifiedBy>
  <dcterms:modified xsi:type="dcterms:W3CDTF">2012-02-13T16:06:26Z</dcterms:modified>
  <cp:revision>79</cp:revision>
  <dc:subject/>
  <dc:title>Addition Counting Principles</dc:title>
</cp:coreProperties>
</file>