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4E8-DDB9-4B85-B4D6-3C55ADC3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FD4-405F-4230-8B30-F7D0DA50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23F-5BA7-49BC-B068-7DEEB73E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510-D5B8-44DE-883A-7B652CD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795-BDB8-452D-BC81-CF9286C4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5C9-1C8A-4CCA-A513-492EECDE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07E-3CBF-46B3-B715-83EB7ED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573-F3B8-4A0D-A38A-3B272D1A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72A-24F9-41FF-81CC-4524BF6F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A1F-7DD9-4138-B686-BF8F49D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29A-812A-4CC8-BF82-B1FB8E7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352-0943-4436-BE93-6DC1598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4B62-B7A2-4CF4-87DB-408F55DBD71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57200" y="1928520"/>
            <a:ext cx="6786720" cy="24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Calibri"/>
              </a:rPr>
              <a:t>Distributive Property and Removing Parenthe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5640" y="4114800"/>
            <a:ext cx="558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esson 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400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Objectives for the day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expand and combine lik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and apply the distributive property to perform calculations in your h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Apply the distributive property in real-world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Add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+ b) = ca +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Distributive Property of Multiplication over Subtr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C ( a – b) = ca -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3360" y="762120"/>
            <a:ext cx="701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1 : 5 ( 2x + 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5:   5 (.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.4x + 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7: Show how the Distributive Property can be used to perform in your head  17 ∙ 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8: You want to tip the pizza delivery person 10% of the cost of your pizza.  The pizza cost $13.65 plus $1.50 per topping for n toppings.  How much is the tip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400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Lesson Master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762120"/>
            <a:ext cx="6400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Express the area of the largest rectangle at the right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ength times wid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The sum of areas of the smaller rect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"/>
          <p:cNvPicPr/>
          <p:nvPr/>
        </p:nvPicPr>
        <p:blipFill>
          <a:blip r:embed="rId2"/>
          <a:srcRect l="81253" t="52001" r="7500" b="35999"/>
          <a:stretch/>
        </p:blipFill>
        <p:spPr>
          <a:xfrm>
            <a:off x="3505320" y="1905120"/>
            <a:ext cx="2819160" cy="1879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3"/>
          <p:cNvSpPr/>
          <p:nvPr/>
        </p:nvSpPr>
        <p:spPr>
          <a:xfrm>
            <a:off x="4038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( x +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4"/>
          <p:cNvSpPr/>
          <p:nvPr/>
        </p:nvSpPr>
        <p:spPr>
          <a:xfrm>
            <a:off x="3809880" y="5867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y + 2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400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One mor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86000" y="11430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Use the distributive property to write as the sum of two f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4724280" y="2362320"/>
                <a:ext cx="15670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1"/>
              <p:cNvSpPr txBox="1"/>
              <p:nvPr/>
            </p:nvSpPr>
            <p:spPr>
              <a:xfrm>
                <a:off x="4572000" y="3962520"/>
                <a:ext cx="16416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2"/>
              <p:cNvSpPr txBox="1"/>
              <p:nvPr/>
            </p:nvSpPr>
            <p:spPr>
              <a:xfrm>
                <a:off x="4724280" y="5410080"/>
                <a:ext cx="1119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fr-CA" sz="4000" spc="-1" strike="noStrike">
                <a:solidFill>
                  <a:srgbClr val="404040"/>
                </a:solidFill>
                <a:latin typeface="Calibri"/>
              </a:rPr>
              <a:t>Partner work (to be handed i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0" y="685440"/>
            <a:ext cx="6858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404040"/>
                </a:solidFill>
                <a:latin typeface="Calibri"/>
              </a:rPr>
              <a:t>Suppose a farmer rents three farms on which she plants corn and soybeans.  One farm consists of u acres of land, the second farm consists of v acres of land, and the third farm consists of w acres of land.  She plants corn on the first two farms and harvests 184 bushels of corn per acre.  She will earn $3.30 per bushel.  The farmer plants soybeans on the third farm and harvests 54 bushels per acre and earns $6.42 per bushel.  Explain how you would find how much she will 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ges 70 – 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 – 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section 2.2 and complete p. 75 1 -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1:16:58Z</dcterms:created>
  <dc:creator>teacher</dc:creator>
  <dc:description/>
  <dc:language>en-US</dc:language>
  <cp:lastModifiedBy>Laura Helbing</cp:lastModifiedBy>
  <dcterms:modified xsi:type="dcterms:W3CDTF">2012-08-10T02:24:21Z</dcterms:modified>
  <cp:revision>16</cp:revision>
  <dc:subject/>
  <dc:title>Probability</dc:title>
</cp:coreProperties>
</file>