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F128-ECDB-486A-A015-6FC4ECF54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E7DA-632F-4390-9895-F68B8B71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8439-414B-442F-B6A8-EF2873FE2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25E9-CB27-45AA-A803-B320FA071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BD86-5ADC-40E9-B466-1B10D0E8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A5ED-FEBC-484D-B517-042E1505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92F2-8B9A-4A0F-B679-EA7C20F9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108A-8C2F-4A9C-ABD3-CEB93C61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48A4-7111-4A25-8D7F-77F7013A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31B6-445A-4A14-81F6-292D50C5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9749-3223-42DC-B4B7-5EBC5940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C172-A299-4BC2-82FD-C29F8E25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014F-D44E-427D-B3F6-6C72EF95581B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57200" y="1928520"/>
            <a:ext cx="6786720" cy="24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ff"/>
                </a:solidFill>
                <a:latin typeface="Calibri"/>
              </a:rPr>
              <a:t>Distributive Property and Removing Parenthe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5640" y="4114800"/>
            <a:ext cx="5589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Lesson 2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33720" y="304560"/>
            <a:ext cx="64008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404040"/>
                </a:solidFill>
                <a:latin typeface="Calibri"/>
              </a:rPr>
              <a:t>Objectives for the day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Use the Distributive Property to expand and combine like te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Use and apply the distributive property to perform calculations in your h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Apply the distributive property in real-world situ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0" y="304920"/>
            <a:ext cx="64008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286000" y="114300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Distributive Property of Multiplication over Addi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c ( a + b) = ca + c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Distributive Property of Multiplication over Subtra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C ( a – b) = ca - c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64008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Lesson Ma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133360" y="762120"/>
            <a:ext cx="70102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# 1 : 5 ( 2x + 6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#5:   5 (.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.4x + .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# 7: Show how the Distributive Property can be used to perform in your head  17 ∙ 5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#8: You want to tip the pizza delivery person 10% of the cost of your pizza.  The pizza cost $13.65 plus $1.50 per topping for n toppings.  How much is the tip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64008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Lesson Master (continue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86000" y="762120"/>
            <a:ext cx="6400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Express the area of the largest rectangle at the right 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Length times wid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The sum of areas of the smaller rect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4" descr=""/>
          <p:cNvPicPr/>
          <p:nvPr/>
        </p:nvPicPr>
        <p:blipFill>
          <a:blip r:embed="rId2"/>
          <a:srcRect l="81253" t="52001" r="7500" b="35999"/>
          <a:stretch/>
        </p:blipFill>
        <p:spPr>
          <a:xfrm>
            <a:off x="3505320" y="1905120"/>
            <a:ext cx="2819160" cy="1879560"/>
          </a:xfrm>
          <a:prstGeom prst="rect">
            <a:avLst/>
          </a:prstGeom>
          <a:ln w="0">
            <a:noFill/>
          </a:ln>
        </p:spPr>
      </p:pic>
      <p:sp>
        <p:nvSpPr>
          <p:cNvPr id="70" name="TextBox 13"/>
          <p:cNvSpPr/>
          <p:nvPr/>
        </p:nvSpPr>
        <p:spPr>
          <a:xfrm>
            <a:off x="4038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 ( x +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4"/>
          <p:cNvSpPr/>
          <p:nvPr/>
        </p:nvSpPr>
        <p:spPr>
          <a:xfrm>
            <a:off x="3809880" y="58672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y + 2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0" y="304920"/>
            <a:ext cx="64008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One mor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286000" y="114300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Use the distributive property to write as the sum of two frac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10"/>
              <p:cNvSpPr txBox="1"/>
              <p:nvPr/>
            </p:nvSpPr>
            <p:spPr>
              <a:xfrm>
                <a:off x="4724280" y="2362320"/>
                <a:ext cx="156708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11"/>
              <p:cNvSpPr txBox="1"/>
              <p:nvPr/>
            </p:nvSpPr>
            <p:spPr>
              <a:xfrm>
                <a:off x="4572000" y="3962520"/>
                <a:ext cx="164160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12"/>
              <p:cNvSpPr txBox="1"/>
              <p:nvPr/>
            </p:nvSpPr>
            <p:spPr>
              <a:xfrm>
                <a:off x="4724280" y="5410080"/>
                <a:ext cx="111924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fr-CA" sz="4000" spc="-1" strike="noStrike">
                <a:solidFill>
                  <a:srgbClr val="404040"/>
                </a:solidFill>
                <a:latin typeface="Calibri"/>
              </a:rPr>
              <a:t>Partner work (to be handed in)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86000" y="685440"/>
            <a:ext cx="6858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404040"/>
                </a:solidFill>
                <a:latin typeface="Calibri"/>
              </a:rPr>
              <a:t>Suppose a farmer rents three farms on which she plants corn and soybeans.  One farm consists of u acres of land, the second farm consists of v acres of land, and the third farm consists of w acres of land.  She plants corn on the first two farms and harvests 184 bushels of corn per acre.  She will earn $3.30 per bushel.  The farmer plants soybeans on the third farm and harvests 54 bushels per acre and earns $6.42 per bushel.  Explain how you would find how much she will ear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8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ges 70 – 7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 – 2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 section 2.2 and complete p. 75 1 -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01:16:58Z</dcterms:created>
  <dc:creator>teacher</dc:creator>
  <dc:description/>
  <dc:language>en-US</dc:language>
  <cp:lastModifiedBy>Laura Helbing</cp:lastModifiedBy>
  <dcterms:modified xsi:type="dcterms:W3CDTF">2012-08-10T02:24:21Z</dcterms:modified>
  <cp:revision>16</cp:revision>
  <dc:subject/>
  <dc:title>Probability</dc:title>
</cp:coreProperties>
</file>