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198-E57C-46F4-B9FA-FC1101A4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8EC-1520-436C-A74A-51900EA1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333B1-AAC1-475B-942C-EB520C80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8D6B0-83FD-44C4-A686-F6D1F023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C2CF7-649C-418F-BA74-AB30400A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A832D-9485-4323-885C-86A6EEB9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E8329-4D1D-4D03-A806-C4D320C7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10BF4-70F8-473A-A7BA-67114655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48C23-D028-46C9-8B85-2EEEB3F3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9D105-5BA9-4191-909D-2DAAD8C9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CEF86-6129-4E19-82BD-17C03F0B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C04B8-CCE2-4FB7-9DD8-79241413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866-F9BF-488B-9D07-710A2916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AF12E-ED56-4DC3-98B2-7E30E336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D12C2-D7D2-4545-9321-F38D56CD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A489C-2C00-4A7A-BB95-DE9D432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EF2B8-083B-4CD8-B9D2-BF6AD723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2121D-588C-4888-9A6F-8AF64DA0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FBFB4-9818-40C2-A549-6FC6A7B9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A48BE-821D-4467-BCD2-9CB47FD8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BF9A7-8F96-4ACA-87B5-D94E6C1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D0F31-329A-4746-8B50-845327F6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093F0-D3CF-4E68-9A0B-1F9DCEC3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304-E075-4F49-B2B0-B55A5F73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76E8E-6003-4232-B61A-ACF44AD7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0BCCB-8BCB-4E04-951E-448848D5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FEBC9-C044-4BFE-9A9F-DD30E049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EC987-89C4-444A-8490-EFCFC541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07882-1F31-48DC-BE85-D4C8154A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4DD92-1503-4C59-AF15-722F4F89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79BDE-0168-4452-9F42-53440CB2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2D2AA-7334-49BB-8616-F6E7A289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18AF8-640B-41B6-91BA-3F1BD32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772FE-71CF-4BF9-8369-00A116CD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F64B-E870-40CC-ADC1-3D0D8D0C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B03E6-77A0-4A5C-A7FE-F34BA99E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493C7-6C5D-468C-B81D-CFA73A86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A6F8D-E118-48C0-8953-3587ECD6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B29B2-810C-40DF-BBCF-E72B2738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B4682-61FC-4EDA-9CB6-A999BFA5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9E361-A339-43B2-9189-00B74456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7BA14-6577-4984-A22C-EF2798B4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4645B-9C00-49EA-B472-20ABA1CF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28517-4E7A-441A-872D-9F857F0F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C307E-1C62-479F-8427-0570C3F6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316C-9E23-46A5-AE91-F9B47525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28FC0-EB6B-4639-9F49-F6D72125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9E943-F4FA-4DB7-96A1-2F0DA63C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426EE-AE6C-4300-BEC8-FB234185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7E6E6-F82B-4A56-A627-C67F0B2D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25EDC-FEE4-42B4-8A8D-F782904C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1550-69D9-40FA-BF35-68A92D5D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F81C-1268-48DF-828C-0DD6B2D9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7DAE-893D-449F-9013-1D79C999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2A6E-7958-4EF5-B79C-DE65D05B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7D60-ED9D-4665-AD3C-6055184D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52E-508B-496B-889F-CD580E03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6A94-F94E-474E-8647-4E80EF89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0B65-BA1D-4AE7-A349-62B3EDFC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940A-A688-4CB7-8326-4E85B409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BDA2-60E1-4E16-AB5E-25698B7B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FF76-9038-4CC7-867A-44B9A4DB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B0C95-5868-491A-BEF9-CF87682A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6B38-C8B2-489A-9FB1-E7CE9F7D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8B5A7-FAE0-4E7C-B9B3-843E8987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C9D17-AF06-45CA-8AC1-873BCD4B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D47D-8E34-4370-B19A-4C7F0217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66F-7F3D-4AFD-9CA7-3CD5AFB7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7B247-3475-419B-A824-3EBD4293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D2AD-A64B-42CE-B3D0-ABA31106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FF1C-E70B-4B60-9C01-E00E0162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9D1D-DCAD-480C-B0A5-2EAB79E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57EA-D324-4D0D-8E20-6B9CF1C1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87DE-CE81-489C-984C-085AF355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930BF-2A8F-4AD3-8434-C3A79195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B22C-DDC5-4345-9564-6CB9A702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E037B-BAEC-4F8E-B4CC-9B07CA1A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E677E-AB74-44FB-B716-8DBBD9A8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EB9-DE85-4C6E-8D80-7B8E4A89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1DB4-7456-4127-8450-4F0248A8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43EFE-C162-4CF3-9E7B-F5A8B2E1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130D1-2E55-4F46-B6FB-E52EFD4A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93093-543A-4F9B-8A15-A4002AB8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9A900-A30B-49FC-B86A-DBCAC46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D108-F394-4888-ADF9-2679228E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3E048-DBB1-41EB-A198-BF6DF403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AB5A-EEBB-42E8-868B-2004F645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36CC2-EA51-48EE-BFB7-D64348DD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0F7C5-AA08-4E0D-B493-2EFA374F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19F-85B4-454D-A2F9-83463913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06ABD-544C-42AB-9C8B-EB5A5D44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65F0D-F2F3-407B-8BE1-A9F5CC0F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B4D7E-2292-409A-94D0-52F2DF91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3387B-C664-4AA0-817E-D5FA0401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FAC68-C175-4EAB-959E-062E1074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8DB61-DD96-48E7-977D-281D915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619B3-B140-4A26-9E8D-C83957C4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D7BAC-96D8-4419-934A-6FF76B6F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3108D-FC21-44D6-8439-2CC6AD75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42D3B-C943-4155-AF18-52D3D900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F8E-5F61-4B70-BA4A-C38C3850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B1D81-A237-4567-B870-2A946568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AD949-F9E7-4C5A-847B-0835CBE3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3F297-F076-4D5F-8170-3234F981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ED648-8F55-4CEF-8555-329EA028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436A3-F062-4AA1-B3D8-34CA2E95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EF99F-14F6-493E-91BF-BB14CACD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3FD7-51D5-4812-BF87-0D2889BA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4AF31-C42F-4817-8FB6-E967357F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B5E6B-CF3D-4496-9103-94ACADAE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22C77-2760-4472-8F38-F1F9B537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F90-FF6F-4ACC-B460-866A9823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BD319-AB12-4236-894A-0DFB3BA2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E540C-1D94-4CA6-ABA5-09C2DA98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83964-C6D0-4781-9058-E651BE11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2E210-0705-4851-8905-43409A63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49C4-C775-4D73-A77D-FFA8410E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0D3FD-BB8D-448C-89F9-05A32034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16097-2910-4C5B-9482-C30DCE4E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2525E-5A06-407F-B183-FA8C720A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5020F-5F3E-4496-BA70-71DF4011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E162A-D6EE-4FAC-A7A6-5B274B24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82C-BA9D-453A-BEF8-E5184692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E234E-C172-4DEE-AEF5-0889ECAE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4694C-C2A4-4DC0-A3EB-11F9C6F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0967A-72BB-48EC-A62E-6C204970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23842-3E36-4E30-BD17-27268C42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50E3E-4089-42A7-9D0A-BE7064A6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61956-9530-4AFF-8436-D1750A76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82558-E66B-4059-A8C1-06A01DBB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7ED7F-C227-409B-A173-B17E3F65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C03E2-A491-4B0B-9E64-BA2202A0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152FC-2EBB-495A-9BF5-19F16660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8E5-AFBE-4746-A8F1-0BC6291C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D7DE8-9470-4D49-9059-C42137A0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19498-3E64-4732-A3BF-553F502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29F2D-47F3-4951-BF3A-AC84AB4D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6CB6A-0152-4F15-B351-8242053F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F394D-7DEB-4387-BDFF-5D36D1CC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384AE-DE42-49AA-A9DD-23E2AD73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1C456-C676-4D6E-AF2C-6F0236E4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AE298-8E8A-40C3-90F0-BC970933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B2F1A-288A-4083-B42D-028985FE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19104-2AE1-43CD-A0FF-77AB30F1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0A77-AF31-4EB5-AEB6-602699AB5D4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B74C-D861-47CB-8FAA-960CEC80C4C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2C87-D596-45E3-82E6-FD8BDE32AFB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4786-274D-403A-A7C3-D8D7160D103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0CB4-68C1-4595-A909-5682DB21E72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2C14-5394-4646-90C4-28AA1C1EE62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73FC-7DC8-415A-A98C-F2D8C9D1C65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7867-5302-4096-9182-0EF535C5E5C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DF58-F283-4D47-B403-08BA2B874AD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A0C6-6426-40B0-A510-0E800BD0060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01AF-7A12-4D0A-85E4-6B83F64AA7A8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FE2B-BEF4-48B6-BFD4-8DED43B5DE8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ESSON 4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ranslation Images of Circular Func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fin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 shifts the graph to the right and to the left.  (connected to the x coordin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ifts the graph to the LEFT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s: shifts the graph up and dow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+ 2 = sin (x)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-2 + sin (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raph y = cos (x – </a:t>
            </a:r>
            <a:r>
              <a:rPr b="0" lang="el-GR" sz="3300" spc="-1" strike="noStrike">
                <a:solidFill>
                  <a:srgbClr val="7b9899"/>
                </a:solidFill>
                <a:latin typeface="Georgia"/>
              </a:rPr>
              <a:t>π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/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28240" y="15235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phase shift of this function from y = cos x?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to the r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shift of this function from y = sin x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0; they are the same fun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045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all real numbers x, cos (x –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) = sin 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remember the Complements Theorem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– x) = sin 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sin x 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) + 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 u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tan x and y = -1 + tan x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hing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dow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504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π/12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mplitud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io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π/6 = π/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2743200" y="1143000"/>
                <a:ext cx="33829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Pages 282 – 284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3 – 9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15 – 16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09:10Z</dcterms:created>
  <dc:creator>student</dc:creator>
  <dc:description/>
  <dc:language>en-US</dc:language>
  <cp:lastModifiedBy>Laura Helbing</cp:lastModifiedBy>
  <dcterms:modified xsi:type="dcterms:W3CDTF">2011-11-30T16:28:44Z</dcterms:modified>
  <cp:revision>7</cp:revision>
  <dc:subject/>
  <dc:title>Translation Images of Circular Functions</dc:title>
</cp:coreProperties>
</file>