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3A1-92B0-415B-974F-619E55BC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EC9-28C9-4FFC-823D-495FE110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DB675-8FDB-43BE-B7AF-5C0135DD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F2038-5935-4096-88DC-938BAF7E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B0B43-FA28-45B7-9FD7-54D30171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0CBC2-86CF-4E9B-BF3B-0F4AF32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96541-7E51-4818-ADDC-5CC7B5BA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DBE67-B1E8-4E58-8214-E13E863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8F382-0DEF-449C-9C22-A45DB412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F28B3-3711-4320-B24E-EB421640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0A64A-AFCE-47E5-8470-DCDAFD38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053AA7-4E04-419D-8B9C-4C62ED17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70A-DF7D-4DB3-BAC0-D6A10318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BC239A-A662-43D7-A4F3-78FEC47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D3461-0B32-4498-99D7-0DA2BF23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95F43-360C-4A3A-BB02-6B97A21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620C9-3CF5-4CAF-90B4-BAE76F79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5BD5F-63DC-4981-A539-294317A5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BC45E-CA82-4F1E-86B1-AC372EA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ACAEF-27C4-41EA-9155-EAEB6DBB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912E-27A1-45C7-8FCE-B135905F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19551-7DFB-420B-860E-8A3F531A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BBB06-8B75-4E8D-9920-05C275B6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C27-E14D-49A4-B6A3-8060C6DB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DA1B5-C903-41F0-AA27-3C61C9DC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201AA-2CEB-4E29-A3F7-69BF8419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052A6-AED3-4028-85B9-00ED4933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007B3-F911-4893-82A5-9DAD99E1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5CE14-18DA-4B7A-B8C5-AB2C0B6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881B5-8E9F-45F4-A462-F0A4B712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A863-556E-4784-ABD4-38FBD63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C140B-A8B4-4C46-BAAB-BB2187D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98922-99F9-45C2-8CF5-29C39ADB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5C1D1-97D3-44E4-B79F-5E889F24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3EBC-A08E-4D33-AD2C-D591CCC4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BEB2-80BE-4AE0-92E4-0CFAA40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9DFCA-B720-40DF-A435-BD3ED140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3DDE1-FCC7-4DA9-BECD-65FB5AB1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A3F63-70C5-4262-B770-CC37457D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D1A423-02BB-4D2B-BB30-F4B34F18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2CB27-8A8B-4A24-B0C6-22521535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34814C-17BD-4BBA-AA44-08446F38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5218F-8709-4DEC-819C-4984679B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BFE86-F7E3-46FC-9E31-75DA380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FA24B-20AE-490F-B70D-38B62BF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FCF0-7356-4B08-A853-0645D6B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4EA1B-B8BD-4504-8D18-4D915DA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12E74-6368-41C8-ABF6-633E0A8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E934C-DDEB-420F-A06C-9157921B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AEDFF-0908-49DC-A3A2-9F146C1F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03BD8-BE2A-4CEE-8D7B-BDE488A5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B40-6BF3-435C-B1D5-122E6A2C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3AC-6F5A-42A2-B6E7-D65BE45B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B206-E3AE-4C68-AE7B-B4E193D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0E9-9DCF-4989-A002-7A0BF881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E542-3FEA-45F3-A3BE-8C72415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A9C-85DF-434E-B7EE-8FF53B16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5D9B-CBC1-44ED-AB70-35E31CB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A22-0A94-42EC-ADC9-FCC66966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3759-25D4-4FD7-A2A3-5D3CC7AC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3032-F75F-4E4E-AD02-983744A3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A05F-CD32-48E2-87B0-7369D267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36498-0CFB-4931-8EAA-E95A313E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69CC-2212-403B-B94E-2711A648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D725-8E44-40CE-8EDC-A2D81E08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6124-4490-4B08-B41A-91E33B34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2760-F5BD-42FB-BEC1-3B25AED0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801-C09A-47B8-8918-75208704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998B-73B0-4BA6-B9CE-9407C6D5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3370-FB25-4559-8921-0D55CBF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DDFB-3623-4F93-B3C1-167D294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49C54-188E-47AA-9CD3-20AAF013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FDFC-3A5B-470A-A2DC-700C0DD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48A9-3DD5-4121-AD99-F2A383E7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5D05-AAB4-443C-9F64-55194276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F4C3-6382-4CC1-9C50-69F9A3D3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4FE8-E6CE-4D57-A016-0ACC1FA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7987-7B30-4406-9F39-AC4DBD5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61D-FDF1-4A89-84A6-7F84F3D9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7F894-9C7F-44B2-A73C-7567A66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48F4-7624-401E-8F86-DF35D789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7BFB3-2636-47D7-B46B-3A27BC7A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BD4E-2655-4DCC-82BC-67DCE16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7E91-960E-4304-9CCC-7812BCD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AE790-CCEB-4291-8BC1-649E0C6E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3CD5C-D54C-4883-A62F-1BBF31BA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D8DD-52E3-4072-B473-4710D034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68139-AFC3-4E0A-8AE2-40E61620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BB4FC-F2E7-40E7-A88C-C6FB31B5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68E-B186-4339-A944-1C10D8FF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73CCD-7EA6-4279-8709-959ACCBA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3D239-A689-435F-9372-3A8184F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28482-5DAE-4387-AD32-18D3E6D4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BE14-1282-4C01-9E09-360675E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5474B-67E2-4517-AFE6-3DB15E21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3885-082E-4167-B9BA-4CB774A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8DDE-0E1C-4E4D-B2FB-3320F7F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E598-C188-45DB-BE46-A2B68792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0253-7D03-44B7-96D8-CCB672C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0E7FF-DADD-4764-BCD1-FA07B823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7E02-F82F-42F9-A95E-89D1D231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AC65-B971-4636-A761-9C1D5ABF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6563-04D3-427D-95A8-4833254E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F4EF6-10DC-49A3-9713-A71C40B8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6759E-DDD2-46F1-9EDA-6319B7F8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33416-C420-4B12-A6C9-3733A0C5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F0937-80C6-4329-BACC-4A6534E2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93FC-A112-4AAA-B5D3-DF4739E5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696A3-1FF2-4EDB-9E1B-C16C02D0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B2A6-8E8E-49FD-844A-B0B460B7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4767-6ED6-421D-86E5-1C8F8CB4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3A0-DC4E-494F-8E2B-043AC47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7E464-D82E-4660-9CD2-070AAA02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0081A-9B6E-425B-909B-654A7D18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C550-7F87-42B2-B71F-02EB970A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FA4C-DEC2-4EAF-A220-2F1AA993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4CC6D-F0C3-4801-AD92-1751AB37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11B63-6709-4528-94A6-A038DA62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06922-7ADE-4BA0-8E22-6294308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D6F4E-7EE7-4EC9-BB6D-D8F5FF0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EE6BA-31F2-4FB4-B3E9-8476E46F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D329-30D5-4D73-A9A7-36FF20E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872-1B8A-433A-925A-A46A92AA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1C388-9CFF-4FC3-BEC0-86F8E8EA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39A0B-6EB9-43B3-9526-F818724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79135-D75C-418C-8103-56EA2D2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00CB8-1067-46C7-B9E4-96E97A01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C97E7-F8EF-4C81-985E-9CE46893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5347-9BC4-4089-AB9A-B94039C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3E8E1-2C7C-49BA-A313-2E8E96F4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CE1E-CDB6-4B4E-9AFA-A37A260F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EA9E9-9B80-43B2-8C52-506EB9CC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98B52-0141-4D20-B9BF-BDA06E89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3B8-1206-47DD-A1D8-724589E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5C0F4-E784-41E5-9839-B4553DFC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25DE-DDCF-4A2F-9371-B85B4353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5E274-6B53-4A4C-BC64-73C4129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423E-5C63-4514-AA4F-5AD5FB32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E518-2B44-42FC-BD73-44660F6C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F5056-39EB-49F2-9F4D-277E4195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5384A-A076-4606-8D7A-8229E892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49524B-CD47-4CA4-A384-F1E55D74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DF7E1-3B46-4335-AD99-35217DE0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6578A1-D3E6-488B-948A-CA02D269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68A1-E3AF-4814-A86E-3CA596EE6A0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188-BD88-4464-9F23-0742EAE2688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FDEA-C708-4A35-9987-42C247F5814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7129-35E5-4770-917D-8DC959F192E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55E-63B5-4B0A-A518-FE20E00B698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651-47EB-44EF-A44D-9CFB274791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F46-8B0B-4876-8E87-4835B448426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CBEA-6160-42E8-A5B8-09DE7868531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9FC-FC96-462E-96BA-17A873837D7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2C7E-B1B3-4F37-834F-A5822004D48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9BAA-3333-4711-B10E-852E842F324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9D1-5529-464A-8515-DADE57C01F8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LESSON 4.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ranslation Images of Circular Functions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Defin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 shifts the graph to the right and to the left.  (connected to the x coordinat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ifts the graph to the LEFT 2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s: shifts the graph up and dow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+ 2 = sin (x)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-2 + sin (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raph y = cos (x – </a:t>
            </a:r>
            <a:r>
              <a:rPr b="0" lang="el-GR" sz="3300" spc="-1" strike="noStrike">
                <a:solidFill>
                  <a:srgbClr val="7b9899"/>
                </a:solidFill>
                <a:latin typeface="Georgia"/>
              </a:rPr>
              <a:t>π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/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5235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phase shift of this function from y = cos x?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to the r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the shift of this function from y = sin x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0; they are the same func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0450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e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r all real numbers x, cos (x – 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) = sin x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(remember the Complements Theorem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s(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2 – x) = sin x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sin x and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 = sin (x + 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) + 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 u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5</a:t>
            </a:r>
            <a:r>
              <a:rPr b="0" lang="el-GR" sz="2700" spc="-1" strike="noStrike">
                <a:solidFill>
                  <a:srgbClr val="000000"/>
                </a:solidFill>
                <a:latin typeface="Georgia"/>
              </a:rPr>
              <a:t>π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/6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3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are the graphs of y = tan x and y = -1 + tan x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hing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dow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ample 4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6760"/>
            <a:ext cx="85042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hase shif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π/12 to the lef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Vertical Transl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mplitud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rio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π/6 = π/3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2743200" y="1143000"/>
                <a:ext cx="33829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Pages 282 – 284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3 – 9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0000"/>
                </a:solidFill>
                <a:latin typeface="Georgia"/>
              </a:rPr>
              <a:t>15 – 16</a:t>
            </a: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5:09:10Z</dcterms:created>
  <dc:creator>student</dc:creator>
  <dc:description/>
  <dc:language>en-US</dc:language>
  <cp:lastModifiedBy>Laura Helbing</cp:lastModifiedBy>
  <dcterms:modified xsi:type="dcterms:W3CDTF">2011-11-30T16:28:44Z</dcterms:modified>
  <cp:revision>7</cp:revision>
  <dc:subject/>
  <dc:title>Translation Images of Circular Functions</dc:title>
</cp:coreProperties>
</file>