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3EB-8106-4765-8C40-0230A8D3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CEE-1D96-467D-A1DF-6CDF778E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95F-F4D5-47DC-A2A3-16E80979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31B-A330-4059-9625-F9AC7AAF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F8C4-AC30-469E-8A35-06A3A306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CC96-8C1D-497B-B81C-2FBE4E26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BDA8-8620-402D-B6DC-1D48553C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8F93-0873-4857-A15F-8281BFA3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6674-A4D6-4977-AB69-E074628C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26DC-2DEB-4CD8-BDAF-83B87584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B15B-0595-48C1-A2AF-58DF8972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D36-3084-4200-8778-62E84195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3568-B4B5-4219-BF3A-516E5C94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ECF6-1450-4AFF-8834-947287ED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EB59-100A-4BD6-AC66-B787D31C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8EE9-AE96-4C61-83C5-A2F804D5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2643-BC7D-40F8-8685-B7B714B8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7C6CF-AD0F-4C9F-A299-2735FBD7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0E021-D2A3-4AFD-907D-CEECD63C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16911-976A-436B-B821-DDE18759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4EF61-890B-4C1A-9983-28626E80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D4BD0A-88F7-4DB1-838E-E6425714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C9A-AB7A-4508-BF77-19269797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B0678-51A6-4384-99AD-D43D5697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E465F-3A07-43D8-A861-A343797B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938A6-E860-4D22-ACB4-452FAA7E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10D9D-4FEF-48BA-B0BB-D43CAB85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B5F23-34AD-4B82-A3DF-94D268B6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6615B-E2CD-4C4E-AB74-561C6829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F4BF6-81FC-4ED4-8A27-139BEE02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54FB0-D568-49C3-A49C-797185DE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7F579-E577-429A-B74F-33AF3E28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34BA7-B0D6-4F83-B71B-160C4FE4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36E-322C-4486-BA81-92F65E15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03B10-17CE-4586-B943-F00CAE96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12CF8-6AFD-4386-8F2D-1C88CA54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F9B2B-B92E-4473-A347-99B1662C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74AB5-79B9-4287-BA7C-0EE9038B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54752-6E6D-4FED-B991-6C316728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E2CDD-D6A8-43F6-94F2-ECF6C7E5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B4160-1DFC-44FB-849C-59462D71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C0E81-3C07-45DC-89A5-A7CFBDCA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7EBCF-869C-4196-BCBF-AF66EC2E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C45A-625C-4C2B-ADC9-05A0BD2A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661A-5763-4A17-B0D9-3781CF5A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E67-C0A9-49B3-923D-15FDFDD3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4F5-C975-438C-BA35-5CC4AF10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025-7AC2-4EE4-B330-BBA65AD9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1A07-4AD8-442B-AB44-B0645D62978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7807-E8D8-42C5-8705-9EED34B8A65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E236-3E93-4376-9C88-451DBB55150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06B3-078C-42B5-9490-AB7B9AF5E3F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cale-Change Images of Circular Function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Lesson 4.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ine wav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player.discoveryeducation.com/index.cfm?guidAssetId=A691574C-39AB-4E4A-9B27-7643422C3F6B&amp;blnFromSearch=1&amp;productcode=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fini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litude: Half the distance between its max and min valu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quency: the frequency of a periodic function is the reciprocal of the perio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find the period:  period of parent function divided by whatever number is next to the 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 = 5 sin (2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5105520" cy="3733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ph y = 5 sin x for -2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≤ x ≤ 2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. What is the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. of this function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6948720" y="3886200"/>
            <a:ext cx="49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066680"/>
            <a:ext cx="82296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aph y = 10 cos (3x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iod?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plitude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2209680" y="16002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/3 * </a:t>
            </a:r>
            <a:r>
              <a:rPr b="1" lang="el-GR" sz="28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2514600" y="2057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 the graph of y = ¼ sin 2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amplitu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period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its frequency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4478400" y="3581280"/>
            <a:ext cx="89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3735360" y="4572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4376880" y="5486400"/>
            <a:ext cx="94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/</a:t>
            </a: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se a tuning fork vibrates with a frequency of 440 cycles per second.  If the vibration displaces air molecules by a maximum of .2 mm, give a possible equation for the sound wave produc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905120" y="495288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y = .2 sin (880</a:t>
            </a:r>
            <a:r>
              <a:rPr b="1" lang="el-GR" sz="40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x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me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eorgia"/>
              </a:rPr>
              <a:t>Pages 275 – 276 3 – 10, 17 – 24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1:29:56Z</dcterms:created>
  <dc:creator>teacher</dc:creator>
  <dc:description/>
  <dc:language>en-US</dc:language>
  <cp:lastModifiedBy>Laura Helbing</cp:lastModifiedBy>
  <dcterms:modified xsi:type="dcterms:W3CDTF">2011-11-30T16:28:36Z</dcterms:modified>
  <cp:revision>4</cp:revision>
  <dc:subject/>
  <dc:title>Scale-Change Images of Circular Functions</dc:title>
</cp:coreProperties>
</file>