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E2A-AC92-43E8-AF8E-B3F7F85B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1C4-0348-467A-B254-5E85EA91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52F-AD8E-4801-B7B2-C80EC3B7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6C5-A365-4809-9DC1-F3411D36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2195-281B-48ED-9BF6-1CBCE2ED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9194-A2D7-41B8-AE1E-EF0D56FD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A1DD-ACF2-4986-8152-28E39BA6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67A3-E96B-49C2-98BB-34C27688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AC86-5C7C-4C62-A0E7-ABEF6CE6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8C28-1174-4E41-B4D1-626F03F8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1C2A-1AEA-425F-9B52-EC05B14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7D6-3984-47F6-A0D8-09C09104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2F4E-313F-4D19-81DA-581FF13E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E175-04EB-42AD-8B06-ECAB20FC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79F-22D7-49D7-86CD-FAFC4994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368D-30F5-497F-95BF-4B7FDDBB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4ABD-F494-473B-9E60-6F487D58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C69499-DD6D-4E94-8299-67F3D15A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ECC65-C41C-4E51-AADF-9791AC0C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17CF2-A3EC-42B3-8401-1F0B493E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DD8AB-6A49-4094-B859-958CD935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9732C-65A2-45EB-8F55-D8F415ED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429-D6FD-462C-A034-458654E4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D569A-023B-4748-B720-E21F8BDB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A085F-F707-49FB-978B-7D9491F5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F8D81-8BAD-46B4-B0DB-59D1E2C9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CACCF-7077-4395-A0D8-58D06CB7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4785B-7661-4713-B2AF-7489EBD5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51F89-E0C6-4872-8DD2-B2A0AFD5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389A6-0B46-44D1-B7B7-13E0F08A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398E-4CBC-4DE4-838A-DFD71173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39C89-1EED-40FA-8DEB-420BDAA3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82EE1-1C85-4D5B-BFCA-B8C1E415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334-AA8D-4DD2-B4DD-CECE11FC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6860-6BED-40F5-A0CC-D8C908E5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6D1F-67B0-4369-8551-878DDD4F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BD1B-A621-49D6-B078-D97D011D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83804-7C36-453C-BB63-BC89F965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A8E23-8B29-4537-90D9-E99BB20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FBBD2-2F85-4050-80ED-38D8DE49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9EC1E-4F49-46BD-BB7A-9B00A8D7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BE4B4-CABD-4F2B-B296-0A7B2F81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FAF33-2BD1-46EA-8213-5D8401F1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C8C-B1C3-4935-81C1-E6F7F4F6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AC3-6301-447D-BA4D-E2338B4A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A85-3E6D-40CD-9CAC-8AA7EC9A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B07-70B0-4730-8E01-FEEFF0B0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724-38F3-41D5-BDCE-82436386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3930-ADB8-419B-993A-CAC37E5DEDB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E631-A155-41D1-AED3-402B297BE23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AFBE-8CC0-4B14-A835-0A7FA5AC084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995D-B05A-42C1-A582-61445B5529E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cale-Change Images of Circular Function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4.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ine wa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player.discoveryeducation.com/index.cfm?guidAssetId=A691574C-39AB-4E4A-9B27-7643422C3F6B&amp;blnFromSearch=1&amp;productcode=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: Half the distance between its max and min valu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quency: the frequency of a periodic function is the reciprocal of the perio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find the period:  period of parent function divided by whatever number is next to the 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 = 5 sin (2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5105520" cy="3733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5 sin x for -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≤ x ≤ 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. What is t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. of this func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6948720" y="38862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66680"/>
            <a:ext cx="82296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10 cos (3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io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209680" y="16002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/3 * </a:t>
            </a:r>
            <a:r>
              <a:rPr b="1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2514600" y="2057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 the graph of y = ¼ sin 2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amplit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perio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frequenc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478400" y="3581280"/>
            <a:ext cx="89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735360" y="4572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376880" y="5486400"/>
            <a:ext cx="94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a tuning fork vibrates with a frequency of 440 cycles per second.  If the vibration displaces air molecules by a maximum of .2 mm, give a possible equation for the sound wave produc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905120" y="49528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 = .2 sin (880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x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275 – 276 3 – 10, 17 – 24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29:56Z</dcterms:created>
  <dc:creator>teacher</dc:creator>
  <dc:description/>
  <dc:language>en-US</dc:language>
  <cp:lastModifiedBy>Laura Helbing</cp:lastModifiedBy>
  <dcterms:modified xsi:type="dcterms:W3CDTF">2011-11-30T16:28:36Z</dcterms:modified>
  <cp:revision>4</cp:revision>
  <dc:subject/>
  <dc:title>Scale-Change Images of Circular Functions</dc:title>
</cp:coreProperties>
</file>