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605-DEE8-4F01-B1A3-635F680F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3C5-CF1E-4E35-940A-D8490D9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EAC-EEE3-4EBC-9505-3E1EBDA8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4B7-FCDC-4680-A084-8406A63A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CF7D-C452-4C2C-9DE2-4E73DD11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20E-2F99-4210-BF06-DFAF7BB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2C90-8A85-402D-AFDB-8DE455E7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A310-FBA2-4F0E-81BE-197EE00B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B1D1-8C11-4C0C-8EC2-4A858F4E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2513-D761-4051-B68F-5B8EB1D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A8F-B73B-4788-9A07-51DE503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9A7-2684-468E-9881-4DFB1A24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89D9-5BBA-49D8-8BDC-1DECA956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4AF9-3FCE-41AC-9B4C-35E5589C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1A3-CCA7-43EC-893B-8FAF874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042F-D7F5-4332-88A9-46543D04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0AC8-43CD-448F-ADFD-EAB4C064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95570-8BD2-4A2E-888A-30BAB3A8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AFD80-EFE4-432F-852F-17C6C58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36071-D7C8-4736-9C3F-AD73561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B790A-DE6D-4BB0-B120-43862EE3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1FA46-805E-4BAD-AAC0-BFF554E5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B57-DEB4-4933-9F2E-D24B857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755B6-2751-48A8-92DA-A3406C6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6C8F3-81C1-40AB-850A-77DBD01C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91B9A-46C6-497B-A50F-B734A1BE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B6BE3-71B0-4038-BCE3-BAEBB135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24020-5609-4116-80B3-4660D419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71E2D-7758-413F-AB9A-6D65AF5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22700-91C3-4A61-9B86-103A0737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FAFD-0211-4324-AC2A-2C5D3A47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C13F-64C4-4B7C-9299-A197D48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0BA8B-D1C8-45D8-8F1F-F4033D1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051-3CE1-4418-B1EF-1B9BD19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2D10-777A-40C0-BE45-2B62597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F844-4677-4DA4-9B0E-45F76C3E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A08C-CD7B-4F95-AEB1-79AA8F5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6F4D-780E-46CB-BFB9-070EC83A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FD3B-34F0-402E-86EF-CA7B81F0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903C-B050-4213-A7B7-B45F742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61C5D-442E-416F-9892-CB700104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F08B-7654-4862-BAAF-DA0C81B2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0D30-521E-416E-B488-6EE61E1B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7D-2784-406D-B214-5DCE6AD7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9D4-6AAA-4355-9B34-91A4B26C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651-D316-4F52-A1B7-583EEB4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C6A-6DEC-4F88-B7E0-1CEF1D0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906-AD70-4F64-9DC8-88BB1A0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072A-FECE-4C08-9523-64A994C5D44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CB15-E33F-4284-915A-47A09A132F4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2A8-B110-44E8-9906-215014E5834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F7CA-E531-4121-AFE4-B5EF4EA916C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cale-Change Images of Circular Function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4.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ne wa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player.discoveryeducation.com/index.cfm?guidAssetId=A691574C-39AB-4E4A-9B27-7643422C3F6B&amp;blnFromSearch=1&amp;productcode=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: Half the distance between its max and min val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quency: the frequency of a periodic function is the reciprocal of the perio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find the period:  period of parent function divided by whatever number is next to the 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= 5 sin (2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5 sin x for -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≤ x ≤ 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. What is t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. of this func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948720" y="38862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6668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10 cos (3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io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09680" y="1600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/3 * </a:t>
            </a:r>
            <a:r>
              <a:rPr b="1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146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graph of y = ¼ sin 2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amplit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peri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frequenc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478400" y="3581280"/>
            <a:ext cx="8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735360" y="4572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376880" y="54864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a tuning fork vibrates with a frequency of 440 cycles per second.  If the vibration displaces air molecules by a maximum of .2 mm, give a possible equation for the sound wave produc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905120" y="49528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 = .2 sin (880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x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275 – 276 3 – 10, 17 – 24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29:56Z</dcterms:created>
  <dc:creator>teacher</dc:creator>
  <dc:description/>
  <dc:language>en-US</dc:language>
  <cp:lastModifiedBy>Laura Helbing</cp:lastModifiedBy>
  <dcterms:modified xsi:type="dcterms:W3CDTF">2011-11-30T16:28:36Z</dcterms:modified>
  <cp:revision>4</cp:revision>
  <dc:subject/>
  <dc:title>Scale-Change Images of Circular Functions</dc:title>
</cp:coreProperties>
</file>