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EEA-7EC4-4DAB-965A-C64C4189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D7A-0DBF-42BD-AB74-D75E5C0E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EEBD95-EFDE-4CCB-A9F7-0A92F295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AA5BB0-D18F-4566-B366-75242049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AED333-C44D-4141-9B32-BBB11B74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BE02C7-BFCF-41D7-8049-FAE9616D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DF8AD6-185F-4E9B-8E39-8623CE6E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2EAFE-21B9-455D-87F2-C08FCFB8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D899B3-BFF2-49C5-AA03-E0663C78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046CC1-933E-4EC8-BB93-2C348278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4A5C45-F1B8-4358-940F-B3277041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34C-4EDF-463F-91EF-71955BBB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A8E-5E5E-4134-B802-726E2805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7037B-30DD-45B7-A359-D0968F13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CF573-81CE-4F9E-8294-1C2DFA60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66D60-67BB-4AA1-90EF-3404E897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7ABAB-69CD-46AE-A309-949F2AD8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01097-2A05-486A-A25E-3C1979B0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FF927-D121-4A56-8927-332D432F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2F741-481F-4A8C-A238-14C195D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895-523A-446C-8AF3-8E4AFEB3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9662F-94E7-455E-A1E7-8093ED89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50DC0-81E2-4330-AB3F-DC2A56BA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3759D-CB9E-4AAB-991D-0C862271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09175-12B8-4B1F-8FC3-BB0E4017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57BC9-F622-4EC2-8876-95EA6555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68D9A-B3EE-41F3-9076-0CCAB3D9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C63C1-EC70-470A-BE23-C9C1A301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42EF-1E7C-4937-A986-40E92CE8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1082-100A-4D73-A8FE-615B2646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89E7C-4CB8-4222-B3E6-8BC5C4E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08D-E702-4D6E-910A-F8230022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E396-C95D-41FD-AC93-FD846CD1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C78B-F39F-4036-8DAA-3F024CE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150C-EC56-42B3-9B72-60993630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FB00-D2C3-44BB-8C2C-4AFD512A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6770-FBF4-4993-AAA6-B088A620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777E-26CA-455E-B83D-0C8487BF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6E6A-8AF3-4CFE-83BE-4771D265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0CE4D-4961-44C9-8E93-A2465DB2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09FF2-9A25-432D-98BF-2BDECD8E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9F227-E3D4-47EA-8DA1-C4A52468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7B6-031F-4476-BFF8-9A4C57E5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E2221-2AD2-4624-BE3E-8E6CD247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F42FC-0698-4DF5-89C2-5E6BDC44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EB7C13-2A41-4D68-827A-FD04DB35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1913E-483E-45D2-8985-15DACB8A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8417A-F601-4604-8E18-B13BF439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0417F-05BD-47A1-BB7E-4FB5FCAF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2B793-984F-49D2-9701-BA19CFE5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CBF8F-2B3B-4505-961E-865C09E3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843FD-37E2-4300-B856-A947D7BE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7A4B4-B69B-48AB-BF57-7ED0CB51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7AE-20FF-4F5D-9739-A4943610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FCA71-8DC3-41DA-B150-33DF57D7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62409-3A2E-4E15-9376-E029083B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FB2E-5AC6-4716-B952-CD9C8317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DCF4D-CA0D-4E88-8248-26DE9A9A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8FA25-5CB5-42B4-96D6-C24057C3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47B6E-2BF3-4AD3-BBEB-B927CD37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7BBA8-0423-4106-992D-7C45441C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7262F-AADF-4864-BB7F-8A5CE32E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2B3E4-1282-4AC2-BE81-41E982EF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943EC-B5B0-4C04-AD73-A3E27513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FB0-121E-43F0-ACD2-C79AEB48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8AEB-FC94-4C4A-81FD-40711833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9FEA9-1153-4E2E-BC0D-D5AB0A7E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ACFFF-B895-415E-A1CE-B422F91D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7260A-17C8-4B76-9EBB-250A8F11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C49A2-2430-4329-A8B2-4B4E572E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25B00-1BA2-49B6-A556-EB869AB7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0A2E1-2D6C-4EC6-B02C-EE8F9975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E44E-78BE-45BE-9451-6316EAD3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8B7A1-9191-43EB-B8B1-DA01CC32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B11B-991F-40CB-8F03-3A3BB9DB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511-CEB4-4E2B-85F7-873661B3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03E61-C274-4E2C-A347-F6F55539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D4DA6-A358-48F9-8B60-83106EE7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360C7-AF07-4A34-B05C-E213472C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A9AFD-12B8-4710-AF65-E8C225C5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288D2-F3E6-4A11-9F4A-D1D26FDF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2DAE7-E43E-4A97-8CBD-84AE9DA7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F4F4F-995F-4687-B49C-7F67CE3D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16D45-4292-42F7-BF05-230E4EE1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5A908-DD59-4AFE-97E4-1ECDE1FF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30B37-82DE-4B26-AE7C-9CAB0928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DBF-0A48-4C9F-B342-C9E58EA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7467B-D30C-4270-9A96-37844856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AFDF8-D88A-408D-A4E5-7D0604B2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E89E0-569E-45D5-A2E8-96FD56EB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A3CA4-69D2-447C-945D-1A8E0D1E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364F6-2A53-47EA-9D70-500A9605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E5838-606A-4F04-80FE-69773B7A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C42EDF-5C5E-430B-8A1E-1E7F2338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50DAD2-D191-4705-82FB-2D16D60F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18BBEB-74DA-47D6-B56D-9B527BDA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8BA82D-144A-454D-95F1-7958F863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230-F37A-4CB2-8717-2455A0B8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6F1429-5A71-4693-8F7B-55E57314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E9DF1-7756-443E-849D-06686C48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7FD2C-94BC-4457-A8DD-3453291D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0A15A-9FA4-4ED9-99D4-3DEECEB1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98F795-F72C-40E9-B3FA-77D70DEB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7863C2-387A-4430-8F41-365A0420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26767-F5A1-4227-82B9-8C5B96D0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005AB2-305F-4EF3-9C38-97276F62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9C2A25-2AFE-4C3D-A3F4-87FCC6A5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FD7CDA-967B-49CF-B889-8D7427FD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C0E4-13AD-47CA-9A9F-3D37DC1F3645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A48E-EA34-4870-AC16-FD8DCAB4E25A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C385-3BB1-4F44-9391-B6367C246FEE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D0FC-E7A2-4D72-BB75-E8053488CA1E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0EB1-D2E5-4837-B701-DBEB1083DF3A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BE5-1B90-419F-A757-918566C216B2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520A-9EAD-468F-BEFC-C8723E73E99B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F9CF-55C7-4BA8-9807-E5C6E3E01F69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AB48-3C1C-46ED-A5EC-55047059EDB0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tion 4.6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e graph of the cosine function is a translation image of the graph of the sine function.  Give an equation for the translation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T(x,y) </a:t>
            </a:r>
            <a:r>
              <a:rPr b="0" lang="en-US" sz="32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 (x –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y)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o, y = sin x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y = sin (x +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)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Y – coordinate of the image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ositive from 0 to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Negative from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to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eriod of the function: how long it takes until the function begins to repeat the pattern.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4534200" y="213372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-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 π</a:t>
            </a: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 to 2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4997520" y="27432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Rockwell"/>
              </a:rPr>
              <a:t>0 to -</a:t>
            </a:r>
            <a:r>
              <a:rPr b="1" lang="el-GR" sz="3200" spc="-1" strike="noStrike">
                <a:solidFill>
                  <a:srgbClr val="ffccff"/>
                </a:solidFill>
                <a:latin typeface="Cambria"/>
              </a:rPr>
              <a:t> 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458200" cy="3695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 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534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8610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44600" y="24912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rcRect l="29377" t="39004" r="16252" b="23003"/>
          <a:stretch/>
        </p:blipFill>
        <p:spPr>
          <a:xfrm>
            <a:off x="0" y="1828800"/>
            <a:ext cx="9072720" cy="3962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rcRect l="57501" t="21000" r="18124" b="62002"/>
          <a:stretch/>
        </p:blipFill>
        <p:spPr>
          <a:xfrm>
            <a:off x="0" y="1828800"/>
            <a:ext cx="9090000" cy="39625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3809880" y="3962520"/>
            <a:ext cx="228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e500e5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/2 * k for 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all odd integers k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 equations for the four asymptotes of the tangent function closest to the y – axis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n tan 50˚ ≈ 1.192, find three other values of x with tan x ≈ 1.19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ince tan repeats every 18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2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41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-1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Page 269 – 270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1 – 16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Skip 3 and 7b.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2:01:42Z</dcterms:created>
  <dc:creator>teacher</dc:creator>
  <dc:description/>
  <dc:language>en-US</dc:language>
  <cp:lastModifiedBy>Laura Helbing</cp:lastModifiedBy>
  <dcterms:modified xsi:type="dcterms:W3CDTF">2012-11-19T15:00:22Z</dcterms:modified>
  <cp:revision>4</cp:revision>
  <dc:subject/>
  <dc:title>Sine, Cosine, and Tangent Functions</dc:title>
</cp:coreProperties>
</file>