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7F9-F558-42D5-8A5F-FB7AC678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202-0E08-48E0-8B5F-14491DC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74791-0C49-49F8-9DAD-AFCE4FBD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D19CA-647B-4ABE-B174-A0F4191E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ED45E-707E-4068-89A9-739F99F0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595819-B523-4A2B-80B8-9FEA6707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47564-28A3-4DAD-BF4B-C8BF38F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A90EB-CC10-4CB1-A606-B9D0DAA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C26160-0A0D-4ED9-A356-B7A1438D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EE014-B150-41AC-AED2-D085DCC9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E4A63-B319-4F1D-A37D-28581263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10D-B40D-4BC2-ADDD-A499FDAB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BE6-E9BB-40BB-A424-86D7E5C4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59F0A-A9A5-4F2E-8639-8CDF23DA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54B5F-63F7-4A3C-AD14-C9B74E0B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C344E-E9C4-4308-BA87-221D59A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61EA8-0909-4478-BF28-49BF6BE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B99C3-86F1-48AB-BEDA-D125AFA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5CCE9-89A6-438B-AAC7-8994CFC2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D3B57-EA4A-4E00-B900-666669AB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FB8A-2067-4E33-97A3-C63792B3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EB8F5-41DA-481C-BE97-A5A20D1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075F3-56D1-40F8-8805-81B5CB0F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28B6E-D6EE-41C0-A4B5-28F724A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FC2BF-9B5E-4BA0-A8F7-0A0F4040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52622-F9C4-4ADF-926F-5A169D82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6504-76BC-4B90-8976-A1B3BD34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5B06-870A-4372-A4A7-1D2E5535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4EF82-A7B0-4445-9578-01D6AC20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3FF9-0604-488C-8C5C-698B5216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CE38-D409-440C-8094-C25F0714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37C9-6EC7-4F4B-9BB9-74E16ABB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E0EE-65F5-4EB8-8F34-9FC06F1E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BD76-F19C-49A2-814C-A4BBEB1E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49A1C-6BFE-4AE9-B0C6-88618FEA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A26F9-3593-44AE-9AF8-CDEACB7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D701-0157-4473-A8A8-93A3374C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9E83-54FE-40AC-8757-4E682B24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8837-B290-4B4C-8B09-F1F36C2E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F49992-B64D-4C9F-A25E-76724888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97469-83EA-4A60-A2B1-C56EFA8F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F00BD-3B99-4FD5-A81E-2980A68F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8C3-0D07-4803-B78B-59A1F6A6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DA0D1-77B0-445F-AB26-3705A5B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DD27C-1AEE-483F-911E-4134AF71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7BF87-CD8A-48A2-9AB4-B8D2CA0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0C6A1-C85E-412C-A566-8D72A612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6E84E-78BF-496F-B3A0-6D186AA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19532-6EDD-4D8A-B566-4D0D46F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F33A2-263C-41AC-ADC6-F7621C20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9DF77-266C-4857-A2E8-7B5EA7E7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7D2D2-DACE-4697-8E3C-25C4AB61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D831B-3FF0-4610-8DFB-DC6C4221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482-8215-48A8-A7F2-F39D0DCD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293EE-AA3F-4CB9-85D6-251D4AE9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BCD4-53DB-4979-BD98-14F229D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94715-9ED6-4750-8124-29F591B1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51D5-7A26-43F5-8344-34A13E20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F914-9324-4EB7-88EF-4817D4C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FD41-F870-4215-BB5D-882CA0BB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B725-F020-4945-8C2A-1C3AF89B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3C0F-6E18-48A0-8642-1336039B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B497-9A06-4AC9-B4F4-43CE21C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66AE-C482-48BA-88D7-F6194716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1B6-015C-4636-BF11-FFB832EB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6058-2220-4535-8E08-24068D8F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2A85-3C0C-4758-9759-57AF417A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F2E27-08D8-4EC7-B3BB-7F284216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11D80-6F67-4DCC-AB2D-A1F7025A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4250-7A6C-4913-AA7E-28C73E7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5EE90-98B6-4A42-9DD8-8D68161F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8B84-9835-4CE8-AD26-478722A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6244E-EBE1-450A-9C89-A43CA4B1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D10C-8AD6-4763-812B-8D859718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C64F4-2A03-49BD-B03E-3B467CE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F737-B3CD-49A3-AB02-8C6FF806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CE195-CAC4-4327-A1D5-B916AAA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23A87-7683-4945-929B-550A3A17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CE44-CD7F-45F6-8BCD-81A8C9C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DA4A2-E910-47B3-8553-DBF860C4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3B9E-E58A-49AC-9170-849C6CC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44423-F88F-4B39-8BB9-A2C27E75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C64E-15BD-4632-9F33-C7B8388A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DE96-B73A-48ED-B29B-42827B7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F4DF-209A-4069-ADBF-69A5C0E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282ED-0CB0-41AD-9B7D-07EA857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666-A4A6-45D5-87EA-92CA9FF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5850-8BCC-4452-B8AB-3ADE5E2F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C3F3-DB64-47E6-BCF2-5AACB47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A8051-3336-442B-9D76-1F423D0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1C2C5-0423-4777-8CEA-BB7F51F1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AAC3C-7A87-40AF-B45E-F361DE4B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462221-D70B-4A39-94D0-D77CF1BD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CEEB52-71AF-423A-8941-58EDEFC8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16DFCD-78D3-49BC-A1F4-F2DAA6E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D4EEE-EB1B-432A-B27A-A5DA7A7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10F3C-3E9D-41D2-BBEC-744E2129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B19-21C9-4643-B308-5BDDA646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D3850-41F2-4484-AE5E-91F3ADBD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737161-FC6E-474C-86EE-31227A5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76839F-E286-4EBF-8487-99E8F7A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B469EA-5067-466B-9314-8C8E6ECB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F6208-2716-43B8-BFD9-E921DE77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56BC7-C388-496F-94AF-6CD197D4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BD9BAB-9D3F-4DC5-81B2-ED7E3FDF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496C7-88C8-4C08-AE59-6650A813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95D8B-B2A8-4C78-AC18-FB9EF8B7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39461-64B1-4A47-8B31-11393BE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2F1D-ADC1-43C4-B557-88A44600DC1A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6A2-FC09-4FE3-859A-0CE0A26E0C7A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079C-7CC7-4356-A6AD-18CA249D9BF9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BE0B-5B36-442B-A3C7-C48834340C71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349A-FFB0-4E3C-8A4D-F4F29FA32345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0CF3-F814-499D-B6A0-16FD2411B776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653-FBEA-445C-8FB9-EBD7AA073CF2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00b0f0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355-69C1-4DE1-8512-AB16D0239534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9e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ff9e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1" marL="639720" indent="-228600">
              <a:buClr>
                <a:srgbClr val="00ffff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2" marL="822240" indent="-19044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3" marL="100476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4" marL="1187280" indent="-182520">
              <a:buClr>
                <a:srgbClr val="0033c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5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lvl="6" marL="1187280" indent="-182520">
              <a:buClr>
                <a:srgbClr val="ffcc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aa4d6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aa4d6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3c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6E3F-9532-4B6F-9797-B2B5C8F7DC09}" type="slidenum">
              <a:rPr b="0" lang="en-US" sz="1600" spc="-1" strike="noStrike">
                <a:solidFill>
                  <a:srgbClr val="f3c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Section 4.6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The graph of the cosine function is a translation image of the graph of the sine function.  Give an equation for the translation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T(x,y) </a:t>
            </a:r>
            <a:r>
              <a:rPr b="0" lang="en-US" sz="32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 (x –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y)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o, y = sin x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y = sin (x +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)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Y – coordinate of the image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ositive from 0 to 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Negative from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to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Period of the function: how long it takes until the function begins to repeat the pattern. 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4534200" y="2133720"/>
            <a:ext cx="18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-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 π</a:t>
            </a:r>
            <a:r>
              <a:rPr b="1" lang="en-US" sz="3200" spc="-1" strike="noStrike">
                <a:solidFill>
                  <a:srgbClr val="00ffff"/>
                </a:solidFill>
                <a:latin typeface="Rockwell"/>
              </a:rPr>
              <a:t> to 2</a:t>
            </a:r>
            <a:r>
              <a:rPr b="1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4997520" y="2743200"/>
            <a:ext cx="15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Rockwell"/>
              </a:rPr>
              <a:t>0 to -</a:t>
            </a:r>
            <a:r>
              <a:rPr b="1" lang="el-GR" sz="3200" spc="-1" strike="noStrike">
                <a:solidFill>
                  <a:srgbClr val="ffccff"/>
                </a:solidFill>
                <a:latin typeface="Cambria"/>
              </a:rPr>
              <a:t> π</a:t>
            </a:r>
            <a:endParaRPr b="0" lang="en-US" sz="32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458200" cy="3695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 : 2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534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Period: </a:t>
            </a:r>
            <a:r>
              <a:rPr b="0" lang="el-GR" sz="3200" spc="-1" strike="noStrike">
                <a:solidFill>
                  <a:srgbClr val="ffccff"/>
                </a:solidFill>
                <a:latin typeface="Cambria"/>
              </a:rPr>
              <a:t>π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610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44600" y="24912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3"/>
          <a:srcRect l="29377" t="39004" r="16252" b="23003"/>
          <a:stretch/>
        </p:blipFill>
        <p:spPr>
          <a:xfrm>
            <a:off x="0" y="1828800"/>
            <a:ext cx="9072720" cy="39625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4"/>
          <a:srcRect l="57501" t="21000" r="18124" b="62002"/>
          <a:stretch/>
        </p:blipFill>
        <p:spPr>
          <a:xfrm>
            <a:off x="0" y="1828800"/>
            <a:ext cx="9090000" cy="39625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3809880" y="3962520"/>
            <a:ext cx="228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e500e5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/2 * k for 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00e5"/>
                </a:solidFill>
                <a:latin typeface="Arial"/>
              </a:rPr>
              <a:t>all odd integers k</a:t>
            </a:r>
            <a:endParaRPr b="0" lang="en-US" sz="20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 equations for the four asymptotes of the tangent function closest to the y – axis.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, -3</a:t>
            </a:r>
            <a:r>
              <a:rPr b="0" lang="el-GR" sz="3200" spc="-1" strike="noStrike">
                <a:solidFill>
                  <a:srgbClr val="00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/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Rockwell"/>
              </a:rPr>
              <a:t>Given tan 50˚ ≈ 1.192, find three other values of x with tan x ≈ 1.192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buClr>
                <a:srgbClr val="00b0f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Since tan repeats every 18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2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41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ffff"/>
                </a:solidFill>
                <a:latin typeface="Rockwell"/>
              </a:rPr>
              <a:t>x = -130˚</a:t>
            </a:r>
            <a:endParaRPr b="0" lang="en-US" sz="32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Page 269 – 270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1 – 16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ff"/>
                </a:solidFill>
                <a:latin typeface="Rockwell"/>
              </a:rPr>
              <a:t>Skip 3 and 7b.</a:t>
            </a:r>
            <a:endParaRPr b="0" lang="en-US" sz="8000" spc="-1" strike="noStrike">
              <a:solidFill>
                <a:srgbClr val="ffcc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2:01:42Z</dcterms:created>
  <dc:creator>teacher</dc:creator>
  <dc:description/>
  <dc:language>en-US</dc:language>
  <cp:lastModifiedBy>Laura Helbing</cp:lastModifiedBy>
  <dcterms:modified xsi:type="dcterms:W3CDTF">2012-11-19T15:00:22Z</dcterms:modified>
  <cp:revision>4</cp:revision>
  <dc:subject/>
  <dc:title>Sine, Cosine, and Tangent Functions</dc:title>
</cp:coreProperties>
</file>