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031D-561B-410B-93AA-47234F3E3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B363-5C88-4DE9-B766-04DED65C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7C7CA3-9962-4BE3-97E6-5AD0E108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9AF923-EC4D-4522-8609-4831C4F3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DD8D3C-6FB6-416D-9891-9947DA86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83E6B0-4986-41FB-A0F5-7B7650B6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3C2B05-80F6-490C-8138-FB68A877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27B365-A9AB-46A9-9955-2C05A46B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02EF38-6892-4495-AD5C-1ACFDEBF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2C433B-669B-441D-8B6F-8320752FB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108CC2-EDED-49DF-BAA9-AC411547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6D50-04E7-45A1-86F9-EAEBD053E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65A0-6602-42B0-9284-D5CFD779A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14804-4B9B-438A-97C4-B189F4934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C9546-2E9D-48A4-90CB-62B01FBD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A29C8-A891-4EE5-9A32-0D761A5D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21142-82CC-4540-8BA1-F5509764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7F3BE-CD4F-4DDA-9365-BA5A63D7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98B80-9A55-44BE-B559-AA4CC054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5472B-84C7-4FD0-82F9-C1DE1AF3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2935-5893-472C-89E3-DD64D1A1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723E6-1EFB-42C8-AE9B-6CCF0240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02E25-D712-4193-B01B-EDD9C367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9535B-67BA-490F-B48E-C44FAAA5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B5400-1939-4537-9AE0-55084E43C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BE20C-3A7A-4EAB-AFDE-74A41B64F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F48FE-4B52-4C4E-9340-22D55DE16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CE23B-9426-4CFE-A2A6-C815BC39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E9509-A11D-4F73-BEBB-2E2036A5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6A774-DF06-4C4D-845C-0F682E80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AB3E7-AB16-493D-BFC0-1F045F54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5015-F07B-4DDE-BC4D-3DF6D30E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0AB9F-2AD7-4EE5-8B31-20B6D32A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619E8-983B-4412-B12A-71AD3899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16CD4-E82A-40AA-A5D7-B32C07EE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14A87-4612-43F1-B1B0-B578B8BA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5DD2C-2D91-4263-B9A7-8E2FC9DC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6FA77-DB93-41F5-9D52-54BE6C273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23BF5-017C-4ED2-84F2-D5FC1382D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4F95A2-6BE9-465A-BE9D-8C21DC9A0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6AB5BC-E2C4-4F6E-A040-AAA54050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B81710-5B55-426D-94C7-8BC2F187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B022-1B40-41AC-A507-4E2B67CB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2CD45B-F93D-45BA-B6CE-255EDA5A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444D29-338F-4E55-AC3E-03C9758F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6E6EDC-94C9-4FA5-903A-4D215BB2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87796C-2E38-41F4-A300-D50F4D63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94A54B-6FC9-4E33-80CF-53C90C07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C1E167-E8DB-4464-8BD7-0D410F6A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09CE51-391D-4D03-BCE6-0A978A00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441887-298E-4E86-A8AF-9C76D9B6C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56F1B9-12E8-4957-A3D4-C79BF786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817C0-07F9-4E8D-99B2-14BE9D245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8CD0-7E84-43C8-BC12-978CFDD9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19A98-2336-4FFD-8803-81E11200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F9882-2AF5-4675-A3FD-F61F4A15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2A1B6-834B-48FA-9B30-6AB00079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50374-A445-4B06-8181-7E143EBE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3A76B-327C-46E2-9B84-2B221DBC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0DD47-2B85-4922-908D-8A57355F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97B1A-759A-4CDA-AD32-F0BF72DF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C1EA7-21CA-4C06-9C03-3F0891E3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E9CA5-76B6-4BD3-B97C-2364CACF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E5736-4531-440F-AF17-FAEE9AFF1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99B8-E3DF-4B6D-BE5B-508C2E9B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4D5AC-6A99-4A27-A27E-E14BA1775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A46B4-EE0A-4ACE-838A-8508BC4CB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E2751-D774-42DF-9B89-C130F495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19740-753D-43A0-88DB-62C913C0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6FFD5-AABC-4DEC-80AB-3D25D94C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C0B19-01A1-4489-A88B-7647E0F0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66072-E77D-42DC-81B1-12B42575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DFFEE-585E-4B64-B63A-827ADD7F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6DC84-FD6A-4CAF-9664-03EF1BA6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80026-1872-4213-9C49-543238FE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0E18-4ACE-4B04-9918-89621F60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F920A-B446-4E1E-9415-4F597C05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20A5D-D5D2-40DC-9A11-7515CA287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8FEAC-21E2-4D9C-B787-90A2BEB57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42E04-BA7F-4276-9317-E20200737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D0425-408E-4D80-B66A-6D491CAB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D39A2-AEB3-4097-9AB8-3718BC30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FC4DA-88C4-4A91-8004-949CBF3C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24627-B248-4BC5-AC3D-2DA1368B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67F2F-E75E-4CBF-A7E3-95D9A1CF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44C45-10FC-428B-8691-B4A6CFF1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A3FE-4B5C-4152-808A-21AEB31A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D03C1-4F33-4505-B24F-749CB551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6A72C-45BD-4C30-B40C-89FE29BA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A0C6E-1339-4C1C-877C-87894DDC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007CA-1C6E-4B01-A42A-B86DE9580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88B84-6626-4537-99E7-FEA293B93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91AD3D-F166-498E-A009-5581FBADB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569E24-8C4A-4668-9768-DBF7693A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B30ED7-46DE-4894-A557-7DBA4E70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7FA446-9222-4771-8B12-4FA29096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D9E333-8CD2-4832-9B84-9D9D0F02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FCDA-668F-4381-83AE-E6930501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D0F7BA-280B-4223-BEA9-31AE04EF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459249-E697-46B7-AADA-613A89EC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2B48BA-D99C-47A1-B421-B8113CA5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F9E3C9-200B-4413-BA1C-D3183D2A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42C755-0D64-4995-B79C-AB6BD5A4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186DA9-85C1-4D3B-A739-CB4E0504E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87E8E3-9B9E-4521-B94E-A1298C2AF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87B357-7254-4EEC-AFAF-A4B3C6FB3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200B37-0632-435F-B1BE-1FB34AAC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87460C-17F3-40D4-B0EA-AA09E40E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E833-D01D-44CA-879E-D1062C5C6067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42F8-BDDA-441F-940B-E6176F67970F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1CC8-1DE8-4ACD-AB21-B179983E17C6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9D9C-DF22-48EB-804E-A2273C1BDD3A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4B7A-4DDD-466C-9856-3A37E87E3F7D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79A5-EB0D-4558-BA9A-2AB025585F41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D3BE-C9AF-41CD-8E74-22DD9372EC90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70A4-7273-434E-A14B-6BA2043ECC25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FAC0-5A7F-49FF-A732-E501153686A2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57736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tion 4.6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e graph of the cosine function is a translation image of the graph of the sine function.  Give an equation for the translation.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T(x,y) </a:t>
            </a:r>
            <a:r>
              <a:rPr b="0" lang="en-US" sz="32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 (x – </a:t>
            </a:r>
            <a:r>
              <a:rPr b="0" lang="el-GR" sz="3200" spc="-1" strike="noStrike">
                <a:solidFill>
                  <a:srgbClr val="00ffff"/>
                </a:solidFill>
                <a:latin typeface="Cambria"/>
              </a:rPr>
              <a:t>π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/2,y)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So, y = sin x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y = sin (x +</a:t>
            </a:r>
            <a:r>
              <a:rPr b="0" lang="el-GR" sz="3200" spc="-1" strike="noStrike">
                <a:solidFill>
                  <a:srgbClr val="00ffff"/>
                </a:solidFill>
                <a:latin typeface="Cambria"/>
              </a:rPr>
              <a:t>π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/2) 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Y – coordinate of the image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Positive from 0 to </a:t>
            </a:r>
            <a:r>
              <a:rPr b="0" lang="el-GR" sz="3200" spc="-1" strike="noStrike">
                <a:solidFill>
                  <a:srgbClr val="00ffff"/>
                </a:solidFill>
                <a:latin typeface="Cambria"/>
              </a:rPr>
              <a:t>π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Negative from </a:t>
            </a:r>
            <a:r>
              <a:rPr b="0" lang="el-GR" sz="3200" spc="-1" strike="noStrike">
                <a:solidFill>
                  <a:srgbClr val="ffccff"/>
                </a:solidFill>
                <a:latin typeface="Cambria"/>
              </a:rPr>
              <a:t>π</a:t>
            </a: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 to 2</a:t>
            </a:r>
            <a:r>
              <a:rPr b="0" lang="el-GR" sz="3200" spc="-1" strike="noStrike">
                <a:solidFill>
                  <a:srgbClr val="ffccff"/>
                </a:solidFill>
                <a:latin typeface="Cambria"/>
              </a:rPr>
              <a:t>π</a:t>
            </a: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 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Period of the function: how long it takes until the function begins to repeat the pattern. 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98" name="TextBox 3"/>
          <p:cNvSpPr/>
          <p:nvPr/>
        </p:nvSpPr>
        <p:spPr>
          <a:xfrm>
            <a:off x="4534200" y="2133720"/>
            <a:ext cx="181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Rockwell"/>
              </a:rPr>
              <a:t>-</a:t>
            </a:r>
            <a:r>
              <a:rPr b="1" lang="el-GR" sz="3200" spc="-1" strike="noStrike">
                <a:solidFill>
                  <a:srgbClr val="00ffff"/>
                </a:solidFill>
                <a:latin typeface="Cambria"/>
              </a:rPr>
              <a:t> π</a:t>
            </a:r>
            <a:r>
              <a:rPr b="1" lang="en-US" sz="3200" spc="-1" strike="noStrike">
                <a:solidFill>
                  <a:srgbClr val="00ffff"/>
                </a:solidFill>
                <a:latin typeface="Rockwell"/>
              </a:rPr>
              <a:t> to 2</a:t>
            </a:r>
            <a:r>
              <a:rPr b="1" lang="el-GR" sz="3200" spc="-1" strike="noStrike">
                <a:solidFill>
                  <a:srgbClr val="00ffff"/>
                </a:solidFill>
                <a:latin typeface="Cambria"/>
              </a:rPr>
              <a:t>π</a:t>
            </a: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399" name="TextBox 4"/>
          <p:cNvSpPr/>
          <p:nvPr/>
        </p:nvSpPr>
        <p:spPr>
          <a:xfrm>
            <a:off x="4997520" y="2743200"/>
            <a:ext cx="154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Rockwell"/>
              </a:rPr>
              <a:t>0 to -</a:t>
            </a:r>
            <a:r>
              <a:rPr b="1" lang="el-GR" sz="3200" spc="-1" strike="noStrike">
                <a:solidFill>
                  <a:srgbClr val="ffccff"/>
                </a:solidFill>
                <a:latin typeface="Cambria"/>
              </a:rPr>
              <a:t> π</a:t>
            </a: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"/>
          <p:cNvPicPr/>
          <p:nvPr/>
        </p:nvPicPr>
        <p:blipFill>
          <a:blip r:embed="rId2"/>
          <a:stretch/>
        </p:blipFill>
        <p:spPr>
          <a:xfrm>
            <a:off x="228600" y="2971800"/>
            <a:ext cx="8458200" cy="36957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Period: 2</a:t>
            </a:r>
            <a:r>
              <a:rPr b="0" lang="el-GR" sz="3200" spc="-1" strike="noStrike">
                <a:solidFill>
                  <a:srgbClr val="ffccff"/>
                </a:solidFill>
                <a:latin typeface="Cambria"/>
              </a:rPr>
              <a:t>π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Period : 2</a:t>
            </a:r>
            <a:r>
              <a:rPr b="0" lang="el-GR" sz="3200" spc="-1" strike="noStrike">
                <a:solidFill>
                  <a:srgbClr val="ffccff"/>
                </a:solidFill>
                <a:latin typeface="Cambria"/>
              </a:rPr>
              <a:t>π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2"/>
          <a:stretch/>
        </p:blipFill>
        <p:spPr>
          <a:xfrm>
            <a:off x="304920" y="2743200"/>
            <a:ext cx="85341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Period: </a:t>
            </a:r>
            <a:r>
              <a:rPr b="0" lang="el-GR" sz="3200" spc="-1" strike="noStrike">
                <a:solidFill>
                  <a:srgbClr val="ffccff"/>
                </a:solidFill>
                <a:latin typeface="Cambria"/>
              </a:rPr>
              <a:t>π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2"/>
          <a:stretch/>
        </p:blipFill>
        <p:spPr>
          <a:xfrm>
            <a:off x="228600" y="2438280"/>
            <a:ext cx="8610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444600" y="249120"/>
            <a:ext cx="849780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"/>
          <p:cNvPicPr/>
          <p:nvPr/>
        </p:nvPicPr>
        <p:blipFill>
          <a:blip r:embed="rId3"/>
          <a:srcRect l="29377" t="39004" r="16252" b="23003"/>
          <a:stretch/>
        </p:blipFill>
        <p:spPr>
          <a:xfrm>
            <a:off x="0" y="1828800"/>
            <a:ext cx="9072720" cy="39625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"/>
          <p:cNvPicPr/>
          <p:nvPr/>
        </p:nvPicPr>
        <p:blipFill>
          <a:blip r:embed="rId4"/>
          <a:srcRect l="57501" t="21000" r="18124" b="62002"/>
          <a:stretch/>
        </p:blipFill>
        <p:spPr>
          <a:xfrm>
            <a:off x="0" y="1828800"/>
            <a:ext cx="9090000" cy="3962520"/>
          </a:xfrm>
          <a:prstGeom prst="rect">
            <a:avLst/>
          </a:prstGeom>
          <a:ln w="0">
            <a:noFill/>
          </a:ln>
        </p:spPr>
      </p:pic>
      <p:sp>
        <p:nvSpPr>
          <p:cNvPr id="413" name="TextBox 6"/>
          <p:cNvSpPr/>
          <p:nvPr/>
        </p:nvSpPr>
        <p:spPr>
          <a:xfrm>
            <a:off x="3809880" y="3962520"/>
            <a:ext cx="22860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e500e5"/>
                </a:solidFill>
                <a:latin typeface="Arial"/>
              </a:rPr>
              <a:t>π</a:t>
            </a:r>
            <a:r>
              <a:rPr b="1" lang="en-US" sz="2000" spc="-1" strike="noStrike">
                <a:solidFill>
                  <a:srgbClr val="e500e5"/>
                </a:solidFill>
                <a:latin typeface="Arial"/>
              </a:rPr>
              <a:t>/2 * k for </a:t>
            </a:r>
            <a:endParaRPr b="0" lang="en-US" sz="2000" spc="-1" strike="noStrike">
              <a:solidFill>
                <a:srgbClr val="ff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00e5"/>
                </a:solidFill>
                <a:latin typeface="Arial"/>
              </a:rPr>
              <a:t>all odd integers k</a:t>
            </a:r>
            <a:endParaRPr b="0" lang="en-US" sz="2000" spc="-1" strike="noStrike">
              <a:solidFill>
                <a:srgbClr val="ff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Give equations for the four asymptotes of the tangent function closest to the y – axis.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l-GR" sz="3200" spc="-1" strike="noStrike">
                <a:solidFill>
                  <a:srgbClr val="00ffff"/>
                </a:solidFill>
                <a:latin typeface="Cambria"/>
              </a:rPr>
              <a:t>π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/2, -</a:t>
            </a:r>
            <a:r>
              <a:rPr b="0" lang="el-GR" sz="3200" spc="-1" strike="noStrike">
                <a:solidFill>
                  <a:srgbClr val="00ffff"/>
                </a:solidFill>
                <a:latin typeface="Cambria"/>
              </a:rPr>
              <a:t>π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/2, 3</a:t>
            </a:r>
            <a:r>
              <a:rPr b="0" lang="el-GR" sz="3200" spc="-1" strike="noStrike">
                <a:solidFill>
                  <a:srgbClr val="00ffff"/>
                </a:solidFill>
                <a:latin typeface="Cambria"/>
              </a:rPr>
              <a:t>π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/2, -3</a:t>
            </a:r>
            <a:r>
              <a:rPr b="0" lang="el-GR" sz="3200" spc="-1" strike="noStrike">
                <a:solidFill>
                  <a:srgbClr val="00ffff"/>
                </a:solidFill>
                <a:latin typeface="Cambria"/>
              </a:rPr>
              <a:t>π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/2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Given tan 50˚ ≈ 1.192, find three other values of x with tan x ≈ 1.192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Since tan repeats every 180˚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x = 230˚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x = 410˚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x = -130˚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ff"/>
                </a:solidFill>
                <a:latin typeface="Rockwell"/>
              </a:rPr>
              <a:t>Page 269 – 270</a:t>
            </a:r>
            <a:endParaRPr b="0" lang="en-US" sz="80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ff"/>
                </a:solidFill>
                <a:latin typeface="Rockwell"/>
              </a:rPr>
              <a:t>1 – 16</a:t>
            </a:r>
            <a:endParaRPr b="0" lang="en-US" sz="80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ff"/>
                </a:solidFill>
                <a:latin typeface="Rockwell"/>
              </a:rPr>
              <a:t>Skip 3 and 7b.</a:t>
            </a:r>
            <a:endParaRPr b="0" lang="en-US" sz="8000" spc="-1" strike="noStrike">
              <a:solidFill>
                <a:srgbClr val="ffcc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22:01:42Z</dcterms:created>
  <dc:creator>teacher</dc:creator>
  <dc:description/>
  <dc:language>en-US</dc:language>
  <cp:lastModifiedBy>Laura Helbing</cp:lastModifiedBy>
  <dcterms:modified xsi:type="dcterms:W3CDTF">2012-11-19T15:00:22Z</dcterms:modified>
  <cp:revision>4</cp:revision>
  <dc:subject/>
  <dc:title>Sine, Cosine, and Tangent Functions</dc:title>
</cp:coreProperties>
</file>