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26910-38D5-4648-B193-A250C1BF5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8F6B0-D86D-4181-B162-5174C7D54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F181F2C-E99F-4612-BB3C-685E5E272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D42991F-2310-454F-BFDC-898F8CEDA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6034BCA-FFEC-4AD2-9726-FB59BBB2A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80C3EC3-3FC2-4B22-BC71-228155B6C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5B56CF8-3A9C-469D-9A14-9D4F28F2E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AD612A2-EC45-4EEA-ABD8-EEBF23403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939E487-2AB8-43B2-A7D7-43726AF4F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A6DDFE4-9152-4DDF-8374-79C357E09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7199695-B28A-4A1F-83C6-86A714D8E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799D2-068A-437A-875F-33EA72240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C46B2-DEF9-482C-BDA2-3C6BEB357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9A6C63-59C2-4A1B-8007-03007C4AE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2DB352-93D6-4B0A-BBF4-D35B9B7B5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C3D9D9-3696-424B-8831-12561E23A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7E6209-C030-4845-894A-317B3DDAB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A1C1BA-B97D-4F8E-8754-E0696BBAC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BF128F-2CDC-4AE7-846C-34DD44431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958B33-CC3C-4100-AE78-9D454514B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113BB-B3B0-44A6-84ED-581B4E493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3DD4AD-6853-47CD-847A-853CFFC69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9B4943-5846-4909-B894-AC78F6145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88D440-983C-404C-87A5-958A3E281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46FC32-EEC2-44D7-A85D-5FC0F5FFE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60570B-BC23-4D2F-B634-DCAD635AA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71BE3C-677F-47D0-B2C2-D88F81E47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B6F423-99FE-408F-B519-8B602BE39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6B2F50-0CBD-49D9-AAD9-60D9775FD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E78781-E162-4EEB-8685-0E5B86A1A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F282DB-CCCB-4137-A012-40543FFC7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B3031-9C83-42AD-B10A-51E00B830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7B9487-50A7-49ED-9DB9-0CA397888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5CF309-9FC6-4815-91F4-347D39882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53C038-C54C-4C53-80AF-9F5ACDD95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AA2D9C-C693-4E9F-9BA6-9FE16FBF3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9D2DBB-34E4-4080-AAE9-AA966A5C6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06F10A-F0FE-468F-828D-D0D32901A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C23033-26BC-42EA-9655-B2AC39095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1233221-7ADB-4AAE-891B-2B5D8108C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32758C0-7ECD-4E93-BC2C-D5B6FA580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72F327B-FCCA-49D6-8C21-AEB191005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0012F-DA30-471A-BE28-1D3324E0E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03283F2-9612-411E-9257-FDD8B88C0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3C13E2F-1950-4CD4-865C-C1B01AFFE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FED8467-ECA6-4618-A97D-17DA788FE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F4CB325-D317-4943-8DD0-5C65FDBCE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41D4C93-B9E2-495A-834F-9F618EEFA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3FA0014-91F4-438A-91F3-C6AE668DA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32C9259-1CAB-49EF-B808-00E44CBB1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7E25661-45D3-44D4-9A00-3B5D90D09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4140001-9A5B-4906-BA35-A8BA95AF3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673A08-B786-4123-A03C-132773FD2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7E3FD-CAED-449A-B52D-22C381FDA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8B04CF-981E-480E-9E9E-478C0CCCD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B4E58A-5D89-4D8D-B28B-17414C099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C26FF7-0C3D-4AB4-BDE7-74E26CD8A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801DC7-61A5-4983-8E19-3CCDC371E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C1E05B-F703-4F58-ADED-3BBF6A16C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131757-768D-473A-8ED5-94E629BDC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1FF7E8-9E96-416F-B73C-F5A7AB3EE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B22F89-CA04-4791-99B6-3297FF445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D45DDF-FCB4-452B-BD17-DCA3E5E88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6444EF-A48D-45EC-9E66-AFA8CACB0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D8EAF-2354-4783-8604-3777CF8E4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4FA6CA-4810-40A1-B048-827998869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691E44-CE07-4851-88C0-03A0E21B2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3C9126-6AA6-4DA6-A5FD-6E87B6957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DD329C-436D-4313-9DE1-03E3AE09A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09821C-1359-4987-9248-F55A33FFB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7654C4-55DD-4EA4-8626-496240448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DAD4F3-857D-4F1E-911C-FD00ADD0F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08480D-87FB-44DC-B7AA-13AD13717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EDD4C6-3C7E-4107-A482-6413E02C9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80321A-1E61-45AA-8535-A32B8F059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70A5E-27A5-4254-90FB-7C6150EF5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C37CB0-2ED8-40A7-B1BE-128225BC5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7E1880-2F50-4AED-B116-23F7BEA15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8C86BA-4F5D-4FC4-A96C-ACCBEA51C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CC2CED-DA5B-4289-A063-B8192F9F9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E534F8-70DA-419F-8065-16A5C673E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E94E42-9A08-45AC-BF82-EF2B86ECA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6133F9-7EBF-4CC8-AA0A-656E22DBF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B52FB1-9464-4FDC-912C-D2CFCB87C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144423-E2E1-47F1-8C58-CD98E4B73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47FCAA-4B21-43BF-9B0B-00BDD1CAC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A5783-7F81-47D4-AA85-C28E636F5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108676-3F72-4D88-BDCC-CCCD7C512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CB12DE-9665-42B9-8AEE-6FB0B105E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16AD67-8E85-48FE-AB65-2A59A5D77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15BC8B-9866-4781-9582-48132069A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FD0030-DE1E-4E14-A58F-09C6256D4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CABC9BA-DC76-4F4C-AF0F-BD3390581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7D62D47-196E-425F-AD85-FEB2855FF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EB772C8-16E8-4BFF-93B3-3A57B7D9C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2D07A55-B844-49D1-BCE3-A3913C7A7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7F02C22-C6CC-463B-9455-51422713A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1C8A1-1EC0-468A-8090-7402FCE52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2BE6E17-1DB6-4193-9A5E-F74AD9225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BCF9DAA-AF88-4798-BB3A-1EB342518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3716516-80CE-45BB-B9F5-457BA61B7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A96974B-4BD1-4055-B719-B8A92DFE7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AE5A3BE-8470-440B-8D24-A8AD9D6B6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A416C87-1AA8-4454-9FA6-C7ACB0657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4E398F4-4B48-4229-BE8C-7CDCA743A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C84DF68-01EF-4341-BA92-B10B50240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B3D3A04-0B07-4183-9665-B2766EE5A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3150BFE-6E6C-4799-9AC8-BED83C7CC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aa4d6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aa4d6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3c3f3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FAC39-7BD9-4BCC-BDE4-8D7EAA228618}" type="slidenum">
              <a:rPr b="0" lang="en-US" sz="1600" spc="-1" strike="noStrike">
                <a:solidFill>
                  <a:srgbClr val="f3c3f3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9eff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00b0f0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  <a:p>
            <a:pPr lvl="1" marL="639720" indent="-228600">
              <a:buClr>
                <a:srgbClr val="00ffff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  <a:p>
            <a:pPr lvl="2" marL="822240" indent="-190440">
              <a:buClr>
                <a:srgbClr val="0033c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  <a:p>
            <a:pPr lvl="3" marL="1004760" indent="-182520">
              <a:buClr>
                <a:srgbClr val="0033c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  <a:p>
            <a:pPr lvl="4" marL="1187280" indent="-182520">
              <a:buClr>
                <a:srgbClr val="0033c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  <a:p>
            <a:pPr lvl="5" marL="1187280" indent="-182520">
              <a:buClr>
                <a:srgbClr val="ffcc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  <a:p>
            <a:pPr lvl="6" marL="1187280" indent="-182520">
              <a:buClr>
                <a:srgbClr val="ffcc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ound Diagonal Corner Rectangle 7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45" name="Round Diagonal Corner Rectangle 7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9eff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00b0f0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  <a:p>
            <a:pPr lvl="1" marL="639720" indent="-228600">
              <a:buClr>
                <a:srgbClr val="00ffff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  <a:p>
            <a:pPr lvl="2" marL="822240" indent="-190440">
              <a:buClr>
                <a:srgbClr val="0033c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  <a:p>
            <a:pPr lvl="3" marL="1004760" indent="-182520">
              <a:buClr>
                <a:srgbClr val="0033c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  <a:p>
            <a:pPr lvl="4" marL="1187280" indent="-182520">
              <a:buClr>
                <a:srgbClr val="0033c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  <a:p>
            <a:pPr lvl="5" marL="1187280" indent="-182520">
              <a:buClr>
                <a:srgbClr val="ffcc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  <a:p>
            <a:pPr lvl="6" marL="1187280" indent="-182520">
              <a:buClr>
                <a:srgbClr val="ffcc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aa4d6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aa4d6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3c3f3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85798-35E4-4626-AA8E-7B7B7AD27697}" type="slidenum">
              <a:rPr b="0" lang="en-US" sz="1600" spc="-1" strike="noStrike">
                <a:solidFill>
                  <a:srgbClr val="f3c3f3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89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ff"/>
                </a:solidFill>
                <a:latin typeface="Arial"/>
              </a:endParaRPr>
            </a:p>
          </p:txBody>
        </p:sp>
      </p:grpSp>
      <p:sp>
        <p:nvSpPr>
          <p:cNvPr id="91" name="Rectangle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00b0f0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9eff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00b0f0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  <a:p>
            <a:pPr lvl="1" marL="639720" indent="-228600">
              <a:buClr>
                <a:srgbClr val="00ffff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  <a:p>
            <a:pPr lvl="2" marL="822240" indent="-190440">
              <a:buClr>
                <a:srgbClr val="0033c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  <a:p>
            <a:pPr lvl="3" marL="1004760" indent="-182520">
              <a:buClr>
                <a:srgbClr val="0033c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  <a:p>
            <a:pPr lvl="4" marL="1187280" indent="-182520">
              <a:buClr>
                <a:srgbClr val="0033c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  <a:p>
            <a:pPr lvl="5" marL="1187280" indent="-182520">
              <a:buClr>
                <a:srgbClr val="ffcc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  <a:p>
            <a:pPr lvl="6" marL="1187280" indent="-182520">
              <a:buClr>
                <a:srgbClr val="ffcc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aa4d6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aa4d6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3c3f3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CDEAA-26FB-4B42-9ABB-D81A098FC262}" type="slidenum">
              <a:rPr b="0" lang="en-US" sz="1600" spc="-1" strike="noStrike">
                <a:solidFill>
                  <a:srgbClr val="f3c3f3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00b0f0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ff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9eff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00b0f0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  <a:p>
            <a:pPr lvl="1" marL="639720" indent="-228600">
              <a:buClr>
                <a:srgbClr val="00ffff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  <a:p>
            <a:pPr lvl="2" marL="822240" indent="-190440">
              <a:buClr>
                <a:srgbClr val="0033c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  <a:p>
            <a:pPr lvl="3" marL="1004760" indent="-182520">
              <a:buClr>
                <a:srgbClr val="0033c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  <a:p>
            <a:pPr lvl="4" marL="1187280" indent="-182520">
              <a:buClr>
                <a:srgbClr val="0033c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  <a:p>
            <a:pPr lvl="5" marL="1187280" indent="-182520">
              <a:buClr>
                <a:srgbClr val="ffcc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  <a:p>
            <a:pPr lvl="6" marL="1187280" indent="-182520">
              <a:buClr>
                <a:srgbClr val="ffcc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aa4d6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aa4d6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3c3f3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A6DB2-6A6A-4735-9C0F-1E6D8D5274B4}" type="slidenum">
              <a:rPr b="0" lang="en-US" sz="1600" spc="-1" strike="noStrike">
                <a:solidFill>
                  <a:srgbClr val="f3c3f3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76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ff"/>
                </a:solidFill>
                <a:latin typeface="Arial"/>
              </a:endParaRPr>
            </a:p>
          </p:txBody>
        </p:sp>
      </p:grpSp>
      <p:sp>
        <p:nvSpPr>
          <p:cNvPr id="178" name="Rectangle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00b0f0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9eff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00b0f0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  <a:p>
            <a:pPr lvl="1" marL="639720" indent="-228600">
              <a:buClr>
                <a:srgbClr val="00ffff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  <a:p>
            <a:pPr lvl="2" marL="822240" indent="-190440">
              <a:buClr>
                <a:srgbClr val="0033c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  <a:p>
            <a:pPr lvl="3" marL="1004760" indent="-182520">
              <a:buClr>
                <a:srgbClr val="0033c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  <a:p>
            <a:pPr lvl="4" marL="1187280" indent="-182520">
              <a:buClr>
                <a:srgbClr val="0033c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  <a:p>
            <a:pPr lvl="5" marL="1187280" indent="-182520">
              <a:buClr>
                <a:srgbClr val="ffcc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  <a:p>
            <a:pPr lvl="6" marL="1187280" indent="-182520">
              <a:buClr>
                <a:srgbClr val="ffcc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aa4d6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aa4d6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ff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3c3f3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DB987-B266-4BE4-BD63-B2366410D412}" type="slidenum">
              <a:rPr b="0" lang="en-US" sz="1600" spc="-1" strike="noStrike">
                <a:solidFill>
                  <a:srgbClr val="f3c3f3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21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ff"/>
                </a:solidFill>
                <a:latin typeface="Arial"/>
              </a:endParaRPr>
            </a:p>
          </p:txBody>
        </p:sp>
      </p:grpSp>
      <p:sp>
        <p:nvSpPr>
          <p:cNvPr id="223" name="Rectangle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00b0f0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ff"/>
              </a:solidFill>
              <a:latin typeface="Arial"/>
            </a:endParaRPr>
          </a:p>
        </p:txBody>
      </p:sp>
      <p:sp>
        <p:nvSpPr>
          <p:cNvPr id="224" name="Rectangle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00b0f0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ff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9eff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00b0f0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  <a:p>
            <a:pPr lvl="1" marL="639720" indent="-228600">
              <a:buClr>
                <a:srgbClr val="00ffff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  <a:p>
            <a:pPr lvl="2" marL="822240" indent="-190440">
              <a:buClr>
                <a:srgbClr val="0033c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  <a:p>
            <a:pPr lvl="3" marL="1004760" indent="-182520">
              <a:buClr>
                <a:srgbClr val="0033c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  <a:p>
            <a:pPr lvl="4" marL="1187280" indent="-182520">
              <a:buClr>
                <a:srgbClr val="0033c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  <a:p>
            <a:pPr lvl="5" marL="1187280" indent="-182520">
              <a:buClr>
                <a:srgbClr val="ffcc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  <a:p>
            <a:pPr lvl="6" marL="1187280" indent="-182520">
              <a:buClr>
                <a:srgbClr val="ffcc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aa4d6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aa4d6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ff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3c3f3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24029-2521-4E7B-8F63-90CCE0FAD92F}" type="slidenum">
              <a:rPr b="0" lang="en-US" sz="1600" spc="-1" strike="noStrike">
                <a:solidFill>
                  <a:srgbClr val="f3c3f3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67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ff"/>
                </a:solidFill>
                <a:latin typeface="Arial"/>
              </a:endParaRPr>
            </a:p>
          </p:txBody>
        </p:sp>
      </p:grpSp>
      <p:sp>
        <p:nvSpPr>
          <p:cNvPr id="269" name="Rectangle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00b0f0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ff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9eff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00b0f0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  <a:p>
            <a:pPr lvl="1" marL="639720" indent="-228600">
              <a:buClr>
                <a:srgbClr val="00ffff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  <a:p>
            <a:pPr lvl="2" marL="822240" indent="-190440">
              <a:buClr>
                <a:srgbClr val="0033c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  <a:p>
            <a:pPr lvl="3" marL="1004760" indent="-182520">
              <a:buClr>
                <a:srgbClr val="0033c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  <a:p>
            <a:pPr lvl="4" marL="1187280" indent="-182520">
              <a:buClr>
                <a:srgbClr val="0033c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  <a:p>
            <a:pPr lvl="5" marL="1187280" indent="-182520">
              <a:buClr>
                <a:srgbClr val="ffcc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  <a:p>
            <a:pPr lvl="6" marL="1187280" indent="-182520">
              <a:buClr>
                <a:srgbClr val="ffcc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aa4d6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aa4d6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ff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3c3f3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5E4AA-C042-4CA4-BA84-74CBD225EB12}" type="slidenum">
              <a:rPr b="0" lang="en-US" sz="1600" spc="-1" strike="noStrike">
                <a:solidFill>
                  <a:srgbClr val="f3c3f3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00b0f0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ff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9eff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00b0f0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  <a:p>
            <a:pPr lvl="1" marL="639720" indent="-228600">
              <a:buClr>
                <a:srgbClr val="00ffff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  <a:p>
            <a:pPr lvl="2" marL="822240" indent="-190440">
              <a:buClr>
                <a:srgbClr val="0033c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  <a:p>
            <a:pPr lvl="3" marL="1004760" indent="-182520">
              <a:buClr>
                <a:srgbClr val="0033c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  <a:p>
            <a:pPr lvl="4" marL="1187280" indent="-182520">
              <a:buClr>
                <a:srgbClr val="0033c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  <a:p>
            <a:pPr lvl="5" marL="1187280" indent="-182520">
              <a:buClr>
                <a:srgbClr val="ffcc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  <a:p>
            <a:pPr lvl="6" marL="1187280" indent="-182520">
              <a:buClr>
                <a:srgbClr val="ffcc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aa4d6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aa4d6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3c3f3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CB04B-6389-4569-8D3A-EE43D1FA4866}" type="slidenum">
              <a:rPr b="0" lang="en-US" sz="1600" spc="-1" strike="noStrike">
                <a:solidFill>
                  <a:srgbClr val="f3c3f3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9eff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00b0f0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  <a:p>
            <a:pPr lvl="1" marL="639720" indent="-228600">
              <a:buClr>
                <a:srgbClr val="00ffff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  <a:p>
            <a:pPr lvl="2" marL="822240" indent="-190440">
              <a:buClr>
                <a:srgbClr val="0033c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  <a:p>
            <a:pPr lvl="3" marL="1004760" indent="-182520">
              <a:buClr>
                <a:srgbClr val="0033c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  <a:p>
            <a:pPr lvl="4" marL="1187280" indent="-182520">
              <a:buClr>
                <a:srgbClr val="0033c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  <a:p>
            <a:pPr lvl="5" marL="1187280" indent="-182520">
              <a:buClr>
                <a:srgbClr val="ffcc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  <a:p>
            <a:pPr lvl="6" marL="1187280" indent="-182520">
              <a:buClr>
                <a:srgbClr val="ffcc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aa4d6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aa4d6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3c3f3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F7B95-8EC8-4833-8BBA-235D58780616}" type="slidenum">
              <a:rPr b="0" lang="en-US" sz="1600" spc="-1" strike="noStrike">
                <a:solidFill>
                  <a:srgbClr val="f3c3f3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Title 1" descr=""/>
          <p:cNvPicPr/>
          <p:nvPr/>
        </p:nvPicPr>
        <p:blipFill>
          <a:blip r:embed="rId1"/>
          <a:stretch/>
        </p:blipFill>
        <p:spPr>
          <a:xfrm>
            <a:off x="457200" y="378000"/>
            <a:ext cx="8577360" cy="2232000"/>
          </a:xfrm>
          <a:prstGeom prst="rect">
            <a:avLst/>
          </a:prstGeom>
          <a:ln w="0">
            <a:noFill/>
          </a:ln>
        </p:spPr>
      </p:pic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2133360" y="2819520"/>
            <a:ext cx="6559560" cy="1752480"/>
          </a:xfrm>
          <a:prstGeom prst="rect">
            <a:avLst/>
          </a:prstGeom>
          <a:noFill/>
          <a:ln w="0">
            <a:noFill/>
          </a:ln>
        </p:spPr>
        <p:txBody>
          <a:bodyPr lIns="45720" rIns="2469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Rockwell"/>
              </a:rPr>
              <a:t>Section 4.6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21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00b0f0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Rockwell"/>
              </a:rPr>
              <a:t>The graph of the cosine function is a translation image of the graph of the sine function.  Give an equation for the translation.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  <a:p>
            <a:pPr marL="291960" indent="-291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Rockwell"/>
              </a:rPr>
              <a:t>T(x,y) </a:t>
            </a:r>
            <a:r>
              <a:rPr b="0" lang="en-US" sz="3200" spc="-1" strike="noStrike">
                <a:solidFill>
                  <a:srgbClr val="00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ffff"/>
                </a:solidFill>
                <a:latin typeface="Rockwell"/>
              </a:rPr>
              <a:t> (x – </a:t>
            </a:r>
            <a:r>
              <a:rPr b="0" lang="el-GR" sz="3200" spc="-1" strike="noStrike">
                <a:solidFill>
                  <a:srgbClr val="00ffff"/>
                </a:solidFill>
                <a:latin typeface="Cambria"/>
              </a:rPr>
              <a:t>π</a:t>
            </a:r>
            <a:r>
              <a:rPr b="0" lang="en-US" sz="3200" spc="-1" strike="noStrike">
                <a:solidFill>
                  <a:srgbClr val="00ffff"/>
                </a:solidFill>
                <a:latin typeface="Rockwell"/>
              </a:rPr>
              <a:t>/2,y)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  <a:p>
            <a:pPr marL="291960" indent="-291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  <a:p>
            <a:pPr marL="291960" indent="-291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Rockwell"/>
              </a:rPr>
              <a:t>So, y = sin x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  <a:p>
            <a:pPr marL="291960" indent="-291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Rockwell"/>
              </a:rPr>
              <a:t>y = sin (x +</a:t>
            </a:r>
            <a:r>
              <a:rPr b="0" lang="el-GR" sz="3200" spc="-1" strike="noStrike">
                <a:solidFill>
                  <a:srgbClr val="00ffff"/>
                </a:solidFill>
                <a:latin typeface="Cambria"/>
              </a:rPr>
              <a:t>π</a:t>
            </a:r>
            <a:r>
              <a:rPr b="0" lang="en-US" sz="3200" spc="-1" strike="noStrike">
                <a:solidFill>
                  <a:srgbClr val="00ffff"/>
                </a:solidFill>
                <a:latin typeface="Rockwell"/>
              </a:rPr>
              <a:t>/2) 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9" dur="2000"/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4" dur="2000"/>
                                        <p:tgtEl>
                                          <p:spTgt spid="4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9" dur="2000"/>
                                        <p:tgtEl>
                                          <p:spTgt spid="4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397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00b0f0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Rockwell"/>
              </a:rPr>
              <a:t>Y – coordinate of the image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  <a:p>
            <a:pPr marL="291960" indent="-291960">
              <a:buClr>
                <a:srgbClr val="00b0f0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Rockwell"/>
              </a:rPr>
              <a:t>Positive from 0 to </a:t>
            </a:r>
            <a:r>
              <a:rPr b="0" lang="el-GR" sz="3200" spc="-1" strike="noStrike">
                <a:solidFill>
                  <a:srgbClr val="00ffff"/>
                </a:solidFill>
                <a:latin typeface="Cambria"/>
              </a:rPr>
              <a:t>π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  <a:p>
            <a:pPr marL="291960" indent="-291960">
              <a:buClr>
                <a:srgbClr val="00b0f0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Rockwell"/>
              </a:rPr>
              <a:t>Negative from </a:t>
            </a:r>
            <a:r>
              <a:rPr b="0" lang="el-GR" sz="3200" spc="-1" strike="noStrike">
                <a:solidFill>
                  <a:srgbClr val="ffccff"/>
                </a:solidFill>
                <a:latin typeface="Cambria"/>
              </a:rPr>
              <a:t>π</a:t>
            </a:r>
            <a:r>
              <a:rPr b="0" lang="en-US" sz="3200" spc="-1" strike="noStrike">
                <a:solidFill>
                  <a:srgbClr val="ffccff"/>
                </a:solidFill>
                <a:latin typeface="Rockwell"/>
              </a:rPr>
              <a:t> to 2</a:t>
            </a:r>
            <a:r>
              <a:rPr b="0" lang="el-GR" sz="3200" spc="-1" strike="noStrike">
                <a:solidFill>
                  <a:srgbClr val="ffccff"/>
                </a:solidFill>
                <a:latin typeface="Cambria"/>
              </a:rPr>
              <a:t>π</a:t>
            </a:r>
            <a:r>
              <a:rPr b="0" lang="en-US" sz="3200" spc="-1" strike="noStrike">
                <a:solidFill>
                  <a:srgbClr val="ffccff"/>
                </a:solidFill>
                <a:latin typeface="Rockwell"/>
              </a:rPr>
              <a:t> 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Rockwell"/>
              </a:rPr>
              <a:t>Period of the function: how long it takes until the function begins to repeat the pattern. 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398" name="TextBox 3"/>
          <p:cNvSpPr/>
          <p:nvPr/>
        </p:nvSpPr>
        <p:spPr>
          <a:xfrm>
            <a:off x="4534200" y="2133720"/>
            <a:ext cx="181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Rockwell"/>
              </a:rPr>
              <a:t>-</a:t>
            </a:r>
            <a:r>
              <a:rPr b="1" lang="el-GR" sz="3200" spc="-1" strike="noStrike">
                <a:solidFill>
                  <a:srgbClr val="00ffff"/>
                </a:solidFill>
                <a:latin typeface="Cambria"/>
              </a:rPr>
              <a:t> π</a:t>
            </a:r>
            <a:r>
              <a:rPr b="1" lang="en-US" sz="3200" spc="-1" strike="noStrike">
                <a:solidFill>
                  <a:srgbClr val="00ffff"/>
                </a:solidFill>
                <a:latin typeface="Rockwell"/>
              </a:rPr>
              <a:t> to 2</a:t>
            </a:r>
            <a:r>
              <a:rPr b="1" lang="el-GR" sz="3200" spc="-1" strike="noStrike">
                <a:solidFill>
                  <a:srgbClr val="00ffff"/>
                </a:solidFill>
                <a:latin typeface="Cambria"/>
              </a:rPr>
              <a:t>π</a:t>
            </a:r>
            <a:endParaRPr b="0" lang="en-US" sz="3200" spc="-1" strike="noStrike">
              <a:solidFill>
                <a:srgbClr val="ffccff"/>
              </a:solidFill>
              <a:latin typeface="Arial"/>
            </a:endParaRPr>
          </a:p>
        </p:txBody>
      </p:sp>
      <p:sp>
        <p:nvSpPr>
          <p:cNvPr id="399" name="TextBox 4"/>
          <p:cNvSpPr/>
          <p:nvPr/>
        </p:nvSpPr>
        <p:spPr>
          <a:xfrm>
            <a:off x="4997520" y="2743200"/>
            <a:ext cx="154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ff"/>
                </a:solidFill>
                <a:latin typeface="Rockwell"/>
              </a:rPr>
              <a:t>0 to -</a:t>
            </a:r>
            <a:r>
              <a:rPr b="1" lang="el-GR" sz="3200" spc="-1" strike="noStrike">
                <a:solidFill>
                  <a:srgbClr val="ffccff"/>
                </a:solidFill>
                <a:latin typeface="Cambria"/>
              </a:rPr>
              <a:t> π</a:t>
            </a:r>
            <a:endParaRPr b="0" lang="en-US" sz="3200" spc="-1" strike="noStrike">
              <a:solidFill>
                <a:srgbClr val="ffc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" dur="2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2" descr=""/>
          <p:cNvPicPr/>
          <p:nvPr/>
        </p:nvPicPr>
        <p:blipFill>
          <a:blip r:embed="rId2"/>
          <a:stretch/>
        </p:blipFill>
        <p:spPr>
          <a:xfrm>
            <a:off x="228600" y="2971800"/>
            <a:ext cx="8458200" cy="369576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00b0f0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Rockwell"/>
              </a:rPr>
              <a:t>Period: 2</a:t>
            </a:r>
            <a:r>
              <a:rPr b="0" lang="el-GR" sz="3200" spc="-1" strike="noStrike">
                <a:solidFill>
                  <a:srgbClr val="ffccff"/>
                </a:solidFill>
                <a:latin typeface="Cambria"/>
              </a:rPr>
              <a:t>π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4" dur="2000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00b0f0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Rockwell"/>
              </a:rPr>
              <a:t>Period : 2</a:t>
            </a:r>
            <a:r>
              <a:rPr b="0" lang="el-GR" sz="3200" spc="-1" strike="noStrike">
                <a:solidFill>
                  <a:srgbClr val="ffccff"/>
                </a:solidFill>
                <a:latin typeface="Cambria"/>
              </a:rPr>
              <a:t>π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pic>
        <p:nvPicPr>
          <p:cNvPr id="405" name="Picture 2" descr=""/>
          <p:cNvPicPr/>
          <p:nvPr/>
        </p:nvPicPr>
        <p:blipFill>
          <a:blip r:embed="rId2"/>
          <a:stretch/>
        </p:blipFill>
        <p:spPr>
          <a:xfrm>
            <a:off x="304920" y="2743200"/>
            <a:ext cx="853416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" dur="500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07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00b0f0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Rockwell"/>
              </a:rPr>
              <a:t>Period: </a:t>
            </a:r>
            <a:r>
              <a:rPr b="0" lang="el-GR" sz="3200" spc="-1" strike="noStrike">
                <a:solidFill>
                  <a:srgbClr val="ffccff"/>
                </a:solidFill>
                <a:latin typeface="Cambria"/>
              </a:rPr>
              <a:t>π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pic>
        <p:nvPicPr>
          <p:cNvPr id="408" name="Picture 2" descr=""/>
          <p:cNvPicPr/>
          <p:nvPr/>
        </p:nvPicPr>
        <p:blipFill>
          <a:blip r:embed="rId2"/>
          <a:stretch/>
        </p:blipFill>
        <p:spPr>
          <a:xfrm>
            <a:off x="228600" y="2438280"/>
            <a:ext cx="8610480" cy="42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" dur="500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Title 1" descr=""/>
          <p:cNvPicPr/>
          <p:nvPr/>
        </p:nvPicPr>
        <p:blipFill>
          <a:blip r:embed="rId1"/>
          <a:stretch/>
        </p:blipFill>
        <p:spPr>
          <a:xfrm>
            <a:off x="444600" y="249120"/>
            <a:ext cx="8497800" cy="1158840"/>
          </a:xfrm>
          <a:prstGeom prst="rect">
            <a:avLst/>
          </a:prstGeom>
          <a:ln w="0">
            <a:noFill/>
          </a:ln>
        </p:spPr>
      </p:pic>
      <p:pic>
        <p:nvPicPr>
          <p:cNvPr id="410" name="" descr=""/>
          <p:cNvPicPr/>
          <p:nvPr/>
        </p:nvPicPr>
        <p:blipFill>
          <a:blip r:embed="rId2"/>
          <a:stretch/>
        </p:blipFill>
        <p:spPr>
          <a:xfrm>
            <a:off x="457200" y="164628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2" descr=""/>
          <p:cNvPicPr/>
          <p:nvPr/>
        </p:nvPicPr>
        <p:blipFill>
          <a:blip r:embed="rId3"/>
          <a:srcRect l="29377" t="39004" r="16252" b="23003"/>
          <a:stretch/>
        </p:blipFill>
        <p:spPr>
          <a:xfrm>
            <a:off x="0" y="1828800"/>
            <a:ext cx="9072720" cy="396252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3" descr=""/>
          <p:cNvPicPr/>
          <p:nvPr/>
        </p:nvPicPr>
        <p:blipFill>
          <a:blip r:embed="rId4"/>
          <a:srcRect l="57501" t="21000" r="18124" b="62002"/>
          <a:stretch/>
        </p:blipFill>
        <p:spPr>
          <a:xfrm>
            <a:off x="0" y="1828800"/>
            <a:ext cx="9090000" cy="3962520"/>
          </a:xfrm>
          <a:prstGeom prst="rect">
            <a:avLst/>
          </a:prstGeom>
          <a:ln w="0">
            <a:noFill/>
          </a:ln>
        </p:spPr>
      </p:pic>
      <p:sp>
        <p:nvSpPr>
          <p:cNvPr id="413" name="TextBox 6"/>
          <p:cNvSpPr/>
          <p:nvPr/>
        </p:nvSpPr>
        <p:spPr>
          <a:xfrm>
            <a:off x="3809880" y="3962520"/>
            <a:ext cx="22860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e500e5"/>
                </a:solidFill>
                <a:latin typeface="Arial"/>
              </a:rPr>
              <a:t>π</a:t>
            </a:r>
            <a:r>
              <a:rPr b="1" lang="en-US" sz="2000" spc="-1" strike="noStrike">
                <a:solidFill>
                  <a:srgbClr val="e500e5"/>
                </a:solidFill>
                <a:latin typeface="Arial"/>
              </a:rPr>
              <a:t>/2 * k for </a:t>
            </a:r>
            <a:endParaRPr b="0" lang="en-US" sz="2000" spc="-1" strike="noStrike">
              <a:solidFill>
                <a:srgbClr val="ffcc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500e5"/>
                </a:solidFill>
                <a:latin typeface="Arial"/>
              </a:rPr>
              <a:t>all odd integers k</a:t>
            </a:r>
            <a:endParaRPr b="0" lang="en-US" sz="2000" spc="-1" strike="noStrike">
              <a:solidFill>
                <a:srgbClr val="ffc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" dur="500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" dur="500"/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15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00b0f0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Rockwell"/>
              </a:rPr>
              <a:t>Give equations for the four asymptotes of the tangent function closest to the y – axis.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  <a:p>
            <a:pPr marL="291960" indent="-291960">
              <a:buClr>
                <a:srgbClr val="00b0f0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Rockwell"/>
              </a:rPr>
              <a:t>	</a:t>
            </a:r>
            <a:r>
              <a:rPr b="0" lang="en-US" sz="3200" spc="-1" strike="noStrike">
                <a:solidFill>
                  <a:srgbClr val="00ffff"/>
                </a:solidFill>
                <a:latin typeface="Rockwell"/>
              </a:rPr>
              <a:t>	</a:t>
            </a:r>
            <a:r>
              <a:rPr b="0" lang="en-US" sz="3200" spc="-1" strike="noStrike">
                <a:solidFill>
                  <a:srgbClr val="00ffff"/>
                </a:solidFill>
                <a:latin typeface="Rockwell"/>
              </a:rPr>
              <a:t>	</a:t>
            </a:r>
            <a:r>
              <a:rPr b="0" lang="el-GR" sz="3200" spc="-1" strike="noStrike">
                <a:solidFill>
                  <a:srgbClr val="00ffff"/>
                </a:solidFill>
                <a:latin typeface="Cambria"/>
              </a:rPr>
              <a:t>π</a:t>
            </a:r>
            <a:r>
              <a:rPr b="0" lang="en-US" sz="3200" spc="-1" strike="noStrike">
                <a:solidFill>
                  <a:srgbClr val="00ffff"/>
                </a:solidFill>
                <a:latin typeface="Rockwell"/>
              </a:rPr>
              <a:t>/2, -</a:t>
            </a:r>
            <a:r>
              <a:rPr b="0" lang="el-GR" sz="3200" spc="-1" strike="noStrike">
                <a:solidFill>
                  <a:srgbClr val="00ffff"/>
                </a:solidFill>
                <a:latin typeface="Cambria"/>
              </a:rPr>
              <a:t>π</a:t>
            </a:r>
            <a:r>
              <a:rPr b="0" lang="en-US" sz="3200" spc="-1" strike="noStrike">
                <a:solidFill>
                  <a:srgbClr val="00ffff"/>
                </a:solidFill>
                <a:latin typeface="Rockwell"/>
              </a:rPr>
              <a:t>/2, 3</a:t>
            </a:r>
            <a:r>
              <a:rPr b="0" lang="el-GR" sz="3200" spc="-1" strike="noStrike">
                <a:solidFill>
                  <a:srgbClr val="00ffff"/>
                </a:solidFill>
                <a:latin typeface="Cambria"/>
              </a:rPr>
              <a:t>π</a:t>
            </a:r>
            <a:r>
              <a:rPr b="0" lang="en-US" sz="3200" spc="-1" strike="noStrike">
                <a:solidFill>
                  <a:srgbClr val="00ffff"/>
                </a:solidFill>
                <a:latin typeface="Rockwell"/>
              </a:rPr>
              <a:t>/2, -3</a:t>
            </a:r>
            <a:r>
              <a:rPr b="0" lang="el-GR" sz="3200" spc="-1" strike="noStrike">
                <a:solidFill>
                  <a:srgbClr val="00ffff"/>
                </a:solidFill>
                <a:latin typeface="Cambria"/>
              </a:rPr>
              <a:t>π</a:t>
            </a:r>
            <a:r>
              <a:rPr b="0" lang="en-US" sz="3200" spc="-1" strike="noStrike">
                <a:solidFill>
                  <a:srgbClr val="00ffff"/>
                </a:solidFill>
                <a:latin typeface="Rockwell"/>
              </a:rPr>
              <a:t>/2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  <a:p>
            <a:pPr marL="291960" indent="-291960">
              <a:buClr>
                <a:srgbClr val="00b0f0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" dur="500"/>
                                        <p:tgtEl>
                                          <p:spTgt spid="4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17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00b0f0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Rockwell"/>
              </a:rPr>
              <a:t>Given tan 50˚ ≈ 1.192, find three other values of x with tan x ≈ 1.192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  <a:p>
            <a:pPr marL="291960" indent="-291960">
              <a:buClr>
                <a:srgbClr val="00b0f0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Rockwell"/>
              </a:rPr>
              <a:t>Since tan repeats every 180˚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Rockwell"/>
              </a:rPr>
              <a:t>	</a:t>
            </a:r>
            <a:r>
              <a:rPr b="0" lang="en-US" sz="3200" spc="-1" strike="noStrike">
                <a:solidFill>
                  <a:srgbClr val="00ffff"/>
                </a:solidFill>
                <a:latin typeface="Rockwell"/>
              </a:rPr>
              <a:t>	</a:t>
            </a:r>
            <a:r>
              <a:rPr b="0" lang="en-US" sz="3200" spc="-1" strike="noStrike">
                <a:solidFill>
                  <a:srgbClr val="00ffff"/>
                </a:solidFill>
                <a:latin typeface="Rockwell"/>
              </a:rPr>
              <a:t>	</a:t>
            </a:r>
            <a:r>
              <a:rPr b="0" lang="en-US" sz="3200" spc="-1" strike="noStrike">
                <a:solidFill>
                  <a:srgbClr val="00ffff"/>
                </a:solidFill>
                <a:latin typeface="Rockwell"/>
              </a:rPr>
              <a:t>x = 230˚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Rockwell"/>
              </a:rPr>
              <a:t>	</a:t>
            </a:r>
            <a:r>
              <a:rPr b="0" lang="en-US" sz="3200" spc="-1" strike="noStrike">
                <a:solidFill>
                  <a:srgbClr val="00ffff"/>
                </a:solidFill>
                <a:latin typeface="Rockwell"/>
              </a:rPr>
              <a:t>	</a:t>
            </a:r>
            <a:r>
              <a:rPr b="0" lang="en-US" sz="3200" spc="-1" strike="noStrike">
                <a:solidFill>
                  <a:srgbClr val="00ffff"/>
                </a:solidFill>
                <a:latin typeface="Rockwell"/>
              </a:rPr>
              <a:t>	</a:t>
            </a:r>
            <a:r>
              <a:rPr b="0" lang="en-US" sz="3200" spc="-1" strike="noStrike">
                <a:solidFill>
                  <a:srgbClr val="00ffff"/>
                </a:solidFill>
                <a:latin typeface="Rockwell"/>
              </a:rPr>
              <a:t>x = 410˚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Rockwell"/>
              </a:rPr>
              <a:t>	</a:t>
            </a:r>
            <a:r>
              <a:rPr b="0" lang="en-US" sz="3200" spc="-1" strike="noStrike">
                <a:solidFill>
                  <a:srgbClr val="00ffff"/>
                </a:solidFill>
                <a:latin typeface="Rockwell"/>
              </a:rPr>
              <a:t>	</a:t>
            </a:r>
            <a:r>
              <a:rPr b="0" lang="en-US" sz="3200" spc="-1" strike="noStrike">
                <a:solidFill>
                  <a:srgbClr val="00ffff"/>
                </a:solidFill>
                <a:latin typeface="Rockwell"/>
              </a:rPr>
              <a:t>	</a:t>
            </a:r>
            <a:r>
              <a:rPr b="0" lang="en-US" sz="3200" spc="-1" strike="noStrike">
                <a:solidFill>
                  <a:srgbClr val="00ffff"/>
                </a:solidFill>
                <a:latin typeface="Rockwell"/>
              </a:rPr>
              <a:t>x = -130˚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4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4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4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4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4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4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4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4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4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4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4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4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4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4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4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4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19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ccff"/>
                </a:solidFill>
                <a:latin typeface="Rockwell"/>
              </a:rPr>
              <a:t>Page 269 – 270</a:t>
            </a:r>
            <a:endParaRPr b="0" lang="en-US" sz="8000" spc="-1" strike="noStrike">
              <a:solidFill>
                <a:srgbClr val="ffccff"/>
              </a:solidFill>
              <a:latin typeface="Rockwell"/>
            </a:endParaRPr>
          </a:p>
          <a:p>
            <a:pPr marL="291960" indent="-291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ccff"/>
                </a:solidFill>
                <a:latin typeface="Rockwell"/>
              </a:rPr>
              <a:t>1 – 16</a:t>
            </a:r>
            <a:endParaRPr b="0" lang="en-US" sz="8000" spc="-1" strike="noStrike">
              <a:solidFill>
                <a:srgbClr val="ffccff"/>
              </a:solidFill>
              <a:latin typeface="Rockwell"/>
            </a:endParaRPr>
          </a:p>
          <a:p>
            <a:pPr marL="291960" indent="-291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ccff"/>
                </a:solidFill>
                <a:latin typeface="Rockwell"/>
              </a:rPr>
              <a:t>Skip 3 and 7b.</a:t>
            </a:r>
            <a:endParaRPr b="0" lang="en-US" sz="8000" spc="-1" strike="noStrike">
              <a:solidFill>
                <a:srgbClr val="ffcc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4T22:01:42Z</dcterms:created>
  <dc:creator>teacher</dc:creator>
  <dc:description/>
  <dc:language>en-US</dc:language>
  <cp:lastModifiedBy>Laura Helbing</cp:lastModifiedBy>
  <dcterms:modified xsi:type="dcterms:W3CDTF">2012-11-19T15:00:22Z</dcterms:modified>
  <cp:revision>4</cp:revision>
  <dc:subject/>
  <dc:title>Sine, Cosine, and Tangent Functions</dc:title>
</cp:coreProperties>
</file>