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836-C252-426E-97C9-00584DAB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681-FE8F-46C9-8143-C61AE78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D33-558F-40C0-A877-410377C6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524-C37E-47D1-BCD2-D178AB38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9D8-C873-4B07-8CDC-C409ACE9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3B7D-0086-4967-A2EC-313E09C9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8DBD-7A11-46B3-86A6-3FC14DF0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DA90-103D-4E2F-A1F9-1667696E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6FE3-22EB-413F-93E8-79505E6D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25E0-78BC-40FF-BF57-F3A493B5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C793-46DB-42DA-933E-6DBE73D4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148-4E36-4C7B-B6BE-1D86F26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4E5F-9361-4645-84C7-6CBFB17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4715-F48B-46E0-A10E-8ACF4B82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4C24-739B-4EB2-97F5-C70D3D07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732C-CA86-4802-B946-DEFBF61D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00C2-68E2-45C2-B2CB-03BCA5B1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C828B-8806-4C45-AE15-9551AADB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E554-313D-47AC-B085-3041749D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B093-E483-41C2-8E16-87626D12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31E9-C2D8-4F70-9F54-B86DA212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B498-CB9E-4C3E-96CC-77F5636E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83C-D781-4221-AA52-585578C6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E326B-6627-47E2-B54A-0E639437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0372-CBEE-4B51-B386-A047388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8EDC-EB3E-4F0E-AE9E-6685083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17D66-12CD-4524-A7D6-5BB7FB4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720B-07F7-486E-BD86-6E6026AF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7D4EF-6CCF-4623-A80D-7202B8B8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4706-C7F3-4987-9C09-EDC4EAB5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E756-7898-45C5-A2A1-F3DEC409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BF5D-6812-4189-8F44-1BB7C931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E48B7-0B19-4626-8C60-018AF01D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A35-17A7-412F-9CAE-BB10874A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AE96D-8676-43A3-A782-6E058FFB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3C01E-5D28-4EFB-9568-96593AC7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9D81-1708-45D4-946A-F5A8FA6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B5F3-3DF3-47B8-9C14-A374197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E5A0C-A330-489D-9596-048A17A5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FA2AE-55DB-423C-97F0-109B1F9F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CD038-867B-4502-859E-505F8736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5E2AF-1BA0-4923-A97B-929D977C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7165-B959-4512-8331-BD9B5CAA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5C6A3-56FA-4FDF-8787-AE70628D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85BC-2E14-4852-8EE7-67E9A471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AB6F8-C1A1-4D4C-B7D7-76D5EDE7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A2E0E-58AE-44D3-BF31-30ADDAC5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9C59-E91D-43AE-9C79-4FABE24F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25DB6-A730-4DB0-9382-DE2D03B5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C9D7B-3C43-4833-BC83-B695F56A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B9630-DECB-48AD-93A0-3CB1DDE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58128-8D2A-415C-A4E7-D92DCFC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5776-C7E4-42D4-A169-9683C911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B1608-D7C5-4E24-9DC3-F21C6953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D5E24-3EB5-4C06-BDCC-85C6C6A4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044B-B268-47A8-8628-8019DE68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F1FA0-C4B4-4537-9E15-C6E97C40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B0C4C-903F-4E8A-8DD9-85453D3A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2C55D-D63C-4E5A-87A5-55C1611A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3006E-6599-4731-918F-CC6F767F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103F3-2A9A-4A0F-9B37-D99DB1FD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B9D2-0B56-427D-B21D-B480FA1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9D12D-6B15-4BDB-B23F-64EFB434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AC0C3-2325-4C42-9191-5396B746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3712-083D-4E8E-9352-FD2B205C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707BE-F795-41DE-BEDF-2D62524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A6F-6D5C-47EB-8FFB-A28F313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034E9-7D7A-492E-82BB-1D2EAF0A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B8271-ADEC-4FE0-A061-8583E884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E027C-B131-4FB8-B716-BD032DF5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24554-CFF3-4FDC-8FA3-1A1B4DBF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487B-27E3-4B4A-9C1B-C2CD1728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18C6E-DA61-4056-8958-2413D6E5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C6F87-3E58-4124-8418-9C080BF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1760B-0109-4D71-BA0A-E3C3D3A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CE8F4-A42F-4B8D-9424-274C1C33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EB802-6939-4536-AFD3-F7BE362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60B-AE9D-4BF2-B753-693B367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80D52-B2F0-4817-8719-4DD8F85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12EEA-7ABA-4FB2-8B8A-8DE0A58D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5EA2E-4292-4E63-B1EB-D83118E1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00E10-1121-438A-AEB3-E36B2CF7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F50B0-F8F8-4DF4-8FCA-809EA04B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52CF6-0509-404E-B4A0-DC1D202E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0DC15-9F4D-4581-AB4A-672A96B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3006-3B85-4EE6-8EBC-996CFB55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B4D80-B809-4BAB-A729-5D1A66D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8719-37A3-4424-BFAB-394B123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933-49F6-404F-9443-F3157F09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49FF3-7E1F-44A7-A569-621E02A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EC662-2E3C-4729-8DAC-129AE1DA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1D023-DF83-45C1-855E-8092D2C0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A32D6-0C4A-4FEB-AD63-CD35A1D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9D980-0707-48C3-A92E-CBAB5A72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EF6B5-49E9-4DB4-B8F1-E616D3CD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02F6-91C7-4E02-B6DA-031CDA71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2DDA-D3EC-463A-97DB-7E5A907CE7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9A0D-89E0-4B22-AB85-373BC77DB4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5672-54CD-4D9E-9974-0283B85B36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B1D6-E44B-44E9-A9D8-DEFBF327F5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BC7B-EB89-44DB-A575-F3EE0CDB49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59E1-9F5C-4E27-A815-B01B26B759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9B83-1DB2-4183-AAE5-71C7298BE2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5A58-60D5-4F84-81A7-5647F13676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1993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Lesson 4.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882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posites Theorem,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(flip over x-axis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 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 (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 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,   flip over 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ta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s Theor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2 -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262080"/>
            <a:ext cx="8467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measured in radia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cos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-si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n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tan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1/3  , find cos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+ 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1/3)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+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= 8/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4"/>
          <p:cNvGraphicFramePr/>
          <p:nvPr/>
        </p:nvGraphicFramePr>
        <p:xfrm>
          <a:off x="990720" y="5105520"/>
          <a:ext cx="4757760" cy="112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5105520"/>
                    <a:ext cx="4757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in x = .681, find sin(-x) and 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-x) = -sin(x) = -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x) = sin x = .68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ing the unit circle, explain wh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n (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 = sin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all 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Line 10"/>
          <p:cNvSpPr/>
          <p:nvPr/>
        </p:nvSpPr>
        <p:spPr>
          <a:xfrm>
            <a:off x="4495680" y="297180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>
            <a:off x="2590920" y="487692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2"/>
          <p:cNvSpPr/>
          <p:nvPr/>
        </p:nvSpPr>
        <p:spPr>
          <a:xfrm>
            <a:off x="3505320" y="3962520"/>
            <a:ext cx="190476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7"/>
          <p:cNvCxnSpPr/>
          <p:nvPr/>
        </p:nvCxnSpPr>
        <p:spPr>
          <a:xfrm flipH="1" flipV="1">
            <a:off x="2894760" y="4037760"/>
            <a:ext cx="160092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0" name="Straight Arrow Connector 9"/>
          <p:cNvCxnSpPr/>
          <p:nvPr/>
        </p:nvCxnSpPr>
        <p:spPr>
          <a:xfrm flipV="1">
            <a:off x="4495320" y="4037760"/>
            <a:ext cx="1677240" cy="839160"/>
          </a:xfrm>
          <a:prstGeom prst="straightConnector1">
            <a:avLst/>
          </a:prstGeom>
          <a:ln w="5724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 flipH="1">
            <a:off x="2666520" y="4876920"/>
            <a:ext cx="182952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392" name="TextBox 16"/>
          <p:cNvSpPr/>
          <p:nvPr/>
        </p:nvSpPr>
        <p:spPr>
          <a:xfrm>
            <a:off x="2214360" y="3809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6175800" y="3809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8"/>
          <p:cNvSpPr/>
          <p:nvPr/>
        </p:nvSpPr>
        <p:spPr>
          <a:xfrm>
            <a:off x="2062080" y="5105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9"/>
          <p:cNvSpPr/>
          <p:nvPr/>
        </p:nvSpPr>
        <p:spPr>
          <a:xfrm>
            <a:off x="6252120" y="5105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Straight Arrow Connector 20"/>
          <p:cNvCxnSpPr/>
          <p:nvPr/>
        </p:nvCxnSpPr>
        <p:spPr>
          <a:xfrm>
            <a:off x="4495320" y="4876920"/>
            <a:ext cx="1677240" cy="30528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Pages 255 – 256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2 – 20 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ucida Sans Unicode"/>
              </a:rPr>
              <a:t>(omit 3, 8, 11, 16)</a:t>
            </a:r>
            <a:endParaRPr b="0" lang="en-US" sz="7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2:16:07Z</dcterms:created>
  <dc:creator>teacher</dc:creator>
  <dc:description/>
  <dc:language>en-US</dc:language>
  <cp:lastModifiedBy>teacher</cp:lastModifiedBy>
  <dcterms:modified xsi:type="dcterms:W3CDTF">2010-11-11T20:03:33Z</dcterms:modified>
  <cp:revision>3</cp:revision>
  <dc:subject/>
  <dc:title>Basic Identities Involving Sines, Cosines, and Tangents</dc:title>
</cp:coreProperties>
</file>