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728-90FD-48D4-A9B2-CA1BC31E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955-6FA7-4248-9ED4-F9E15877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BDE-BB4E-4DDC-9761-5DE528DA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DBD-E22B-4DA5-A5FE-6ADC1CD5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0947-7682-4797-A718-BCEF78AB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8649-20E3-4389-90D5-5201C500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8C9C-89C5-4B9A-8453-40066223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8377-39C1-4658-9990-09AAC9CC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FD18-7DCD-4FF9-8BEA-C32C4A88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DF66-8D1A-479B-B4A6-41711C0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4F01-351C-4B1F-AE9E-6F925BE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FE1-EA4A-407F-84DD-2DF43080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5E21-DCB6-4409-9837-749EAECD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2A89-EAB1-49EB-86FD-2D51F5C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27C7-2D69-4ADC-BEA0-182B6BA7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0CB9-4698-41A6-93E1-71E0D064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02AE-6E97-41D1-9E5C-5B7D52D3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4832-DF87-491C-9AA4-41241CB8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7757-B74B-40FF-826E-0EE283F4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19C8-9EC7-48EC-9202-C11450B9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8725-F331-4ED3-A68C-9D740086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1F184-1A9B-492E-B4FD-E16D1F63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FED-C94F-4372-A807-BD40589B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BF96E-E3C4-44C6-9201-AF1C4C14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17D0-B6C5-476A-BAA7-038879DA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371BC-47AC-4734-AF55-835BA9A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A411-D7EE-4794-BD96-62D5E378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8154-BC73-4A89-BC2A-57DA988C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E21C-5057-44B3-B88B-BD598BAF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6C14-5C49-4817-B229-2066256F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D2CB-1A39-4481-8443-9C1B2A51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8D95C-CF18-4EC9-825D-7F1808D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805C-A3B8-47E3-A3E1-B85FA1A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74B-2F8A-4045-92FA-C4DF3642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D49B-33A7-4DD9-B430-79FFF900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9AC3-CACD-4547-8714-C2E87380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493A6-1B0F-4BE1-AFF2-1985D15D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32B10-9F2C-4D4E-BD20-98A1C1A4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EC2F-AF01-46D1-A583-510ADD1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E38C-AE7D-44EE-A7E7-0CF05AAF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49D0-6C68-4631-809F-07F73F5B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20024-52D7-4268-854F-93069AF4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2299-7101-4707-8AA7-4330A966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3650C-D50F-4075-8342-3FA99BA0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E29-F09B-429A-A047-B6AFD737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C5CB-E5A6-48FB-B66D-598722C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ED00-4575-4C09-B448-0DCFA0CC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CF21C-6D3C-40D4-88B5-732E1EE2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658B-3A05-4E04-A057-D7B60040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5E182-4322-4E3A-AF09-E8DD2719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8E349-CE2A-44C2-8B20-931969E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E6CC-968F-4FC6-8E93-3C694385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B7B0-31F0-4293-8FE6-750B04BF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CA650-6B9D-4C1A-B3DE-0278D7CA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6DA0-26D9-4E74-86F9-545AFB72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B18-AE8C-49C4-B566-BFA092FA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DEAE-38B4-43C4-AF4C-E90B8856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70FE4-30E4-479E-AE63-43BAE004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7DDA-8813-47E2-8CD2-047E4FE7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C1C85-A1A9-4E50-9B84-A83CBD86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6B5F1-7336-4642-ACFB-8B584FC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5F5F-CEEC-46E5-9DE9-5D4095D6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97111-664D-4603-9CCE-0B1FEB25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DA46E-C153-4CB0-B58C-F06D55EB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B3C1C-F4CE-454D-9B8C-1E701CF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83320-D932-422D-AD34-C190F41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A36-6A10-4E0F-9FB4-A8E9A7D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34E0-F895-4126-A65B-D939B3FC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A5381-AF7D-45F7-9544-71209A55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54AB3-49A4-46DB-8E1E-E65C5255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5A395-5322-4613-94AA-15C04D2C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30AF3-E5EC-4747-B114-0005E863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278E-40C8-405B-A190-7951D7C7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4D5EA-F3AB-4D29-ADD4-361BAB4A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C0672-A71C-4A88-B97B-91CE29B8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6727-3E2B-4B66-BCDE-5CABC061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CA1A-4A5C-4F7D-ADD6-6AC34E67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E81-756C-4F02-8520-9173B1EA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1AE23-03FC-49A3-A7A0-702754B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DF2C-3D57-40D2-8009-5687DDEE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A7E66-C62D-4A97-9571-771C93EC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89792-446C-4A9A-9FAF-2E53BC0A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4D98C-87A4-4B48-B5DC-354949C7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D3F8D-25B7-4FE2-BA5A-CFAF38AD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385E6-7BC6-4BB0-8C10-D4E44F4F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747B4-5292-4561-A792-B2E0805E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4FC72-9740-4F97-8B52-548EB845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DFA36-0B34-46A3-A6A6-34B4859D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A65-17CD-4E5A-B5F8-599B6396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AFF1D-D6FD-425F-97C8-D97EBADA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4ADC6-3165-4313-9F16-76BD7F41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3F5C7-5B39-4AA2-ADAD-C45C8370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3FB9F-19C4-4FCF-8D29-B7CF4D7B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832AC-6CA7-42DE-B5B8-1A226927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E6783-BE6F-4594-B0CD-4CD5698E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2763-F892-4839-A1A6-FE33B80D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F7DC-E5B2-4136-8653-CB2D4C61DF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3A83-EA52-4032-8E87-034F703DFA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60F1-C371-4867-936A-8E2A3BD5CF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8814-63F4-4D5A-A91A-0CC2DCC4E3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2FEC-D2D4-4405-B3BB-309795FA9E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59E-1878-4A6D-8983-A9DB007C15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52CB-17DC-4ED3-951B-3D64253938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D397-5612-45F6-9572-C3779EC1E2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1993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882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posites Theorem,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(flip over x-axi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 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,   flip over 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ta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ments Theor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8467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ta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1/3  , find cos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/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8/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4"/>
          <p:cNvGraphicFramePr/>
          <p:nvPr/>
        </p:nvGraphicFramePr>
        <p:xfrm>
          <a:off x="990720" y="5105520"/>
          <a:ext cx="4757760" cy="11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5105520"/>
                    <a:ext cx="4757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x = .681, find sin(-x) and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x) = -sin(x) = -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 = sin x = 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unit circle, explain wh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Line 10"/>
          <p:cNvSpPr/>
          <p:nvPr/>
        </p:nvSpPr>
        <p:spPr>
          <a:xfrm>
            <a:off x="4495680" y="29718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2590920" y="48769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3505320" y="3962520"/>
            <a:ext cx="190476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7"/>
          <p:cNvCxnSpPr/>
          <p:nvPr/>
        </p:nvCxnSpPr>
        <p:spPr>
          <a:xfrm flipH="1" flipV="1">
            <a:off x="2894760" y="4037760"/>
            <a:ext cx="160092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0" name="Straight Arrow Connector 9"/>
          <p:cNvCxnSpPr/>
          <p:nvPr/>
        </p:nvCxnSpPr>
        <p:spPr>
          <a:xfrm flipV="1">
            <a:off x="4495320" y="4037760"/>
            <a:ext cx="167724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 flipH="1">
            <a:off x="2666520" y="4876920"/>
            <a:ext cx="182952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392" name="TextBox 16"/>
          <p:cNvSpPr/>
          <p:nvPr/>
        </p:nvSpPr>
        <p:spPr>
          <a:xfrm>
            <a:off x="2214360" y="3809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6175800" y="38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"/>
          <p:cNvSpPr/>
          <p:nvPr/>
        </p:nvSpPr>
        <p:spPr>
          <a:xfrm>
            <a:off x="2062080" y="5105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9"/>
          <p:cNvSpPr/>
          <p:nvPr/>
        </p:nvSpPr>
        <p:spPr>
          <a:xfrm>
            <a:off x="6252120" y="5105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20"/>
          <p:cNvCxnSpPr/>
          <p:nvPr/>
        </p:nvCxnSpPr>
        <p:spPr>
          <a:xfrm>
            <a:off x="4495320" y="4876920"/>
            <a:ext cx="167724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Pages 255 – 256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2 – 20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(omit 3, 8, 11, 16)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2:16:07Z</dcterms:created>
  <dc:creator>teacher</dc:creator>
  <dc:description/>
  <dc:language>en-US</dc:language>
  <cp:lastModifiedBy>teacher</cp:lastModifiedBy>
  <dcterms:modified xsi:type="dcterms:W3CDTF">2010-11-11T20:03:33Z</dcterms:modified>
  <cp:revision>3</cp:revision>
  <dc:subject/>
  <dc:title>Basic Identities Involving Sines, Cosines, and Tangents</dc:title>
</cp:coreProperties>
</file>